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</p:sldIdLst>
  <p:sldSz cx="9144000" cy="5145088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9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399600" y="692280"/>
            <a:ext cx="61470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10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11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AB1FD-B5BD-4164-9566-3F9DA5903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914A75-6C34-45BE-BF16-2A54337F2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009DB-B063-4066-A80C-BA7969B68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2C431-64AF-4BF8-87DB-F1C59677A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D5DF65-8BAA-4CB3-B548-164F395FF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03FC6E-041C-48DA-92FB-829475575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B668E-FAD9-42EA-BA19-6177F1105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9D338-91A8-4FFD-AFD3-7BF7E2C40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F2F52-50F6-41AA-8894-C21A7182A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FF0F9C-76CD-4ED9-B50B-3DA22E8D8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86EFE-27BA-4427-8AA7-7C932F7CF5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5C3787-160C-4B3B-8BCC-4F513A9D2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6BC99-EDF6-498A-A65B-9F628EDC3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E76DA-7550-4E6C-96FF-C03024E14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3E2312-91DA-4900-B1D2-718EE39CB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548827-21FD-424F-921E-584A96EEF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2B67A-EAA0-4D6A-9435-D71399856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1D1FCF-AF63-41D5-B357-FDBAAB721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B6316-5B01-433A-AE1B-50A4A00CA6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B93837-0D78-4426-B29B-C3AD1B53BE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19CE0-46EA-44C0-BBC4-0B3B16DC4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174B59-019C-42F6-AA7A-1A1A572003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B8398-4E5F-4A1A-B2C9-E331AB19E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CEDC0-D1A0-44D9-AE10-610BD92B2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8F1B5-89C4-470F-8511-88DC7A46C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3C0DD2-2F4D-45DE-944E-688197EB8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2F428-DFA1-4A6D-B721-2DB4905E6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CFBE9-C972-4E6A-BBFB-60DB59EF4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FEB20C-9732-41BB-89FB-E8D44AA6C0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77E43-F076-47F7-83DB-67FEF6BBF5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D5018F-5F9A-41E0-8184-33ED1DE24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3FF15-51B7-40E5-AC81-478DCFD60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DF49D-C9CA-41B7-8ED0-7A8B808E1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3E2D26-82F2-480F-B31D-EA2233F00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0515AF-9136-444C-8AD1-D19801257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F0A46-6E8A-4587-872D-01B5F44A3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ACFEC6-AE7A-46A8-A392-DC1DF89C0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01651-5115-4F16-B2C1-C1A406816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D330C-E977-4D6D-A966-9D301CB38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F025D-1B56-4BF4-AC56-11566AF07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E79AE-8376-42FE-9F33-D91A16BEF7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ABD5B-1FFA-49F7-A077-0078ACD8A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BB84A-ED4D-408A-8465-26EADB796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46980-9BBA-45C7-AD84-4F12EFEBC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3E3910-92E7-4FAC-8F08-95B4AC08E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DF821-BC5C-4D39-B194-6A7447CFD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476EB0-1B8C-42E8-9F85-18408DE73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540DBB-FE73-4616-84EC-53CE89C46C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9E12A2-84DA-4856-81C3-48781586C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E5FA-2536-449A-A7CB-6344EFFBF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6461-5299-420F-966B-DB999F86C5A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2CE0-3603-480B-8665-7DA0A5498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B559-CE43-4E60-BB52-5329B3439BC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EEE7A-F88B-4F27-A58C-0492CF545A5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1CB1-A259-4B5F-9522-35CB6899CA9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BEAC1-A457-4BD9-A40A-4ECDEB6A5A5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13EB-D69A-4FB2-9FF2-8ADE908DD87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F81D-5427-4BE2-8827-71BF4F79059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56C8-1F74-4500-A374-CC77EE19C49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1EE6-5E06-4736-9CF1-41EC0C25D9C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A187-79A7-4715-A08F-849DBE9047F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763E-DEA8-42A3-B902-CB12875A8E7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B1AC-758A-404A-847D-7F38BBC48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3DE7-58EF-4DD5-B3BE-CDB02196EA1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ABDD-7BE0-4866-BCC2-F0C98562933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AB7CD-AF22-45A7-B90C-27E4DCC1414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F1166C-B36B-49B8-9C94-5EBCF8B59A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D1CE22-F911-4C1E-9482-1FBBC9BA83F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D5CDA-38F8-4D7E-869F-76526C6C911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1833AC-8F62-4F44-93DC-4C80EF8CFE8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68AC4C-2513-4A47-8A84-1B02C30086E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97C41A-3967-4779-90A3-AF0BE266F35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CC74A-0608-4860-9E18-474CE7E188B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815C32-BE43-40A5-B826-E3EE4631E7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9F80-BDEA-46B2-B2B7-758C13DE5E3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094C8F-2E02-4C97-85FF-5768FBF1355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40B80B-5FB4-4356-A448-0E7BCF43CD8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7D3D64-0A57-4915-B597-2F73C003F86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85500-9995-4C50-BD6E-875D7E61A5B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053A71-B37E-4C5F-8CD0-8CBE61D72B8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D19FDF-35CC-4D83-A10C-38FDA0596A3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AAC4F-30A4-4C87-8752-57219B13940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47A9E-5943-4CB1-A3D1-D8DBF6A432A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C4A70-F01D-4831-BB4C-373F3A99DD8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754F4-40EC-41A1-9AC4-FDA57F0659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8EF72-8AB5-47AB-B003-3B1AA4AEBA9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C02054-5CD0-441D-8BC1-D507FA51D32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2EF13-9A9F-4835-98A4-E523DA6548A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BE2CD-91DA-49BC-AF98-E0C0F70B63B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8CD5A-E0FA-4D13-8AB9-89B8AF87016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4756A-15D0-453B-AEF5-F532175FF9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761C-DD2D-4E97-A5DA-AD64AD543A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8A2B-7587-4A35-B206-6971789603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B8EF9-99FC-43FA-A6C7-36F6FF2FB0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29E3-606C-42E5-A3ED-CDEFE48FFC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E826F-ECDE-44AB-9770-82DB0A7B47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5E97-4F9F-4CDA-8822-8A51D0974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4D5F-37FF-40A3-B675-1A67CE83D5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E186-016C-4BF9-B481-13D956DF53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1D073-5D09-46CC-8B2D-9219155C8D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DD01-DE37-4976-BE6B-5DFBB6262F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CACC6-E8B1-4254-9ECB-4957E9C8C7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B409-6B3F-49E4-B356-C5462174B5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0792-D430-45E8-B3EA-223AF158C4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424-4463-4D04-BC78-D0BD948F0A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07F5-41E9-409A-9691-329D603A974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3F2-3035-476A-91FF-1C43936CC41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73D-65CF-47D7-83F5-1A4311A473B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F92-BFE0-4DB6-B72A-42271FA96A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86B-1153-4E94-8A61-2C0CA6C9947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9AA-ED18-429D-A73D-C7D5A5A0FF2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8A3-5CCF-4424-B122-6C72165E10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1721-09D8-4BAA-BBEF-B116F270949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9E7-D8F0-4085-A258-FC84667D7B8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345-E8AC-44B4-9F9D-E464829BBBC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FA9-70C9-470B-A0D0-78DDF9DE3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DACD8-D1AA-4282-B23B-D5FA393416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608-0CF6-404F-A8F1-906B6B7512C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F4E75D-004E-4383-92C7-26949C69F20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6355F-6BB6-4D1A-853A-7E663BF67E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AE3CA-0B82-4467-B10B-6F1ACEDE9AA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02437-75BD-4FD3-AAFA-C2CAFB0266B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76E58-43FF-4BAC-B6F4-A26A72A5DBD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04D76-33E7-4285-88F9-A80664DBD9D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3D5E0-A633-4135-923E-0EB782F3F9E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32512-4402-4785-B3EB-D10E5048B3F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C2BA1-345C-4D99-9AA0-BD03D5F56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8A2E-2740-4252-9AFC-5EE66368A8F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21834-F8F9-4E8C-A269-1B9CE22ACE7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C76CF-9EF2-4479-8645-8F843492166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5204B-33DA-488F-A936-32B6F9BA283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BF891-38E6-492A-99C8-EFFB8DC0469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C81B7-DBC5-40A4-9A08-66536E6BA6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3BEC2-D922-43DF-B249-93C9CC5C7CE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21357-C869-4803-8330-DFDA7CADD83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25ADD-4273-49A6-8D4E-C51A3967A9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6AE68-0B98-4F04-9936-F29D6A09B2E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3783C-4562-4E0A-B3BF-AFB5ECD85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D0E3-0DEB-484B-BFE8-21881C4720B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C841A-EE77-47B1-ACF9-5BA75A23006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2DED1-04AC-4925-BD75-DA583719622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934BA5-DC50-49CE-854D-15BBB7D084D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9023A-2316-4CA1-95D5-755C59C026B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970A1-72B6-4072-BE91-E254FE1DEAE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29C6-03D1-4C26-8A52-482C63D5A29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E40CC8-6AFC-4DB1-9940-74D30A9898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4645080" y="4659480"/>
            <a:ext cx="4422600" cy="4842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sldNum" idx="6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3C336-CF5A-4186-A8B3-D12127B484E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6" descr=""/>
          <p:cNvPicPr/>
          <p:nvPr/>
        </p:nvPicPr>
        <p:blipFill>
          <a:blip r:embed="rId2"/>
          <a:stretch/>
        </p:blipFill>
        <p:spPr>
          <a:xfrm>
            <a:off x="4645080" y="4659480"/>
            <a:ext cx="4422600" cy="4842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sldNum" idx="7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55359B-8F05-4953-9BC2-65997089960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2"/>
          <a:stretch/>
        </p:blipFill>
        <p:spPr>
          <a:xfrm>
            <a:off x="4645080" y="4665600"/>
            <a:ext cx="4422600" cy="48600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sldNum" idx="8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4173D-F434-4BA3-8465-28D053827C7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Num" idx="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7C9F35-51F7-4424-A9E9-34B4DBD893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sldNum" idx="3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FE1AA5-BDB0-48AB-BF28-F950F723408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ldNum" idx="4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950C9-65D3-4571-800B-FBA5B5687B5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sldNum" idx="5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781E9-2345-40AE-AB6C-46893C3C476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3" descr=""/>
          <p:cNvPicPr/>
          <p:nvPr/>
        </p:nvPicPr>
        <p:blipFill>
          <a:blip r:embed="rId2"/>
          <a:stretch/>
        </p:blipFill>
        <p:spPr>
          <a:xfrm>
            <a:off x="228600" y="4286160"/>
            <a:ext cx="6137280" cy="6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76320" y="255600"/>
            <a:ext cx="613728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.uscis.gov/" TargetMode="External"/><Relationship Id="rId2" Type="http://schemas.openxmlformats.org/officeDocument/2006/relationships/hyperlink" Target="http://www.ice.gov/" TargetMode="External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mailto:Rene.Tiongquico@ed.gov" TargetMode="External"/><Relationship Id="rId2" Type="http://schemas.openxmlformats.org/officeDocument/2006/relationships/hyperlink" Target="mailto:Aaron.Washington@ed.gov" TargetMode="External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6840" y="2857680"/>
            <a:ext cx="84582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Rene Tiongquico and Aaron Washington | Nov-Dec. 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.S. Department of 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2016 FSA Training Conference for Financial Aid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32920" y="1200240"/>
            <a:ext cx="86108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  <a:ea typeface="Arial"/>
              </a:rPr>
              <a:t>Resolving Citizen and Eligible Noncitizen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itle 3"/>
          <p:cNvSpPr/>
          <p:nvPr/>
        </p:nvSpPr>
        <p:spPr>
          <a:xfrm>
            <a:off x="152280" y="228600"/>
            <a:ext cx="335304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Arial"/>
              </a:rPr>
              <a:t>Session 24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Filling out the FAF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2244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Q14: Are you a U.S. citizen? Mark only 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Yes I am a U.S. citizen (U.S. national)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, but I am an eligible noncitizen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o, I am not a citizen or eligible noncitizen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Q15: Alien Registration Nu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_ _ _ _ _ _ _ _ 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4479B-C198-4D32-B763-E13183985F7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1" name="Picture 1" descr=""/>
          <p:cNvPicPr/>
          <p:nvPr/>
        </p:nvPicPr>
        <p:blipFill>
          <a:blip r:embed="rId1"/>
          <a:srcRect l="4920" t="42921" r="2540" b="24319"/>
          <a:stretch/>
        </p:blipFill>
        <p:spPr>
          <a:xfrm>
            <a:off x="1898640" y="3589200"/>
            <a:ext cx="53467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838080" y="844200"/>
            <a:ext cx="746784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U.S. Citizens or Nation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A71EB-7F65-4842-A992-E5E9AC6772F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Picture 2" descr="http://ajvimmigrationlaw.com/wp-content/uploads/2012/03/us_citizenship_img.jpg"/>
          <p:cNvPicPr/>
          <p:nvPr/>
        </p:nvPicPr>
        <p:blipFill>
          <a:blip r:embed="rId1"/>
          <a:stretch/>
        </p:blipFill>
        <p:spPr>
          <a:xfrm>
            <a:off x="2905200" y="1981080"/>
            <a:ext cx="33336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U.S. Citizens or Nat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51920" y="914040"/>
            <a:ext cx="886140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ll U.S. citizens are U.S. nationals, but not all nationals are citiz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ndividual who w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Born in the United States or its territo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arent is a U.S. citiz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itizenship through natur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ersons born in American Samoa, CNMI, Swain’s Island, United States Minor Outlying Islands (U.S. nationa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E5C9B-F6F9-40D6-9B9E-1E068FD323B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U.S. Citizens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51920" y="1143000"/>
            <a:ext cx="86108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Copy of birth certificate showing student was born in the United States or its territo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U.S. passport (book or car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Consular Report of Birth Abro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Certificate of Citize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Certificate of Natura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30A8B8-E9D7-428B-A880-B5D1BAB7D15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838080" y="844200"/>
            <a:ext cx="7467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Eligible Noncitize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AB559D-1BA1-46B9-A0DA-98FD84EDA48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3" name="Picture 9" descr="C:\Program Files (x86)\Microsoft Office\MEDIA\CAGCAT10\j0297749.wmf"/>
          <p:cNvPicPr/>
          <p:nvPr/>
        </p:nvPicPr>
        <p:blipFill>
          <a:blip r:embed="rId1"/>
          <a:stretch/>
        </p:blipFill>
        <p:spPr>
          <a:xfrm>
            <a:off x="3646440" y="1911240"/>
            <a:ext cx="18511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Categories of Eligible Noncitize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228600" y="971280"/>
            <a:ext cx="38512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Lawful permanent resi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Conditional resi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Refug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Asy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Parolees (at least 1 yea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2"/>
          <p:cNvSpPr/>
          <p:nvPr/>
        </p:nvSpPr>
        <p:spPr>
          <a:xfrm>
            <a:off x="4114800" y="1200240"/>
            <a:ext cx="4898880" cy="24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</a:rPr>
              <a:t>Cuban-Haitian Entr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</a:rPr>
              <a:t>T-vi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53535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</a:rPr>
              <a:t>Battered immigrants-qualified aliens (VAW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2CEE8-024D-46DA-A81C-07B18BA02F3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Eligible Noncitizens Docum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52280" y="1143000"/>
            <a:ext cx="87631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Varies by categ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I-94, I-797, I-551, Travel Doc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Look in </a:t>
            </a:r>
            <a:r>
              <a:rPr b="0" i="1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FSA Handbook</a:t>
            </a: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 Volume 1, Chapter 2 to determine what documents are accep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Unexpired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D9BA1-5669-4F70-AEB1-C5DA165404C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838080" y="844200"/>
            <a:ext cx="7467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SSA Citizenship Mat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8C8E5-FB25-4487-A621-F4465A2A524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4" descr="http://honda.house.gov/sites/honda.house.gov/files/wysiwyg_uploaded/SSA-logo.jpg"/>
          <p:cNvPicPr/>
          <p:nvPr/>
        </p:nvPicPr>
        <p:blipFill>
          <a:blip r:embed="rId1"/>
          <a:stretch/>
        </p:blipFill>
        <p:spPr>
          <a:xfrm>
            <a:off x="3200400" y="1539720"/>
            <a:ext cx="274320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Citizenship Match with S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228240" y="97164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535353"/>
                </a:solidFill>
                <a:uFillTx/>
                <a:latin typeface="Arial"/>
                <a:ea typeface="Arial"/>
              </a:rPr>
              <a:t>All</a:t>
            </a: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 students go through match with Social Security Administration (SSA) to verify U.S. citizenship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Match flags on C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0320" indent="-1728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Successful m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0320" indent="-1728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Data doesn’t mat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0320" indent="-1728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Citizenship not confi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1EA74-C3DC-4729-B85B-4B78A3FF49C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SSA Citizenship Match Flag on IS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1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8C38B5-4191-43A1-B209-FDA2B384FCE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rcRect l="1127" t="7671" r="1478" b="7026"/>
          <a:stretch/>
        </p:blipFill>
        <p:spPr>
          <a:xfrm>
            <a:off x="1046160" y="1123920"/>
            <a:ext cx="70516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0" name="Donut 7"/>
          <p:cNvSpPr/>
          <p:nvPr/>
        </p:nvSpPr>
        <p:spPr>
          <a:xfrm>
            <a:off x="2379600" y="2629080"/>
            <a:ext cx="1049400" cy="457200"/>
          </a:xfrm>
          <a:custGeom>
            <a:avLst/>
            <a:gdLst/>
            <a:ahLst/>
            <a:rect l="l" t="t" r="r" b="b"/>
            <a:pathLst>
              <a:path w="1049337" h="457200">
                <a:moveTo>
                  <a:pt x="0" y="228600"/>
                </a:moveTo>
                <a:cubicBezTo>
                  <a:pt x="0" y="102348"/>
                  <a:pt x="234902" y="0"/>
                  <a:pt x="524669" y="0"/>
                </a:cubicBezTo>
                <a:cubicBezTo>
                  <a:pt x="814436" y="0"/>
                  <a:pt x="1049338" y="102348"/>
                  <a:pt x="1049338" y="228600"/>
                </a:cubicBezTo>
                <a:cubicBezTo>
                  <a:pt x="1049338" y="354852"/>
                  <a:pt x="814436" y="457200"/>
                  <a:pt x="524669" y="457200"/>
                </a:cubicBezTo>
                <a:cubicBezTo>
                  <a:pt x="234902" y="457200"/>
                  <a:pt x="0" y="354852"/>
                  <a:pt x="0" y="228600"/>
                </a:cubicBezTo>
                <a:close/>
                <a:moveTo>
                  <a:pt x="22883" y="228600"/>
                </a:moveTo>
                <a:cubicBezTo>
                  <a:pt x="22883" y="342214"/>
                  <a:pt x="247540" y="434317"/>
                  <a:pt x="524669" y="434317"/>
                </a:cubicBezTo>
                <a:cubicBezTo>
                  <a:pt x="801798" y="434317"/>
                  <a:pt x="1026455" y="342214"/>
                  <a:pt x="1026455" y="228600"/>
                </a:cubicBezTo>
                <a:cubicBezTo>
                  <a:pt x="1026455" y="114986"/>
                  <a:pt x="801798" y="22883"/>
                  <a:pt x="524669" y="22883"/>
                </a:cubicBezTo>
                <a:cubicBezTo>
                  <a:pt x="247540" y="22883"/>
                  <a:pt x="22883" y="114986"/>
                  <a:pt x="22883" y="228600"/>
                </a:cubicBez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60440" y="9144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1320" indent="-2113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Legal author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1320" indent="-2113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General overvi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1320" indent="-2113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Filling out the FAF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1320" indent="-2113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U.S. citizens or nation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1320" indent="-2113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ligible noncitize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1320" indent="-2113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ocial Security Administration (SSA) and Department of Homeland Security (DHS) Match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1320" indent="-2113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G-845 paper secondary confirmation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1320" indent="-2113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ome things to reme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1320" indent="-2113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pecial c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1320" indent="-2113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FC288-6E96-450E-8F80-73D1E36468C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Student Fails SSA Citizenship Mat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51920" y="1143000"/>
            <a:ext cx="86108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 student fails SSA Citizenship Match (comment code 14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sk student for proof of U.S. citizenship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Must provide evidence of U.S. citize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not a citizen, they must make corrections to FAFSA and indicate appropriate box in Q14 and if eligible noncitizen answer Q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0DA79-D3BE-496F-A415-606ED15521B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838080" y="844560"/>
            <a:ext cx="74678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DHS Match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Primary Verification &amp; Secondary Confi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FA7D3-96AF-437E-8A70-D144A46AF11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4" descr="http://upload.wikimedia.org/wikipedia/commons/thumb/8/8a/Seal_of_the_United_States_Department_of_Homeland_Security.svg/2000px-Seal_of_the_United_States_Department_of_Homeland_Security.svg.png"/>
          <p:cNvPicPr/>
          <p:nvPr/>
        </p:nvPicPr>
        <p:blipFill>
          <a:blip r:embed="rId1"/>
          <a:stretch/>
        </p:blipFill>
        <p:spPr>
          <a:xfrm>
            <a:off x="3425760" y="2914560"/>
            <a:ext cx="22924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Citizenship Match with DH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96480" y="971640"/>
            <a:ext cx="8937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1320" indent="-2113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All noncitizens are provided with an alien registration number (A-Numb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1320" indent="-2113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Matched with both SSA and D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1320" indent="-2113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Match flags on C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72240" indent="-16056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uccessful ma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72240" indent="-16056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ecord was not sent to D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72240" indent="-16056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HS has not yet confirmed the student’s noncitizen status. DHS will continue to check its rec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BDE6B-B003-4ADC-8174-53F14058E6D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DHS Primary Ver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Primary verification ma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Y = Citizenship confi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N = Citizenship not confirm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7DB824-8EA2-4A4D-8CF6-0C029307434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DHS Secondary Confi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35353"/>
                </a:solidFill>
                <a:latin typeface="Arial"/>
                <a:ea typeface="Arial"/>
              </a:rPr>
              <a:t>Secondary confirmation match fl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 = Pending results of secondary confi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Y = Citizenship status confirmed by DH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 = DHS has not yet confirmed eligible noncitizen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N = DHS did not confirm eligible noncitizen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X =DHS did not have enough information to confirm eligible noncitizen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57BDE6-AAA9-4136-AFC0-B8E18F279BE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DHS Match Flags on IS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1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EC837-316B-4110-9954-A5750C83E47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rcRect l="1127" t="7671" r="1478" b="7026"/>
          <a:stretch/>
        </p:blipFill>
        <p:spPr>
          <a:xfrm>
            <a:off x="1046160" y="1123920"/>
            <a:ext cx="70516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9" name="Donut 7"/>
          <p:cNvSpPr/>
          <p:nvPr/>
        </p:nvSpPr>
        <p:spPr>
          <a:xfrm>
            <a:off x="4495680" y="2600280"/>
            <a:ext cx="1532160" cy="457200"/>
          </a:xfrm>
          <a:custGeom>
            <a:avLst/>
            <a:gdLst/>
            <a:ahLst/>
            <a:rect l="l" t="t" r="r" b="b"/>
            <a:pathLst>
              <a:path w="1531938" h="457200">
                <a:moveTo>
                  <a:pt x="0" y="228600"/>
                </a:moveTo>
                <a:cubicBezTo>
                  <a:pt x="0" y="102348"/>
                  <a:pt x="342936" y="0"/>
                  <a:pt x="765969" y="0"/>
                </a:cubicBezTo>
                <a:cubicBezTo>
                  <a:pt x="1189002" y="0"/>
                  <a:pt x="1531938" y="102348"/>
                  <a:pt x="1531938" y="228600"/>
                </a:cubicBezTo>
                <a:cubicBezTo>
                  <a:pt x="1531938" y="354852"/>
                  <a:pt x="1189002" y="457200"/>
                  <a:pt x="765969" y="457200"/>
                </a:cubicBezTo>
                <a:cubicBezTo>
                  <a:pt x="342936" y="457200"/>
                  <a:pt x="0" y="354852"/>
                  <a:pt x="0" y="228600"/>
                </a:cubicBezTo>
                <a:close/>
                <a:moveTo>
                  <a:pt x="32406" y="228600"/>
                </a:moveTo>
                <a:cubicBezTo>
                  <a:pt x="32406" y="336955"/>
                  <a:pt x="360833" y="424794"/>
                  <a:pt x="765969" y="424794"/>
                </a:cubicBezTo>
                <a:cubicBezTo>
                  <a:pt x="1171105" y="424794"/>
                  <a:pt x="1499532" y="336955"/>
                  <a:pt x="1499532" y="228600"/>
                </a:cubicBezTo>
                <a:cubicBezTo>
                  <a:pt x="1499532" y="120245"/>
                  <a:pt x="1171105" y="32406"/>
                  <a:pt x="765969" y="32406"/>
                </a:cubicBezTo>
                <a:cubicBezTo>
                  <a:pt x="360833" y="32406"/>
                  <a:pt x="32406" y="120245"/>
                  <a:pt x="32406" y="228600"/>
                </a:cubicBez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Donut 5"/>
          <p:cNvSpPr/>
          <p:nvPr/>
        </p:nvSpPr>
        <p:spPr>
          <a:xfrm>
            <a:off x="2725560" y="2600280"/>
            <a:ext cx="1051200" cy="457200"/>
          </a:xfrm>
          <a:custGeom>
            <a:avLst/>
            <a:gdLst/>
            <a:ahLst/>
            <a:rect l="l" t="t" r="r" b="b"/>
            <a:pathLst>
              <a:path w="1050925" h="457200">
                <a:moveTo>
                  <a:pt x="0" y="228600"/>
                </a:moveTo>
                <a:cubicBezTo>
                  <a:pt x="0" y="102348"/>
                  <a:pt x="235258" y="0"/>
                  <a:pt x="525463" y="0"/>
                </a:cubicBezTo>
                <a:cubicBezTo>
                  <a:pt x="815668" y="0"/>
                  <a:pt x="1050926" y="102348"/>
                  <a:pt x="1050926" y="228600"/>
                </a:cubicBezTo>
                <a:cubicBezTo>
                  <a:pt x="1050926" y="354852"/>
                  <a:pt x="815668" y="457200"/>
                  <a:pt x="525463" y="457200"/>
                </a:cubicBezTo>
                <a:cubicBezTo>
                  <a:pt x="235258" y="457200"/>
                  <a:pt x="0" y="354852"/>
                  <a:pt x="0" y="228600"/>
                </a:cubicBezTo>
                <a:close/>
                <a:moveTo>
                  <a:pt x="32406" y="228600"/>
                </a:moveTo>
                <a:cubicBezTo>
                  <a:pt x="32406" y="336955"/>
                  <a:pt x="253155" y="424794"/>
                  <a:pt x="525462" y="424794"/>
                </a:cubicBezTo>
                <a:cubicBezTo>
                  <a:pt x="797769" y="424794"/>
                  <a:pt x="1018518" y="336955"/>
                  <a:pt x="1018518" y="228600"/>
                </a:cubicBezTo>
                <a:cubicBezTo>
                  <a:pt x="1018518" y="120245"/>
                  <a:pt x="797769" y="32406"/>
                  <a:pt x="525462" y="32406"/>
                </a:cubicBezTo>
                <a:cubicBezTo>
                  <a:pt x="253155" y="32406"/>
                  <a:pt x="32406" y="120245"/>
                  <a:pt x="32406" y="228600"/>
                </a:cubicBez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Failed Match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35353"/>
                </a:solidFill>
                <a:latin typeface="Arial"/>
                <a:ea typeface="Arial"/>
              </a:rPr>
              <a:t>If the student fails both DHS Primary Verification and DHS Secondary Confirmation matches then proceed to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0287D-D6BF-4CD2-A15D-B813BA2E889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838080" y="844200"/>
            <a:ext cx="74678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G-845 Paper Secondary Confirmation Pro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E1C15-D0E6-4E23-B963-C482EA6CBC8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https://save.uscis.gov/casecheck/images/SAVE-Logo-all-color.gif"/>
          <p:cNvPicPr/>
          <p:nvPr/>
        </p:nvPicPr>
        <p:blipFill>
          <a:blip r:embed="rId1"/>
          <a:stretch/>
        </p:blipFill>
        <p:spPr>
          <a:xfrm>
            <a:off x="3281400" y="2214720"/>
            <a:ext cx="25812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G-845 Paper Secondary Confi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51920" y="1143000"/>
            <a:ext cx="8861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he Department provides a list of eligible noncitizens and 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If the student provides documentation for an ineligible category, do NOT initiate G-8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ill out the G-845, Part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Use the </a:t>
            </a:r>
            <a:r>
              <a:rPr b="0" i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SA Handbook 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o interpret the DHS-USCIS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3A8A5-E1FF-4A84-84E8-69877F4AFFB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35353"/>
                </a:solidFill>
                <a:latin typeface="Arial"/>
                <a:ea typeface="Arial"/>
              </a:rPr>
              <a:t>School Policies – G-845 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4280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8520" indent="-21852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School policies &amp; procedures – must be writ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65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xplanation of the documentation that the student must sub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65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eadline to submit immigration documentation (at least 30 d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65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onsequences for failing to provide documentation by dead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84120" indent="-165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tatement that school won’t decide the student’s eligibility until given an opportunity to submit immigr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chool must file G-845 form within 10 business days after receiving immigration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ecision after 15 business days from sending G-8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96CEA5-5520-4BAE-B72E-A296CEA63F7B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838080" y="2057400"/>
            <a:ext cx="74678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Legal Author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2CC16-CDB8-44AC-88FA-6866BF54B92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2" descr="https://professionalriskgroup.files.wordpress.com/2013/02/bigstock-legal-gavel-on-a-law-book-24054575.jpg"/>
          <p:cNvPicPr/>
          <p:nvPr/>
        </p:nvPicPr>
        <p:blipFill>
          <a:blip r:embed="rId1"/>
          <a:stretch/>
        </p:blipFill>
        <p:spPr>
          <a:xfrm>
            <a:off x="3200400" y="2760840"/>
            <a:ext cx="274320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Filling out the G-8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51920" y="1143000"/>
            <a:ext cx="8861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chools are required to fill out Part 1, basic information about the stu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ase Verification Number” (field #3 in G-845): The 15-digit DHS verification number is printed in the match flag section of the SAR and IS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hotocopy front and back side of student’s immigration document and attach to G-8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ll G-845 Forms must be sent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300 N. Los Angeles Street, B120 Los Angeles, CA 90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VAWA-related G-845 must be sent to Buffalo, 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7EEA3-394F-4344-A236-6BC84FB0FC8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Sample G-8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1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71012-5EC8-4248-A3E0-CB651605ADA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8" descr=""/>
          <p:cNvPicPr/>
          <p:nvPr/>
        </p:nvPicPr>
        <p:blipFill>
          <a:blip r:embed="rId1"/>
          <a:srcRect l="31827" t="15716" r="30238" b="4539"/>
          <a:stretch/>
        </p:blipFill>
        <p:spPr>
          <a:xfrm>
            <a:off x="990720" y="1211400"/>
            <a:ext cx="3200400" cy="3152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"/>
          <p:cNvPicPr/>
          <p:nvPr/>
        </p:nvPicPr>
        <p:blipFill>
          <a:blip r:embed="rId2"/>
          <a:srcRect l="31429" t="15543" r="29879" b="5565"/>
          <a:stretch/>
        </p:blipFill>
        <p:spPr>
          <a:xfrm>
            <a:off x="5029200" y="1258920"/>
            <a:ext cx="3200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Interpreting the G-845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How to interpret status verifier offices respo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art 2 of the G-8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art 3 of the G-84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No response from DHS-USCIS after 15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Questions on interpretations can be sent to U.S. Department of Education, Washington, D.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Rene Tiongquico and Aaron Washing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2474D-780E-4B6F-B4C2-DD181173BF8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Interpreting a G-84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3AB99-5F8B-4FF4-92F8-F2357F452A78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5" name="Content Placeholder 4"/>
          <p:cNvGraphicFramePr/>
          <p:nvPr/>
        </p:nvGraphicFramePr>
        <p:xfrm>
          <a:off x="5029200" y="971640"/>
          <a:ext cx="349740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971640"/>
                    <a:ext cx="349740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7" name="Picture 9" descr=""/>
          <p:cNvPicPr/>
          <p:nvPr/>
        </p:nvPicPr>
        <p:blipFill>
          <a:blip r:embed="rId3"/>
          <a:srcRect l="31429" t="15543" r="29879" b="5565"/>
          <a:stretch/>
        </p:blipFill>
        <p:spPr>
          <a:xfrm>
            <a:off x="990720" y="996840"/>
            <a:ext cx="320040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 txBox="1"/>
          <p:nvPr/>
        </p:nvSpPr>
        <p:spPr>
          <a:xfrm>
            <a:off x="838080" y="844200"/>
            <a:ext cx="7467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535353"/>
                </a:solidFill>
                <a:latin typeface="Arial"/>
                <a:ea typeface="Arial"/>
              </a:rPr>
              <a:t>Some Things to Rememb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634771-451E-4377-A50A-A52EACE0388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2" descr="C:\Program Files (x86)\Microsoft Office\MEDIA\CAGCAT10\j0293236.wmf"/>
          <p:cNvPicPr/>
          <p:nvPr/>
        </p:nvPicPr>
        <p:blipFill>
          <a:blip r:embed="rId1"/>
          <a:stretch/>
        </p:blipFill>
        <p:spPr>
          <a:xfrm>
            <a:off x="3789360" y="2847960"/>
            <a:ext cx="156528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Ineligible Stat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28240" y="971640"/>
            <a:ext cx="8915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8520" indent="-218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ersons with nonimmigrant vi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amily unity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emporary resi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llegal aliens under the legalization program (amnes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emporary protected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A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Withholding of removal 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8520" indent="-21852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U-vi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D40FE-9F59-499C-A2D6-ED673B9FEE9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1920" y="311040"/>
            <a:ext cx="88614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  <a:ea typeface="Arial"/>
              </a:rPr>
              <a:t>Documenting Immigration Status in Later Award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76320" y="971640"/>
            <a:ext cx="89373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When documentation is required for each award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tudents in certain eligible categories may have been redesign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When documentation is not required for each award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the document associated with the G-845 has not expi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3AB1A-038E-464B-BE75-B7BF9EA5A63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Keeping Copies of Docum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equired reco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nstitutions must keep copies of all documentation related to the student’s citizenship or immigration status in the student’s financial aid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953A0-3D8F-47B5-BB52-2FE39E37A056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6" descr="https://mnscoutmaster.files.wordpress.com/2011/03/paperwork.gif"/>
          <p:cNvPicPr/>
          <p:nvPr/>
        </p:nvPicPr>
        <p:blipFill>
          <a:blip r:embed="rId1"/>
          <a:stretch/>
        </p:blipFill>
        <p:spPr>
          <a:xfrm>
            <a:off x="1287360" y="281952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paperwork.gif"/>
          <p:cNvPicPr/>
          <p:nvPr/>
        </p:nvPicPr>
        <p:blipFill>
          <a:blip r:embed="rId2"/>
          <a:stretch/>
        </p:blipFill>
        <p:spPr>
          <a:xfrm>
            <a:off x="6248520" y="2789280"/>
            <a:ext cx="11620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838080" y="844200"/>
            <a:ext cx="746784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Special C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3F170-CB18-4F41-925D-497CD73E6E4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4" name="Picture 3" descr="C:\Program Files (x86)\Microsoft Office\MEDIA\CAGCAT10\j0195812.wmf"/>
          <p:cNvPicPr/>
          <p:nvPr/>
        </p:nvPicPr>
        <p:blipFill>
          <a:blip r:embed="rId1"/>
          <a:stretch/>
        </p:blipFill>
        <p:spPr>
          <a:xfrm>
            <a:off x="3686040" y="1887480"/>
            <a:ext cx="17719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Freely Associated St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304920" y="971640"/>
            <a:ext cx="85341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Federated States of Micronesia, Republic of Marshall Islands, and Pala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Eligible for limited FSA f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Pseudo-SS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or the purposes of calculating Pell Grant lifetime eligibil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Documentation of citizenship is not required if information is consis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B7502-2964-47B5-BFD3-78DEA9B5D2F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§484(a)(5): Citizenship Requ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95360" y="11365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U.S. citiz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35353"/>
                </a:solidFill>
                <a:latin typeface="Arial"/>
                <a:ea typeface="Arial"/>
              </a:rPr>
              <a:t>U.S. nat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535353"/>
                </a:solidFill>
                <a:uFillTx/>
                <a:latin typeface="Arial"/>
                <a:ea typeface="Arial"/>
              </a:rPr>
              <a:t>Permanent 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535353"/>
                </a:solidFill>
                <a:uFillTx/>
                <a:latin typeface="Arial"/>
                <a:ea typeface="Arial"/>
              </a:rPr>
              <a:t>Provide evidence from DHS-USCIS that they are in the United States for other than a temporary purpose with the intention of becoming a citizen or permanent resi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1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AFA89-0D04-4433-8603-3ABD8CFD25A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DACA Stud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8240" y="1143000"/>
            <a:ext cx="38862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7520" indent="-2275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re undocumented students eligible for Title IV ai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0320" indent="-172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No, undocumented students are ineligible for Title IV ai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7520" indent="-22752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an an undocumented student complete the FAFS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0320" indent="-1728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Yes, if the student has a valid Social Security number. </a:t>
            </a:r>
            <a:r>
              <a:rPr b="1" lang="en-US" sz="1800" spc="-1" strike="noStrike" u="sng">
                <a:solidFill>
                  <a:srgbClr val="535353"/>
                </a:solidFill>
                <a:uFillTx/>
                <a:latin typeface="Arial"/>
                <a:ea typeface="Arial"/>
              </a:rPr>
              <a:t>More importantly, students should also talk with a school financial aid official</a:t>
            </a: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0FB523-20B0-435A-8D07-80B52818832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4724280" y="1028880"/>
            <a:ext cx="3848400" cy="35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U-Vis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76320" y="1143000"/>
            <a:ext cx="893736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U-visas are victims of crime (different from T-visa and VAW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hese students are not eligible for Title IV 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Three year continuous presence after the date of admission: may be eligible to convert to lawful permanent resident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Lawful permanent resident: eligible noncitizen categ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Once converted to LPR may be eligible for Title IV 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ocumentation usually consists of I-7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D0DDA8-2F2C-4370-83EE-C14B6B4EA82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Battered Immigrant-Qualified Alie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4920" y="9716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3840" indent="-213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lso known as Violence Against Women Act (VAW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3840" indent="-213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uidance in GEN-10-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3840" indent="-213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-797 form indicating that the case 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76200" indent="-16236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ppro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76200" indent="-16236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Establishment of a “Prima Facie”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76200" indent="-16236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Suspension of depor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76200" indent="-16236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Cancellation of remo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3840" indent="-213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If school is still unclear, can opt to go through G-845 with special notation in notes box: “VAWA Verificatio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76200" indent="-16236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72412-7DCB-4B5D-98DF-A7737FAEA851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Cuban-Haitian Entra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ll Cuban-Haitian Entrants eligible for Title IV a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an be Cuban or Haitian n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uban-Haitian Entrant is a public benefits designation, not an immigration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everal subcategories of Cuban-Haitian Entr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07C78-4CA0-47E1-A40D-384969AED7F3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Picture 2" descr="Flag of Cuba.svg"/>
          <p:cNvPicPr/>
          <p:nvPr/>
        </p:nvPicPr>
        <p:blipFill>
          <a:blip r:embed="rId1"/>
          <a:stretch/>
        </p:blipFill>
        <p:spPr>
          <a:xfrm>
            <a:off x="533520" y="3257640"/>
            <a:ext cx="3657600" cy="13716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Flag of Haiti.svg"/>
          <p:cNvPicPr/>
          <p:nvPr/>
        </p:nvPicPr>
        <p:blipFill>
          <a:blip r:embed="rId2"/>
          <a:stretch/>
        </p:blipFill>
        <p:spPr>
          <a:xfrm>
            <a:off x="4724280" y="3257640"/>
            <a:ext cx="365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Unable to Appear at Instit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ear Colleague Letter, GEN-15-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Verification of U.S. citizenship or immigration status when student is unable to appear at instit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nfirmation of eligible noncitizen sta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onfirmation of U.S. citizen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ccepting photocopies or other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Additional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74CC04-EDE5-467E-BDD1-FD730E24DC87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Unable to Appear at Institution (cont’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F442FD-877E-4C09-B8ED-B84CDE0AE76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rcRect l="9717" t="15237" r="10612" b="6090"/>
          <a:stretch/>
        </p:blipFill>
        <p:spPr>
          <a:xfrm>
            <a:off x="981000" y="1143000"/>
            <a:ext cx="73342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ederal Student Aid Handbook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, Volume 1, Chapter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AR Comment Codes and Text &amp; ISIR Gu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EN-06-09 (T-visa); GEN-10-07 (VAW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34 CFR 668.32(d); 668.33; subpart I of Part 6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uscis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ice.go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ED Office of Inspector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2400" indent="-1692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1-800-MIS-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2840" indent="-22284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EF3CC3-967A-4A55-BCD8-84871C341D45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Points of 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General Student Eligibility Issu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Rene Tiongquico, F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Rene.Tiongquico@ed.gov</a:t>
            </a: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; 202-377-42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aron Washington, 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Aaron.Washington@ed.gov</a:t>
            </a: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; 202-502-747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G-845 Processing Issu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DHS Case Resolu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1-877-469-256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121D34-CA3F-4AA6-A777-E650634EEED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683CF-6E79-421A-A9B1-F6E116EE4C6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8" name="Picture 2" descr="C:\Users\Joe.Aiello\Desktop\Question-and-Answer.png"/>
          <p:cNvPicPr/>
          <p:nvPr/>
        </p:nvPicPr>
        <p:blipFill>
          <a:blip r:embed="rId1"/>
          <a:stretch/>
        </p:blipFill>
        <p:spPr>
          <a:xfrm>
            <a:off x="3143160" y="1465200"/>
            <a:ext cx="28576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838080" y="2057400"/>
            <a:ext cx="74678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35353"/>
                </a:solidFill>
                <a:latin typeface="Arial"/>
                <a:ea typeface="Arial"/>
              </a:rPr>
              <a:t>General 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A8F80-65B8-4549-BE94-680ED888344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Match Agreements: 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5160" y="874800"/>
            <a:ext cx="90136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SSA Mat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ll applications are matched with SSA to determine U.S. citizen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HS Match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Primary verification (DHS); Secondary confirmation (DHS Sec. Conf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A student who provides an A-Number also matched with DHS to check their current immigration stat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04640" indent="-174600">
              <a:lnSpc>
                <a:spcPct val="100000"/>
              </a:lnSpc>
              <a:spcBef>
                <a:spcPts val="499"/>
              </a:spcBef>
              <a:buClr>
                <a:srgbClr val="535353"/>
              </a:buClr>
              <a:buSzPct val="7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35353"/>
                </a:solidFill>
                <a:latin typeface="Arial"/>
                <a:ea typeface="Arial"/>
              </a:rPr>
              <a:t>Results shown on ISIR and a failed match with DHS will produce a C-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70CA45-167C-4B4B-90D5-D1F6D516C222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Relevant Match Flags on IS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1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FAFB9-D100-43E8-93D9-9200E6DCBBBE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rcRect l="1127" t="7671" r="1478" b="7026"/>
          <a:stretch/>
        </p:blipFill>
        <p:spPr>
          <a:xfrm>
            <a:off x="1046160" y="1123920"/>
            <a:ext cx="705168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1" name="Donut 7"/>
          <p:cNvSpPr/>
          <p:nvPr/>
        </p:nvSpPr>
        <p:spPr>
          <a:xfrm>
            <a:off x="1371600" y="2629080"/>
            <a:ext cx="1049400" cy="457200"/>
          </a:xfrm>
          <a:custGeom>
            <a:avLst/>
            <a:gdLst/>
            <a:ahLst/>
            <a:rect l="l" t="t" r="r" b="b"/>
            <a:pathLst>
              <a:path w="1049338" h="457200">
                <a:moveTo>
                  <a:pt x="0" y="228600"/>
                </a:moveTo>
                <a:cubicBezTo>
                  <a:pt x="0" y="102348"/>
                  <a:pt x="234902" y="0"/>
                  <a:pt x="524669" y="0"/>
                </a:cubicBezTo>
                <a:cubicBezTo>
                  <a:pt x="814436" y="0"/>
                  <a:pt x="1049338" y="102348"/>
                  <a:pt x="1049338" y="228600"/>
                </a:cubicBezTo>
                <a:cubicBezTo>
                  <a:pt x="1049338" y="354852"/>
                  <a:pt x="814436" y="457200"/>
                  <a:pt x="524669" y="457200"/>
                </a:cubicBezTo>
                <a:cubicBezTo>
                  <a:pt x="234902" y="457200"/>
                  <a:pt x="0" y="354852"/>
                  <a:pt x="0" y="228600"/>
                </a:cubicBezTo>
                <a:close/>
                <a:moveTo>
                  <a:pt x="22883" y="228600"/>
                </a:moveTo>
                <a:cubicBezTo>
                  <a:pt x="22883" y="342214"/>
                  <a:pt x="247540" y="434317"/>
                  <a:pt x="524669" y="434317"/>
                </a:cubicBezTo>
                <a:cubicBezTo>
                  <a:pt x="801798" y="434317"/>
                  <a:pt x="1026455" y="342214"/>
                  <a:pt x="1026455" y="228600"/>
                </a:cubicBezTo>
                <a:cubicBezTo>
                  <a:pt x="1026455" y="114986"/>
                  <a:pt x="801798" y="22883"/>
                  <a:pt x="524669" y="22883"/>
                </a:cubicBezTo>
                <a:cubicBezTo>
                  <a:pt x="247540" y="22883"/>
                  <a:pt x="22883" y="114986"/>
                  <a:pt x="22883" y="228600"/>
                </a:cubicBez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0080" y="31104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  <a:ea typeface="Arial"/>
              </a:rPr>
              <a:t>General Eligibility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79280" y="874800"/>
            <a:ext cx="878544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Gaining elig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Checking citizenship status once a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PLUS loans for parents of a dependent undergraduate stud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E831FF-C7AA-4CFC-AE1E-B12943F9261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"/>
          <p:cNvPicPr/>
          <p:nvPr/>
        </p:nvPicPr>
        <p:blipFill>
          <a:blip r:embed="rId1"/>
          <a:srcRect l="-142" t="1591" r="0" b="7329"/>
          <a:stretch/>
        </p:blipFill>
        <p:spPr>
          <a:xfrm>
            <a:off x="1536840" y="1468440"/>
            <a:ext cx="5918040" cy="2703600"/>
          </a:xfrm>
          <a:prstGeom prst="rect">
            <a:avLst/>
          </a:prstGeom>
          <a:ln w="0">
            <a:noFill/>
          </a:ln>
        </p:spPr>
      </p:pic>
      <p:sp>
        <p:nvSpPr>
          <p:cNvPr id="50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353142-CD0D-4CED-AAEB-EED549839D4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1760" y="399960"/>
            <a:ext cx="746748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illing out the FAF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19:08:42Z</dcterms:created>
  <dc:creator>user ce</dc:creator>
  <dc:description/>
  <dc:language>en-US</dc:language>
  <cp:lastModifiedBy>Authorised User</cp:lastModifiedBy>
  <cp:lastPrinted>2012-09-05T16:31:24Z</cp:lastPrinted>
  <dcterms:modified xsi:type="dcterms:W3CDTF">2016-11-21T15:15:02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37D63EE5034904FBE124CE4C93FC8B0</vt:lpwstr>
  </property>
  <property fmtid="{D5CDD505-2E9C-101B-9397-08002B2CF9AE}" pid="3" name="_dlc_DocId">
    <vt:lpwstr>ZQHRFS737ZVJ-391-3</vt:lpwstr>
  </property>
  <property fmtid="{D5CDD505-2E9C-101B-9397-08002B2CF9AE}" pid="4" name="_dlc_DocIdItemGuid">
    <vt:lpwstr>8f810f7d-8a11-484d-ad7f-0aeb8d6ca03d</vt:lpwstr>
  </property>
  <property fmtid="{D5CDD505-2E9C-101B-9397-08002B2CF9AE}" pid="5" name="_dlc_DocIdUrl">
    <vt:lpwstr>https://fsa.share.ed.gov/as/comm/_layouts/DocIdRedir.aspx?ID=ZQHRFS737ZVJ-391-3, ZQHRFS737ZVJ-391-3</vt:lpwstr>
  </property>
</Properties>
</file>