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4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</p:sldIdLst>
  <p:sldSz cx="9144000" cy="5145088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dt" idx="11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sldImg"/>
          </p:nvPr>
        </p:nvSpPr>
        <p:spPr>
          <a:xfrm>
            <a:off x="399600" y="692280"/>
            <a:ext cx="61470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ftr" idx="12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6"/>
          <p:cNvSpPr>
            <a:spLocks noGrp="1"/>
          </p:cNvSpPr>
          <p:nvPr>
            <p:ph type="sldNum" idx="13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0D8791-9A8D-45A4-AA26-57F4DC66146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2FBB8E-3F99-4704-8800-7A6E8BF743A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79B99F-D0B3-4F2E-B9D2-FD308AB74FD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A0AC4F-2479-4297-9CF9-7739A85532A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456E82-6B86-4764-9A39-5EA31B8134A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4D53D-F053-44C6-A81C-E62E3352F46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42336E6-DF28-407A-A3A5-61BBD4AC7FB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7F2E137-013F-4296-9F73-2A899ABB6F9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2CF680-D5BE-4817-890A-234CD82D37B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66E6ED-0834-43AB-AABA-272782FA04D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5C8A06-5F62-4B57-9D33-6E146BC1A65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248CF32-E742-4168-91F3-FDDD817E032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8F3750-57BB-4831-B039-D181ADC8919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C00731-1616-4F9A-B1F5-2E989CA0454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259777-E89D-4EAE-8278-F245837E9C0C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B10896-353E-444B-9460-0A4C1DCB6D3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9A84A-59F1-472D-B715-71EAA4AFA447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CFBFE33-C2F4-4308-8D51-4B35C3E5AE2F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62460-0C49-46CE-A9B5-9F65B870CA9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8B4814C-11ED-4F21-AEFF-F4534B719CE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3A1DE48-53BA-4714-BE5E-0FF3436B59B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F7D3ED2-C4C9-4A66-A1CF-74BF045B2EB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A786C9E-B7AE-4851-BBE6-4F72413957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B8C391-2BB9-4429-B6D1-4C6B8E27CE6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7370C1B-46E7-4A67-A926-0664E2654E8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123F6A-3467-4003-8C22-A203C4A4C6F6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B51AA9-CB1D-4B14-8515-EDA9736BD700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86A72-4F01-4FFA-88AB-C3D8B01CA74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E37E69-9CF4-4034-8F2B-E98A9767ED6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8576382-BD4C-40A1-A152-ABB8B595CF91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330E66-2460-4582-8197-90F4E9C9DDCE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D73CBB8-F815-4478-8CE3-8D222829C4A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5B5FD5-72B7-4D63-996D-4749A1488AC9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5ABAD9-C247-4E1D-889E-2D3AC73F540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84D99C-BBC2-4678-87F7-C4EDCED6A1E4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99960" y="692280"/>
            <a:ext cx="6147000" cy="345744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C0BA40C-CEAD-4DA5-8639-35130FEE115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97527-C3A4-4D0B-8089-24ECDF16106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1C5FE-D78F-4BCD-AA93-9D79B3A380A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62BE33-482E-4FD9-99F4-9ED284251E5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01E22A-1102-4E04-9C34-5C608DCAC3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2B21CD-40A6-444F-8BEA-8BAED757CB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5E7495-9F84-4A8B-B908-9CEB7087C4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50780-539B-444D-BEE8-47E85BCBDC72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61293-26B3-47E1-B792-E0A79EB39B4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3D72C5-B684-44B8-8228-16DA9ACD13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96AE4B-4D9C-46AA-B21B-A8CC51607B31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52AF44-6284-4B33-928B-CC5402FDE51A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A93CC-122B-43A7-AB5A-2468939EA61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506E17-CCD3-4B64-B805-B12B5EC0AB55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FFC9B0-1EBF-4706-9C84-C103C66A0264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378599-A617-4AB7-944B-0F80CF5E815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7ECB62-1F81-4C57-BED5-EDDED7D22B75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E502B1-F5F9-40A3-A7F6-23ADDA8BE824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DFC336-7F2C-40B2-9A1A-13766C0C9B9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58A07D-0AA7-40C0-AF26-DB8558F74D3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6B669-B60F-480F-91D7-2EC0A9FAC40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57AF22-3738-446F-9C9C-E992AA76108B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1331A-D699-43B5-9BC4-10E2CD93782C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5A07-C07B-4592-A73E-187CAF807BB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B120-F50C-4D3A-B814-CDD21EE3F05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8BB14-6CAF-4DC9-8604-E058DB62642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DDD47-FEF8-4EA0-9B35-E1B74CE7155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F53D-668E-471C-A664-425C68B2A4AB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7ADE-8322-4184-B43D-D29D1EADA81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8169-FC9B-4CD0-A307-6B2671F3FE1D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04FA-048E-4BC6-BCE8-5358C678B3F6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D55A-8F37-4282-9965-E891F5055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3E9B47-A89B-4912-96C2-81A62742D8D8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B0AB9-7F93-4FCC-9957-6DC273416E2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78D71E7-DBB2-455D-99BC-4D0F9160DD0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23714-BEDF-4859-B802-889135F2D3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7842F8-6D36-4A7F-93B7-24C8702595E8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A6D1A3-A9BF-4E54-8D10-D8D6D601BAAB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70ADE4-9D38-4D8B-8AAA-8FC5B81421BF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53D249-E1C6-4C3F-97E9-3468DBB6971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472158-1346-4B90-B272-54BD9F93B8EB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1778788-889C-43C8-959C-4498DF894F2E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AC1D79-7F67-41F7-B941-556AC69322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7BD44-F8CF-4903-B097-AA65BDC41CF7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56A385-DBA2-4643-A557-73F69E56068B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FD1A07-D672-47F0-BA74-04950882197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2F6D15-347B-452A-9172-6F54196D05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9023AFC-5D78-4A81-99B2-D573389834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A516A54-7141-4388-8798-522EF52B3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15A7E4F-C95B-403D-917A-77B97DEC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47BE35E-03FE-4165-8951-CDE069664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57C120-B47F-45FD-86E0-C4C879B0F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B8C35B-F4F1-4193-8B40-5C4E497E9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F79915-2145-4195-B7F5-D46DE3C72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3FE04-A971-4073-A444-F835A55EE15C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63BE69E-D41D-4D1E-8AFC-11EF36F3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659F2D-E5AB-4DFB-8245-51EFCDD1F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E8881D8-8C14-4941-AB84-3B75E8675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3384950-FCE4-4A6D-B0C4-91ED46F32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85BA99C-FEB4-4D90-965A-801F68402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33160E-0B11-40C7-A169-89FDA6290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2E4A1F-02E4-4EE5-A186-03C3D0308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6A3A0F5-AE71-43FA-9210-46867F63F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4795AE2-2DBF-4730-BD5A-63CD42AD3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D3F788-5F06-449C-9050-B0E626C6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73FAD7-5303-469E-B664-1069C44B630B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A4A9238-7CC6-4011-8EF3-D92D5F77E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B08E607-9FBF-42BD-9E74-848872508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4E2309-D6DE-4D99-8026-EDE2F8EBE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0D5F78D-9727-47EC-9A57-30BA7F316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3A64FBA-5618-4C49-BF88-58D75413C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38D17B-F409-456C-AEF6-9E1EEE34D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CF4F4CD-5D0D-4ACB-86C6-461541A52C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BCADB-0C1B-412B-9AFB-6345D26C40A7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Rectangle 1"/>
          <p:cNvSpPr/>
          <p:nvPr/>
        </p:nvSpPr>
        <p:spPr>
          <a:xfrm>
            <a:off x="0" y="0"/>
            <a:ext cx="9147240" cy="41148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" name="Picture 3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152280" y="4248000"/>
            <a:ext cx="4865760" cy="68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"/>
          <p:cNvSpPr/>
          <p:nvPr/>
        </p:nvSpPr>
        <p:spPr>
          <a:xfrm>
            <a:off x="0" y="4902120"/>
            <a:ext cx="9167760" cy="24156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28440" y="236520"/>
            <a:ext cx="4670640" cy="658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sldNum" idx="2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695F4CD-40A6-483E-B294-A0F05818BDA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1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traight Connector 4"/>
          <p:cNvSpPr/>
          <p:nvPr/>
        </p:nvSpPr>
        <p:spPr>
          <a:xfrm>
            <a:off x="241200" y="797040"/>
            <a:ext cx="8645760" cy="0"/>
          </a:xfrm>
          <a:prstGeom prst="line">
            <a:avLst/>
          </a:prstGeom>
          <a:ln w="5076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6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4504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sldNum" idx="3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D598D1-6450-4818-BB63-D65557AC3A1C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0" y="4746600"/>
            <a:ext cx="4495680" cy="4050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-14400" y="0"/>
            <a:ext cx="9167760" cy="241200"/>
          </a:xfrm>
          <a:prstGeom prst="rect">
            <a:avLst/>
          </a:prstGeom>
          <a:solidFill>
            <a:srgbClr val="95c9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2"/>
          <a:srcRect l="0" t="0" r="0" b="3516"/>
          <a:stretch/>
        </p:blipFill>
        <p:spPr>
          <a:xfrm>
            <a:off x="5029200" y="4619520"/>
            <a:ext cx="3718080" cy="524160"/>
          </a:xfrm>
          <a:prstGeom prst="rect">
            <a:avLst/>
          </a:prstGeom>
          <a:ln w="0">
            <a:noFill/>
          </a:ln>
        </p:spPr>
      </p:pic>
      <p:sp>
        <p:nvSpPr>
          <p:cNvPr id="201" name="PlaceHolder 1"/>
          <p:cNvSpPr>
            <a:spLocks noGrp="1"/>
          </p:cNvSpPr>
          <p:nvPr>
            <p:ph type="sldNum" idx="4"/>
          </p:nvPr>
        </p:nvSpPr>
        <p:spPr>
          <a:xfrm>
            <a:off x="533520" y="4800240"/>
            <a:ext cx="213336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900" spc="-1" strike="noStrike">
                <a:solidFill>
                  <a:srgbClr val="f2f2f2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7A749D5-886F-4F95-B51A-75228E82EBD9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dt" idx="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ftr" idx="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0C477-33E4-4D7E-944D-65F60A89ABC3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dt" idx="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ftr" idx="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sldNum" idx="1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5200950-03DD-41D2-8246-77454AA84865}" type="slidenum">
              <a:rPr b="0" lang="en-US" sz="1200" spc="-1" strike="noStrike">
                <a:solidFill>
                  <a:srgbClr val="898989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456840" y="2857320"/>
            <a:ext cx="8458200" cy="12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John Kolotos | Nov - Dec 2016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U.S. Department of Educ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  <a:ea typeface="Arial"/>
              </a:rPr>
              <a:t>2016 FSA Training Conference for Financial Aid Professional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0" y="12002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  <a:ea typeface="Arial"/>
              </a:rPr>
              <a:t>Cash Management Regulations Overview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itle 3"/>
          <p:cNvSpPr/>
          <p:nvPr/>
        </p:nvSpPr>
        <p:spPr>
          <a:xfrm>
            <a:off x="0" y="228600"/>
            <a:ext cx="3505320" cy="5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f2f2f2"/>
                </a:solidFill>
                <a:latin typeface="Arial"/>
              </a:rPr>
              <a:t>Session 20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menu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Content Placeholder 3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5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E6428E2-21FD-4EB8-9157-1B680FD75102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ons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Content Placeholder 3" descr=""/>
          <p:cNvPicPr/>
          <p:nvPr/>
        </p:nvPicPr>
        <p:blipFill>
          <a:blip r:embed="rId1"/>
          <a:stretch/>
        </p:blipFill>
        <p:spPr>
          <a:xfrm>
            <a:off x="523800" y="1146240"/>
            <a:ext cx="8248680" cy="3389400"/>
          </a:xfrm>
          <a:prstGeom prst="rect">
            <a:avLst/>
          </a:prstGeom>
          <a:ln w="0">
            <a:noFill/>
          </a:ln>
        </p:spPr>
      </p:pic>
      <p:sp>
        <p:nvSpPr>
          <p:cNvPr id="35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B3D7D28-B81B-4E34-9E8D-5A21D77AB23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5" name="Content Placeholder 3" descr=""/>
          <p:cNvPicPr/>
          <p:nvPr/>
        </p:nvPicPr>
        <p:blipFill>
          <a:blip r:embed="rId1"/>
          <a:stretch/>
        </p:blipFill>
        <p:spPr>
          <a:xfrm>
            <a:off x="480960" y="1146240"/>
            <a:ext cx="8298000" cy="3230640"/>
          </a:xfrm>
          <a:prstGeom prst="rect">
            <a:avLst/>
          </a:prstGeom>
          <a:ln w="0">
            <a:noFill/>
          </a:ln>
        </p:spPr>
      </p:pic>
      <p:sp>
        <p:nvSpPr>
          <p:cNvPr id="35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AA99792-D760-413F-B818-C2A53B3ABD27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closur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8" name="Content Placeholder 3" descr=""/>
          <p:cNvPicPr/>
          <p:nvPr/>
        </p:nvPicPr>
        <p:blipFill>
          <a:blip r:embed="rId1"/>
          <a:stretch/>
        </p:blipFill>
        <p:spPr>
          <a:xfrm>
            <a:off x="523800" y="1047600"/>
            <a:ext cx="8296200" cy="3488040"/>
          </a:xfrm>
          <a:prstGeom prst="rect">
            <a:avLst/>
          </a:prstGeom>
          <a:ln w="0">
            <a:noFill/>
          </a:ln>
        </p:spPr>
      </p:pic>
      <p:sp>
        <p:nvSpPr>
          <p:cNvPr id="359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050B50-255D-4FBB-8694-D11F4ADB6462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380880" y="15044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T1 and T2 arrangements (with sufficient credit balance recipients)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Slide Number Placeholder 2"/>
          <p:cNvSpPr/>
          <p:nvPr/>
        </p:nvSpPr>
        <p:spPr>
          <a:xfrm>
            <a:off x="533520" y="490212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35D6585-8DC2-4CDB-871B-3D231DBF9DEF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T2 </a:t>
            </a:r>
            <a:r>
              <a:rPr b="0" i="1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De Minimis</a:t>
            </a: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 Threshold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7200" y="971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535353"/>
                </a:solidFill>
                <a:latin typeface="Arial"/>
                <a:ea typeface="Arial"/>
              </a:rPr>
              <a:t>Some regulatory provisions limited to T2 arrangements with a sufficient number of credit balance recipients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700" spc="-1" strike="noStrike">
                <a:solidFill>
                  <a:srgbClr val="535353"/>
                </a:solidFill>
                <a:latin typeface="Arial"/>
                <a:ea typeface="Arial"/>
              </a:rPr>
              <a:t>The school must comply with the additional requirements if during the school’s prior three award years, either: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09ADB1-E92C-4160-AB16-26E377A2217F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5" name="Diagram 5" descr=""/>
          <p:cNvPicPr/>
          <p:nvPr/>
        </p:nvPicPr>
        <p:blipFill>
          <a:blip r:embed="rId1"/>
          <a:stretch/>
        </p:blipFill>
        <p:spPr>
          <a:xfrm>
            <a:off x="609480" y="1884240"/>
            <a:ext cx="7772400" cy="2462400"/>
          </a:xfrm>
          <a:prstGeom prst="rect">
            <a:avLst/>
          </a:prstGeom>
          <a:ln w="0">
            <a:noFill/>
          </a:ln>
        </p:spPr>
      </p:pic>
      <p:sp>
        <p:nvSpPr>
          <p:cNvPr id="366" name="Content Placeholder 2"/>
          <p:cNvSpPr/>
          <p:nvPr/>
        </p:nvSpPr>
        <p:spPr>
          <a:xfrm>
            <a:off x="457200" y="4286160"/>
            <a:ext cx="8229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1 arrangements do not have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 minimis 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threshol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Content Placeholder 2"/>
          <p:cNvSpPr/>
          <p:nvPr/>
        </p:nvSpPr>
        <p:spPr>
          <a:xfrm>
            <a:off x="4191120" y="2971800"/>
            <a:ext cx="6094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CC520-2CB7-4442-B47B-7A9AA39E1B2C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60080" y="28548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100" spc="-1" strike="noStrike">
                <a:solidFill>
                  <a:srgbClr val="595959"/>
                </a:solidFill>
                <a:latin typeface="Arial"/>
                <a:ea typeface="Arial"/>
              </a:rPr>
              <a:t>Summary Cost Disclosures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304560" y="971640"/>
            <a:ext cx="8381880" cy="120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quired for accounts offered under T1 arrangements or T2 arrangements with more than a </a:t>
            </a:r>
            <a:r>
              <a:rPr b="0" i="1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de minimis</a:t>
            </a: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 number of credit balance recipien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Requirement begins on July 1,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174600" indent="-174600">
              <a:lnSpc>
                <a:spcPct val="100000"/>
              </a:lnSpc>
              <a:spcBef>
                <a:spcPts val="300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535353"/>
                </a:solidFill>
                <a:latin typeface="Arial"/>
                <a:ea typeface="Arial"/>
              </a:rPr>
              <a:t>If the institution had 30 or more credit balance recipients in the prior award year, it must publish the following on the same website as contract disclosur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2E6B176-2619-454D-9E14-74F8B17E0DF7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Diagram 6" descr=""/>
          <p:cNvPicPr/>
          <p:nvPr/>
        </p:nvPicPr>
        <p:blipFill>
          <a:blip r:embed="rId1"/>
          <a:stretch/>
        </p:blipFill>
        <p:spPr>
          <a:xfrm>
            <a:off x="596880" y="2230560"/>
            <a:ext cx="8004240" cy="2573280"/>
          </a:xfrm>
          <a:prstGeom prst="rect">
            <a:avLst/>
          </a:prstGeom>
          <a:ln w="0">
            <a:noFill/>
          </a:ln>
        </p:spPr>
      </p:pic>
      <p:sp>
        <p:nvSpPr>
          <p:cNvPr id="373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CC04414-FC86-4999-9B45-75961B26510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est Interests of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Future contracts, fees, and technological changes must occur without harming stud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30040" indent="-230040">
              <a:lnSpc>
                <a:spcPct val="100000"/>
              </a:lnSpc>
              <a:spcBef>
                <a:spcPts val="601"/>
              </a:spcBef>
              <a:buClr>
                <a:srgbClr val="535353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Required for accounts offered under T1 arrangements or T2 arrangements with more than a </a:t>
            </a:r>
            <a:r>
              <a:rPr b="0" i="1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de minimis</a:t>
            </a:r>
            <a:r>
              <a:rPr b="0" lang="en-US" sz="2400" spc="-1" strike="noStrike">
                <a:solidFill>
                  <a:srgbClr val="535353"/>
                </a:solidFill>
                <a:latin typeface="Arial"/>
                <a:ea typeface="Arial"/>
              </a:rPr>
              <a:t> number of credit balance recipi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2506D66-C1E0-47E5-B60F-DCCED786496D}" type="slidenum">
              <a:rPr b="0" lang="en-US" sz="900" spc="-1" strike="noStrike">
                <a:solidFill>
                  <a:srgbClr val="ffffff"/>
                </a:solidFill>
                <a:latin typeface="Calibri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est Interest of Stud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8" name="Diagram 2" descr=""/>
          <p:cNvPicPr/>
          <p:nvPr/>
        </p:nvPicPr>
        <p:blipFill>
          <a:blip r:embed="rId1"/>
          <a:stretch/>
        </p:blipFill>
        <p:spPr>
          <a:xfrm>
            <a:off x="566640" y="957240"/>
            <a:ext cx="7986960" cy="3681360"/>
          </a:xfrm>
          <a:prstGeom prst="rect">
            <a:avLst/>
          </a:prstGeom>
          <a:ln w="0">
            <a:noFill/>
          </a:ln>
        </p:spPr>
      </p:pic>
      <p:sp>
        <p:nvSpPr>
          <p:cNvPr id="37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8D0EB62-AAE0-4212-82CD-12335B3D401A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nvenient ATM Acce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1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D2C80C-261E-4605-A78F-6FDCB15F236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Content Placeholder 2"/>
          <p:cNvSpPr/>
          <p:nvPr/>
        </p:nvSpPr>
        <p:spPr>
          <a:xfrm>
            <a:off x="457200" y="1257480"/>
            <a:ext cx="822960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urcharge-free ATMs must be present in sufficient number and must be housed and serviced such that Title IV funds are reasonably available to stud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accounts offered under T1 arrangements or T2 arrangements with more than a </a:t>
            </a:r>
            <a:r>
              <a:rPr b="0" i="1" lang="en-US" sz="2200" spc="-1" strike="noStrike">
                <a:solidFill>
                  <a:srgbClr val="000000"/>
                </a:solidFill>
                <a:latin typeface="Calibri"/>
              </a:rPr>
              <a:t>de minimis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number of credit balance recipien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378E42A-3E38-40EC-B070-42525F0348F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211428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Debit Card Prov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2"/>
          <p:cNvSpPr/>
          <p:nvPr/>
        </p:nvSpPr>
        <p:spPr>
          <a:xfrm>
            <a:off x="533520" y="48690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DB3182A-D612-4A11-B81D-522CC3234AC9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595959"/>
                </a:solidFill>
                <a:latin typeface="Arial"/>
                <a:ea typeface="Arial"/>
              </a:rPr>
              <a:t>Direct Disbursements to Stud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5" name="Content Placeholder 2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78920" cy="3389400"/>
          </a:xfrm>
          <a:prstGeom prst="rect">
            <a:avLst/>
          </a:prstGeom>
          <a:ln w="0">
            <a:noFill/>
          </a:ln>
        </p:spPr>
      </p:pic>
      <p:sp>
        <p:nvSpPr>
          <p:cNvPr id="386" name="Slide Number Placeholder 4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6B5AAB-70B6-45A3-A0D5-D01EE0176A1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9587BB-5750-4FA7-9625-29DF6C8E4004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80880" y="196164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Other Cash Management Provision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Slide Number Placeholder 2"/>
          <p:cNvSpPr/>
          <p:nvPr/>
        </p:nvSpPr>
        <p:spPr>
          <a:xfrm>
            <a:off x="533520" y="48690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13FCA0-FA05-47B5-8CD3-7116A4588A5A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Chan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1" name="Content Placeholder 2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92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B004969-0A9C-4309-BE32-302962B83C5E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isk of Los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4" name="Content Placeholder 2" descr=""/>
          <p:cNvPicPr/>
          <p:nvPr/>
        </p:nvPicPr>
        <p:blipFill>
          <a:blip r:embed="rId1"/>
          <a:stretch/>
        </p:blipFill>
        <p:spPr>
          <a:xfrm>
            <a:off x="493560" y="1006560"/>
            <a:ext cx="8285400" cy="3406680"/>
          </a:xfrm>
          <a:prstGeom prst="rect">
            <a:avLst/>
          </a:prstGeom>
          <a:ln w="0">
            <a:noFill/>
          </a:ln>
        </p:spPr>
      </p:pic>
      <p:sp>
        <p:nvSpPr>
          <p:cNvPr id="395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7FCD5D1-80AF-4C93-B7E1-9E753B5F15E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Reimbursement and HCM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7" name="Content Placeholder 5" descr=""/>
          <p:cNvPicPr/>
          <p:nvPr/>
        </p:nvPicPr>
        <p:blipFill>
          <a:blip r:embed="rId1"/>
          <a:stretch/>
        </p:blipFill>
        <p:spPr>
          <a:xfrm>
            <a:off x="476280" y="1139760"/>
            <a:ext cx="8296200" cy="3395880"/>
          </a:xfrm>
          <a:prstGeom prst="rect">
            <a:avLst/>
          </a:prstGeom>
          <a:ln w="0">
            <a:noFill/>
          </a:ln>
        </p:spPr>
      </p:pic>
      <p:sp>
        <p:nvSpPr>
          <p:cNvPr id="398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AD5268-89DB-425F-81F9-5DA40BE761C3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0" name="Content Placeholder 4" descr=""/>
          <p:cNvPicPr/>
          <p:nvPr/>
        </p:nvPicPr>
        <p:blipFill>
          <a:blip r:embed="rId1"/>
          <a:stretch/>
        </p:blipFill>
        <p:spPr>
          <a:xfrm>
            <a:off x="822240" y="1103400"/>
            <a:ext cx="7426440" cy="3475080"/>
          </a:xfrm>
          <a:prstGeom prst="rect">
            <a:avLst/>
          </a:prstGeom>
          <a:ln w="0">
            <a:noFill/>
          </a:ln>
        </p:spPr>
      </p:pic>
      <p:sp>
        <p:nvSpPr>
          <p:cNvPr id="40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F72D10B-C896-440A-92C5-E08E16369583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3" name="Content Placeholder 2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404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67ED4DF-DCA1-4CD2-AC24-2FD3E9B95A1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Maintaining &amp; Accounting for Fund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6" name="Content Placeholder 3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40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4D496AD-07AD-4D5C-A2AC-75DFE1D9583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Foreign School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9" name="Content Placeholder 4" descr=""/>
          <p:cNvPicPr/>
          <p:nvPr/>
        </p:nvPicPr>
        <p:blipFill>
          <a:blip r:embed="rId1"/>
          <a:stretch/>
        </p:blipFill>
        <p:spPr>
          <a:xfrm>
            <a:off x="536400" y="1122480"/>
            <a:ext cx="8229600" cy="3425760"/>
          </a:xfrm>
          <a:prstGeom prst="rect">
            <a:avLst/>
          </a:prstGeom>
          <a:ln w="0">
            <a:noFill/>
          </a:ln>
        </p:spPr>
      </p:pic>
      <p:sp>
        <p:nvSpPr>
          <p:cNvPr id="41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E9DC11D-43A5-42BB-A214-5E74EF734A97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bursement by Payment Period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2" name="Content Placeholder 4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36080" cy="3389400"/>
          </a:xfrm>
          <a:prstGeom prst="rect">
            <a:avLst/>
          </a:prstGeom>
          <a:ln w="0">
            <a:noFill/>
          </a:ln>
        </p:spPr>
      </p:pic>
      <p:sp>
        <p:nvSpPr>
          <p:cNvPr id="41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29467AD-26EC-46B8-AF00-01EE9CABC2E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Regula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Content Placeholder 3" descr=""/>
          <p:cNvPicPr/>
          <p:nvPr/>
        </p:nvPicPr>
        <p:blipFill>
          <a:blip r:embed="rId1"/>
          <a:stretch/>
        </p:blipFill>
        <p:spPr>
          <a:xfrm>
            <a:off x="523800" y="1146240"/>
            <a:ext cx="8334360" cy="3402000"/>
          </a:xfrm>
          <a:prstGeom prst="rect">
            <a:avLst/>
          </a:prstGeom>
          <a:ln w="0">
            <a:noFill/>
          </a:ln>
        </p:spPr>
      </p:pic>
      <p:sp>
        <p:nvSpPr>
          <p:cNvPr id="330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F54ABD-5FCF-4A29-B1BD-676CF7E93D4F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Disbursement &amp; Upfront Cos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5" name="TextBox 2" descr=""/>
          <p:cNvPicPr/>
          <p:nvPr/>
        </p:nvPicPr>
        <p:blipFill>
          <a:blip r:embed="rId1"/>
          <a:stretch/>
        </p:blipFill>
        <p:spPr>
          <a:xfrm>
            <a:off x="536400" y="1920960"/>
            <a:ext cx="7998120" cy="573120"/>
          </a:xfrm>
          <a:prstGeom prst="rect">
            <a:avLst/>
          </a:prstGeom>
          <a:ln w="0">
            <a:noFill/>
          </a:ln>
        </p:spPr>
      </p:pic>
      <p:pic>
        <p:nvPicPr>
          <p:cNvPr id="416" name="TextBox 4" descr=""/>
          <p:cNvPicPr/>
          <p:nvPr/>
        </p:nvPicPr>
        <p:blipFill>
          <a:blip r:embed="rId2"/>
          <a:stretch/>
        </p:blipFill>
        <p:spPr>
          <a:xfrm>
            <a:off x="536400" y="3333600"/>
            <a:ext cx="7998120" cy="854280"/>
          </a:xfrm>
          <a:prstGeom prst="rect">
            <a:avLst/>
          </a:prstGeom>
          <a:ln w="0">
            <a:noFill/>
          </a:ln>
        </p:spPr>
      </p:pic>
      <p:sp>
        <p:nvSpPr>
          <p:cNvPr id="417" name="TextBox 5"/>
          <p:cNvSpPr/>
          <p:nvPr/>
        </p:nvSpPr>
        <p:spPr>
          <a:xfrm>
            <a:off x="315000" y="1131840"/>
            <a:ext cx="543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programs with substantially equal PP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Rectangle 6"/>
          <p:cNvSpPr/>
          <p:nvPr/>
        </p:nvSpPr>
        <p:spPr>
          <a:xfrm>
            <a:off x="310320" y="2724120"/>
            <a:ext cx="30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r all other program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7E344F0-DB65-4E8C-AE09-9201E9EB2540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Prior-Year Charg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Content Placeholder 4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29600" cy="3389400"/>
          </a:xfrm>
          <a:prstGeom prst="rect">
            <a:avLst/>
          </a:prstGeom>
          <a:ln w="0">
            <a:noFill/>
          </a:ln>
        </p:spPr>
      </p:pic>
      <p:sp>
        <p:nvSpPr>
          <p:cNvPr id="42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68F5AB8-26FF-4920-B1BB-436FCE58013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oks/Supplies in Tuition &amp; 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4" name="Content Placeholder 4" descr=""/>
          <p:cNvPicPr/>
          <p:nvPr/>
        </p:nvPicPr>
        <p:blipFill>
          <a:blip r:embed="rId1"/>
          <a:stretch/>
        </p:blipFill>
        <p:spPr>
          <a:xfrm>
            <a:off x="480960" y="858960"/>
            <a:ext cx="8291520" cy="3463920"/>
          </a:xfrm>
          <a:prstGeom prst="rect">
            <a:avLst/>
          </a:prstGeom>
          <a:ln w="0">
            <a:noFill/>
          </a:ln>
        </p:spPr>
      </p:pic>
      <p:sp>
        <p:nvSpPr>
          <p:cNvPr id="425" name="TextBox 5"/>
          <p:cNvSpPr/>
          <p:nvPr/>
        </p:nvSpPr>
        <p:spPr>
          <a:xfrm>
            <a:off x="304920" y="4411800"/>
            <a:ext cx="86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* Also an opt out of the credit balance based books and supplies provision; now applies to all student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4BBA4FB-A747-48C7-BC7C-230A2142A71B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60080" y="18072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Books/Supplies in Tuition &amp; Fe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8" name="Content Placeholder 2" descr=""/>
          <p:cNvPicPr/>
          <p:nvPr/>
        </p:nvPicPr>
        <p:blipFill>
          <a:blip r:embed="rId1"/>
          <a:stretch/>
        </p:blipFill>
        <p:spPr>
          <a:xfrm>
            <a:off x="450720" y="1073160"/>
            <a:ext cx="8412120" cy="3462480"/>
          </a:xfrm>
          <a:prstGeom prst="rect">
            <a:avLst/>
          </a:prstGeom>
          <a:ln w="0">
            <a:noFill/>
          </a:ln>
        </p:spPr>
      </p:pic>
      <p:sp>
        <p:nvSpPr>
          <p:cNvPr id="429" name="Slide Number Placeholder 3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3F72D7-E675-46BA-8443-ABB19F5F72B9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60080" y="133200"/>
            <a:ext cx="8553240" cy="4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Confirm Eligibility &amp; Disbursem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1" name="Content Placeholder 4" descr=""/>
          <p:cNvPicPr/>
          <p:nvPr/>
        </p:nvPicPr>
        <p:blipFill>
          <a:blip r:embed="rId1"/>
          <a:stretch/>
        </p:blipFill>
        <p:spPr>
          <a:xfrm>
            <a:off x="523800" y="1116000"/>
            <a:ext cx="8255160" cy="3548160"/>
          </a:xfrm>
          <a:prstGeom prst="rect">
            <a:avLst/>
          </a:prstGeom>
          <a:ln w="0">
            <a:noFill/>
          </a:ln>
        </p:spPr>
      </p:pic>
      <p:sp>
        <p:nvSpPr>
          <p:cNvPr id="432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D6BA7-46C2-45FA-84B7-23194B65DAA7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QUESTIONS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"/>
          <p:cNvSpPr txBox="1"/>
          <p:nvPr/>
        </p:nvSpPr>
        <p:spPr>
          <a:xfrm>
            <a:off x="533520" y="114300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2300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Slide Number Placeholder 4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F254247-AEF9-4864-A969-CB621CFF69FC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6" name="Picture 2" descr="C:\Users\Joe.Aiello\Desktop\Question-and-Answer.png"/>
          <p:cNvPicPr/>
          <p:nvPr/>
        </p:nvPicPr>
        <p:blipFill>
          <a:blip r:embed="rId1"/>
          <a:stretch/>
        </p:blipFill>
        <p:spPr>
          <a:xfrm>
            <a:off x="3295800" y="1465200"/>
            <a:ext cx="24955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Who is covered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2" name="Content Placeholder 3" descr=""/>
          <p:cNvPicPr/>
          <p:nvPr/>
        </p:nvPicPr>
        <p:blipFill>
          <a:blip r:embed="rId1"/>
          <a:stretch/>
        </p:blipFill>
        <p:spPr>
          <a:xfrm>
            <a:off x="487440" y="1146240"/>
            <a:ext cx="8332560" cy="3389400"/>
          </a:xfrm>
          <a:prstGeom prst="rect">
            <a:avLst/>
          </a:prstGeom>
          <a:ln w="0">
            <a:noFill/>
          </a:ln>
        </p:spPr>
      </p:pic>
      <p:sp>
        <p:nvSpPr>
          <p:cNvPr id="333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0D59843-07E8-4344-BE61-833BF30F6177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Overview of new requirem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5" name="Content Placeholder 3" descr=""/>
          <p:cNvPicPr/>
          <p:nvPr/>
        </p:nvPicPr>
        <p:blipFill>
          <a:blip r:embed="rId1"/>
          <a:stretch/>
        </p:blipFill>
        <p:spPr>
          <a:xfrm>
            <a:off x="536400" y="1109520"/>
            <a:ext cx="8253720" cy="3426120"/>
          </a:xfrm>
          <a:prstGeom prst="rect">
            <a:avLst/>
          </a:prstGeom>
          <a:ln w="0">
            <a:noFill/>
          </a:ln>
        </p:spPr>
      </p:pic>
      <p:sp>
        <p:nvSpPr>
          <p:cNvPr id="336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B7B405B-8BCC-4B01-895B-FE7494BA98A8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380880" y="2114280"/>
            <a:ext cx="8229600" cy="55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800" spc="-1" strike="noStrike">
                <a:solidFill>
                  <a:srgbClr val="595959"/>
                </a:solidFill>
                <a:latin typeface="Arial"/>
                <a:ea typeface="Arial"/>
              </a:rPr>
              <a:t>T1 and T2 Arrangements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lide Number Placeholder 2"/>
          <p:cNvSpPr/>
          <p:nvPr/>
        </p:nvSpPr>
        <p:spPr>
          <a:xfrm>
            <a:off x="533520" y="4861080"/>
            <a:ext cx="213336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C0DB505-B74B-4F45-BB3C-84C3CB9AF2AD}" type="slidenum">
              <a:rPr b="0" lang="en-US" sz="9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the proble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0" name="Content Placeholder 3" descr=""/>
          <p:cNvPicPr/>
          <p:nvPr/>
        </p:nvPicPr>
        <p:blipFill>
          <a:blip r:embed="rId1"/>
          <a:stretch/>
        </p:blipFill>
        <p:spPr>
          <a:xfrm>
            <a:off x="536400" y="1146240"/>
            <a:ext cx="8229600" cy="3389400"/>
          </a:xfrm>
          <a:prstGeom prst="rect">
            <a:avLst/>
          </a:prstGeom>
          <a:ln w="0">
            <a:noFill/>
          </a:ln>
        </p:spPr>
      </p:pic>
      <p:sp>
        <p:nvSpPr>
          <p:cNvPr id="341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16B761D-E142-4DE4-B145-005219A6D531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the menu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3" name="Diagram 3" descr=""/>
          <p:cNvPicPr/>
          <p:nvPr/>
        </p:nvPicPr>
        <p:blipFill>
          <a:blip r:embed="rId1"/>
          <a:stretch/>
        </p:blipFill>
        <p:spPr>
          <a:xfrm>
            <a:off x="1603440" y="817560"/>
            <a:ext cx="6095880" cy="3930480"/>
          </a:xfrm>
          <a:prstGeom prst="rect">
            <a:avLst/>
          </a:prstGeom>
          <a:ln w="0">
            <a:noFill/>
          </a:ln>
        </p:spPr>
      </p:pic>
      <p:sp>
        <p:nvSpPr>
          <p:cNvPr id="344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7495F1-68AE-4A01-B084-E3ED27BD999D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60080" y="209160"/>
            <a:ext cx="855324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595959"/>
                </a:solidFill>
                <a:latin typeface="Arial"/>
                <a:ea typeface="Arial"/>
              </a:rPr>
              <a:t>Student choice – menu conten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6" name="Content Placeholder 5" descr=""/>
          <p:cNvPicPr/>
          <p:nvPr/>
        </p:nvPicPr>
        <p:blipFill>
          <a:blip r:embed="rId1"/>
          <a:stretch/>
        </p:blipFill>
        <p:spPr>
          <a:xfrm>
            <a:off x="536400" y="1133640"/>
            <a:ext cx="8229600" cy="3414600"/>
          </a:xfrm>
          <a:prstGeom prst="rect">
            <a:avLst/>
          </a:prstGeom>
          <a:ln w="0">
            <a:noFill/>
          </a:ln>
        </p:spPr>
      </p:pic>
      <p:sp>
        <p:nvSpPr>
          <p:cNvPr id="347" name="Slide Number Placeholder 2"/>
          <p:cNvSpPr/>
          <p:nvPr/>
        </p:nvSpPr>
        <p:spPr>
          <a:xfrm>
            <a:off x="533520" y="4800600"/>
            <a:ext cx="2133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AC4131B-FFB6-4375-8878-3A6B86432856}" type="slidenum">
              <a:rPr b="0" lang="en-US" sz="900" spc="-1" strike="noStrike">
                <a:solidFill>
                  <a:srgbClr val="f2f2f2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6T13:32:44Z</dcterms:created>
  <dc:creator>Ian Foss</dc:creator>
  <dc:description/>
  <dc:language>en-US</dc:language>
  <cp:lastModifiedBy>Authorised User</cp:lastModifiedBy>
  <cp:lastPrinted>2012-09-05T16:31:24Z</cp:lastPrinted>
  <dcterms:modified xsi:type="dcterms:W3CDTF">2016-11-18T16:41:31Z</dcterms:modified>
  <cp:revision>36</cp:revision>
  <dc:subject/>
  <dc:title>Type Session Title Her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337D63EE5034904FBE124CE4C93FC8B0</vt:lpwstr>
  </property>
  <property fmtid="{D5CDD505-2E9C-101B-9397-08002B2CF9AE}" pid="3" name="_dlc_DocId">
    <vt:lpwstr>ZQHRFS737ZVJ-391-3</vt:lpwstr>
  </property>
  <property fmtid="{D5CDD505-2E9C-101B-9397-08002B2CF9AE}" pid="4" name="_dlc_DocIdItemGuid">
    <vt:lpwstr>8f810f7d-8a11-484d-ad7f-0aeb8d6ca03d</vt:lpwstr>
  </property>
  <property fmtid="{D5CDD505-2E9C-101B-9397-08002B2CF9AE}" pid="5" name="_dlc_DocIdUrl">
    <vt:lpwstr>https://fsa.share.ed.gov/as/comm/_layouts/DocIdRedir.aspx?ID=ZQHRFS737ZVJ-391-3, ZQHRFS737ZVJ-391-3</vt:lpwstr>
  </property>
</Properties>
</file>