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</p:sldIdLst>
  <p:sldSz cx="9144000" cy="5145088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1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399600" y="692280"/>
            <a:ext cx="61470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12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13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B3594-41B8-4670-BDB0-DCE98CCCFB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7DA9F-1329-4AFF-96A9-51431847E4C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2569F-8871-4F5C-93BF-4DB3E850D3B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6A5F5-BC3F-43E2-9D44-95BEA905398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22780-A98D-4060-A5F1-BB69F756DE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54B23-9F26-41F8-9B8D-895AC89E1A9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37AFC-011C-4CBF-8762-420C9D41884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500AE-3044-4DD5-90AC-D530B3DE643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E7F1F-4ED4-4097-A46A-E6EE0DCC2B9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77CDD-11DF-4FDA-9285-09A1361AA5C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CAB93-A61F-4269-8D30-A8AEEB1011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27846-D6C0-45D1-83D6-237D9363788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93537-0B79-4D14-87EB-99F5D34D3BB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CB60E-90B4-4F4F-AE4C-122CF65BBE4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81A79-2470-4670-8895-D524638F545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F0A4F-108C-4CDB-9A75-C6D7D7DBBB4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422CA-6A77-4DAB-BEE6-28A5ED33090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BDA49-11CF-43C2-BE39-EC33B86F21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64133-BBD3-4E72-8A67-C8D2E22C118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13BE6-7F8D-46ED-A0E3-C5EF572988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36873-4B7A-426C-900C-517B80B7E79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2E732-7835-475A-B1A3-F18E82B96D6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39BB3-3794-4AC2-8E1E-2140063B8FC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8CD3E-9508-4A97-BF85-CD2765AC487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B5C24-A264-460E-8782-9D3D822E688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9E3FC-FF4F-4EA4-B893-5B817243336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57A77-8C49-4DF1-8293-120E1A39EA1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AA3CA-8EBA-4F5B-8ACD-15F58CFD6FA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D7D01-CEEF-4C3B-AA1D-AF267C8AE66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9CBE9-3F7F-4461-BCF4-9B8E0F86B2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A379B-CE7F-459B-96E1-052974CC4B1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5AD93-4C0D-47FA-8FAA-0B31087696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ABFD6-330F-43A6-9224-6A12F5100FA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69938-4A61-4D51-9968-F26D6E0380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D6052-54BA-44D4-A560-DAD92FE52E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B11D0-2D9D-411A-9B24-8DB3A864D47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9274-6F11-436A-A4D3-3BF7389F8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F10F-A46A-4A7C-8D72-251B94BA3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933C-0BAF-4DB0-A880-2817B5C35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42E2-FC84-48D0-812C-7EAAF2D66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D4E9-EE7B-45CA-B067-E0D1203CA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C018-7078-4DA3-B32D-A6C798A100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A4B8F-9655-4AF1-8860-EBB5F06299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53878-A1C0-439E-83FD-602B219DF9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A27F5-1D99-48E1-83C0-942FD85C8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9BE3-2706-4A48-9639-AF9621AD15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473A6-AC13-425E-ADD6-B1A3A76FC1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5E59F-9542-4BC6-A4B4-4A6EF98E9B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64A38-7E83-482E-97C6-73C6F0419A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FA8C4-900C-4BF9-887C-458AAD1D3A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49A7D-AB06-4EA9-9AB8-84F71EA191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67D55-D589-4FBD-B35E-2057D838DF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A127-91D8-49AB-A43A-1530F42DF4D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1088-9150-41CD-8B16-2BFA145330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8DD5D-3F8F-4193-BD9F-F2A1CAC24B4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BCC-F3B0-43BD-96C9-E47E6B933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4B4D-AF29-4940-B3A2-143BB21D814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ED3-A231-495F-A2D9-133CC32E3D7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D6E-C3B1-4A86-A23D-660DC88054F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F83-B723-4307-ADC7-0B2AD75A602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EF0-3917-4420-9A5A-786BA8CD6D2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8CE-B102-4518-82D3-484486F7029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CA7-B5E1-4300-962D-D468F8FA2E4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589-C438-40A7-B7AC-2DE6C4ADFD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5D7-FB47-464B-9F0B-52159F8D7F9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A12-1EA4-4356-9A6C-1B3C1F7DCB7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474-8A6C-4C77-A549-1A0A8E319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E7C2-304F-402D-88E5-D18A810F138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DEC-0AD4-4116-BEEC-CB52FA5E867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2F723-17D1-46F5-8BE3-8BA9249EF8A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1BFE1-56A3-447E-B90F-80691B86336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608E2-46D2-4B93-82DC-FAC8BC6E0AE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4E58D-1591-4D4C-A508-E706ABC6D5D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5B33E-5F61-40D4-A247-EDAD7C3954A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09624-F432-441A-B481-682E3F5A377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38D99-54B9-445A-8C72-D315536C4E0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F8998-5DAF-42AC-98BB-5822A413D70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816E3-CDA9-4AC8-AE2F-2735CED1B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9BCF-624E-48E2-8743-8F64F318D9F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8FCA5-941E-4278-AE2E-A0BAB198EA2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E635B-9180-40BC-8268-7B9B9920AC8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C57B8-BC1F-4562-9438-9FC960882B9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0980B9-DD2A-4EFB-AA0F-11B7E86D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2CC686-B766-4E32-9B3F-866F913E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242DB3-5903-4C4C-9454-B222003E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6BE8D9-94DD-408A-AA64-17BCD2E5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467A86-DBBC-4F49-BE70-FBE57116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961BA7-106D-475A-901C-4726AB79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EF24EE-048A-48BD-A6AB-0B27BA0F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2ABD-4D59-490C-AFB4-338CCE991CE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B8E560-2AA9-433A-BE3A-AD197FED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DD749C-9330-4D6E-B8D2-0010F41D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16DD07-5838-433F-93E5-4C412CE0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CCFB21-21FF-475C-8AC0-E93E382C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C769BD-8448-41E3-B054-8EC6B6B6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58851-2F5C-4C0A-9D60-17CAAF07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370734-C1CA-4160-AFB7-6B97515C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E7CCFB-0B63-4D90-B289-D79D1C7B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160CA5-A5A5-4170-A69D-80B2F152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25EEA4-499E-417C-8877-FEBBF53A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5C910-1D12-4F95-AD75-EC8A4219B10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A71FA0-6207-43B9-8221-7F2DFBC8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8FF872-9E69-4176-8D31-81A74DF3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61FC99-430A-41AA-8FB6-B7E7E727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695742-69BE-4860-9E31-8E1A5BF1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C3492D-158D-4DF1-878A-7CD4EECE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412593-3AC3-4692-97DE-31C22ED7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B3AF55-30B2-4F97-B208-77B6F1BB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F16C9-A43C-4908-9524-4FD623560FF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ldNum" idx="2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01270-DEB0-4C83-B388-F3101C7726AF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sldNum" idx="3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3BE4D-D5A4-4E97-B61C-3E1A3A8007BD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ldNum" idx="4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1765D-30EC-430A-A3CB-9B7D2C19F9D5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dt" idx="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04BB5-9282-4B7F-A35C-BE7249F1EE3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dt" idx="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ftr" idx="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1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F3EFC-74B9-4674-8F1C-BA66A279023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6840" y="2857320"/>
            <a:ext cx="84582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John Kolotos | Nov - Dec 201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U.S. Department of 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2016 FSA Training Conference for Financial Aid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20024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Arial"/>
                <a:ea typeface="Arial"/>
              </a:rPr>
              <a:t>Cash Management Regulations Overvie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itle 3"/>
          <p:cNvSpPr/>
          <p:nvPr/>
        </p:nvSpPr>
        <p:spPr>
          <a:xfrm>
            <a:off x="0" y="228600"/>
            <a:ext cx="35053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Arial"/>
              </a:rPr>
              <a:t>Session 2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tudent choice – menu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Content Placeholder 3" descr=""/>
          <p:cNvPicPr/>
          <p:nvPr/>
        </p:nvPicPr>
        <p:blipFill>
          <a:blip r:embed="rId1"/>
          <a:stretch/>
        </p:blipFill>
        <p:spPr>
          <a:xfrm>
            <a:off x="536400" y="1133640"/>
            <a:ext cx="8229600" cy="3414600"/>
          </a:xfrm>
          <a:prstGeom prst="rect">
            <a:avLst/>
          </a:prstGeom>
          <a:ln w="0">
            <a:noFill/>
          </a:ln>
        </p:spPr>
      </p:pic>
      <p:sp>
        <p:nvSpPr>
          <p:cNvPr id="350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C8C85-EB40-46D4-A32D-476B4AE8727D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tudent cons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Content Placeholder 3" descr=""/>
          <p:cNvPicPr/>
          <p:nvPr/>
        </p:nvPicPr>
        <p:blipFill>
          <a:blip r:embed="rId1"/>
          <a:stretch/>
        </p:blipFill>
        <p:spPr>
          <a:xfrm>
            <a:off x="523800" y="1146240"/>
            <a:ext cx="8248680" cy="3389400"/>
          </a:xfrm>
          <a:prstGeom prst="rect">
            <a:avLst/>
          </a:prstGeom>
          <a:ln w="0">
            <a:noFill/>
          </a:ln>
        </p:spPr>
      </p:pic>
      <p:sp>
        <p:nvSpPr>
          <p:cNvPr id="353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5F56D-1750-4C3C-B625-8678AA19433B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0080" y="13320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Content Placeholder 3" descr=""/>
          <p:cNvPicPr/>
          <p:nvPr/>
        </p:nvPicPr>
        <p:blipFill>
          <a:blip r:embed="rId1"/>
          <a:stretch/>
        </p:blipFill>
        <p:spPr>
          <a:xfrm>
            <a:off x="480960" y="1146240"/>
            <a:ext cx="8298000" cy="3230640"/>
          </a:xfrm>
          <a:prstGeom prst="rect">
            <a:avLst/>
          </a:prstGeom>
          <a:ln w="0">
            <a:noFill/>
          </a:ln>
        </p:spPr>
      </p:pic>
      <p:sp>
        <p:nvSpPr>
          <p:cNvPr id="356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79982-4618-4D2F-9D6E-F5EEA0B1C691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0080" y="13320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Disclos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Content Placeholder 3" descr=""/>
          <p:cNvPicPr/>
          <p:nvPr/>
        </p:nvPicPr>
        <p:blipFill>
          <a:blip r:embed="rId1"/>
          <a:stretch/>
        </p:blipFill>
        <p:spPr>
          <a:xfrm>
            <a:off x="523800" y="1047600"/>
            <a:ext cx="8296200" cy="3488040"/>
          </a:xfrm>
          <a:prstGeom prst="rect">
            <a:avLst/>
          </a:prstGeom>
          <a:ln w="0">
            <a:noFill/>
          </a:ln>
        </p:spPr>
      </p:pic>
      <p:sp>
        <p:nvSpPr>
          <p:cNvPr id="359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70368-1410-4240-A183-E2DCA481F71B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150444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Arial"/>
                <a:ea typeface="Arial"/>
              </a:rPr>
              <a:t>T1 and T2 arrangements (with sufficient credit balance recipients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2"/>
          <p:cNvSpPr/>
          <p:nvPr/>
        </p:nvSpPr>
        <p:spPr>
          <a:xfrm>
            <a:off x="533520" y="490212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A71AC-20F1-4C3C-8C21-9B8426C927D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T2 </a:t>
            </a:r>
            <a:r>
              <a:rPr b="0" i="1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De Minimis</a:t>
            </a: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 Threshol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97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535353"/>
                </a:solidFill>
                <a:latin typeface="Arial"/>
                <a:ea typeface="Arial"/>
              </a:rPr>
              <a:t>Some regulatory provisions limited to T2 arrangements with a sufficient number of credit balance recipient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535353"/>
                </a:solidFill>
                <a:latin typeface="Arial"/>
                <a:ea typeface="Arial"/>
              </a:rPr>
              <a:t>The school must comply with the additional requirements if during the school’s prior three award years, either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018ED-77F2-44C5-A349-899319DCB0B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Diagram 5" descr=""/>
          <p:cNvPicPr/>
          <p:nvPr/>
        </p:nvPicPr>
        <p:blipFill>
          <a:blip r:embed="rId1"/>
          <a:stretch/>
        </p:blipFill>
        <p:spPr>
          <a:xfrm>
            <a:off x="609480" y="1884240"/>
            <a:ext cx="7772400" cy="2462400"/>
          </a:xfrm>
          <a:prstGeom prst="rect">
            <a:avLst/>
          </a:prstGeom>
          <a:ln w="0">
            <a:noFill/>
          </a:ln>
        </p:spPr>
      </p:pic>
      <p:sp>
        <p:nvSpPr>
          <p:cNvPr id="366" name="Content Placeholder 2"/>
          <p:cNvSpPr/>
          <p:nvPr/>
        </p:nvSpPr>
        <p:spPr>
          <a:xfrm>
            <a:off x="457200" y="428616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1 arrangements do not have a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e minimi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sho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Content Placeholder 2"/>
          <p:cNvSpPr/>
          <p:nvPr/>
        </p:nvSpPr>
        <p:spPr>
          <a:xfrm>
            <a:off x="4191120" y="297180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95877-371F-4875-BD1B-4E87A81A44B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0080" y="28548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595959"/>
                </a:solidFill>
                <a:latin typeface="Arial"/>
                <a:ea typeface="Arial"/>
              </a:rPr>
              <a:t>Summary Cost Disclosur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560" y="97164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Required for accounts offered under T1 arrangements or T2 arrangements with more than a </a:t>
            </a:r>
            <a:r>
              <a:rPr b="0" i="1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de minimis</a:t>
            </a: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 number of credit balance recipi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Requirement begins on July 1,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If the institution had 30 or more credit balance recipients in the prior award year, it must publish the following on the same website as contract disclosu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83B58-D219-47BA-95D6-F07F8AECD71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Diagram 6" descr=""/>
          <p:cNvPicPr/>
          <p:nvPr/>
        </p:nvPicPr>
        <p:blipFill>
          <a:blip r:embed="rId1"/>
          <a:stretch/>
        </p:blipFill>
        <p:spPr>
          <a:xfrm>
            <a:off x="596880" y="2230560"/>
            <a:ext cx="8004240" cy="2573280"/>
          </a:xfrm>
          <a:prstGeom prst="rect">
            <a:avLst/>
          </a:prstGeom>
          <a:ln w="0">
            <a:noFill/>
          </a:ln>
        </p:spPr>
      </p:pic>
      <p:sp>
        <p:nvSpPr>
          <p:cNvPr id="373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9F33E-DFF1-4C81-9D6E-13301728270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Best Interests of Stud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uture contracts, fees, and technological changes must occur without harming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Required for accounts offered under T1 arrangements or T2 arrangements with more than a </a:t>
            </a:r>
            <a:r>
              <a:rPr b="0" i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de minimis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 number of credit balance recip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F3BDE-AB1E-4771-A8AE-B243A127FE95}" type="slidenum">
              <a:rPr b="0" lang="en-US" sz="9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Best Interest of Stud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Diagram 2" descr=""/>
          <p:cNvPicPr/>
          <p:nvPr/>
        </p:nvPicPr>
        <p:blipFill>
          <a:blip r:embed="rId1"/>
          <a:stretch/>
        </p:blipFill>
        <p:spPr>
          <a:xfrm>
            <a:off x="566640" y="957240"/>
            <a:ext cx="7986960" cy="3681360"/>
          </a:xfrm>
          <a:prstGeom prst="rect">
            <a:avLst/>
          </a:prstGeom>
          <a:ln w="0">
            <a:noFill/>
          </a:ln>
        </p:spPr>
      </p:pic>
      <p:sp>
        <p:nvSpPr>
          <p:cNvPr id="379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621AB-FD9B-4595-8727-EEB2610FF9DC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Convenient ATM Ac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16002-6762-4B73-892E-83BFDF721D4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Content Placeholder 2"/>
          <p:cNvSpPr/>
          <p:nvPr/>
        </p:nvSpPr>
        <p:spPr>
          <a:xfrm>
            <a:off x="457200" y="1257480"/>
            <a:ext cx="82296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rcharge-free ATMs must be present in sufficient number and must be housed and serviced such that Title IV funds are reasonably available to stud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accounts offered under T1 arrangements or T2 arrangements with more than a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e minim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number of credit balance recipi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C971D-42AF-462D-A8C1-4DC065C2A3F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211428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Arial"/>
                <a:ea typeface="Arial"/>
              </a:rPr>
              <a:t>Debit Card Provis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2"/>
          <p:cNvSpPr/>
          <p:nvPr/>
        </p:nvSpPr>
        <p:spPr>
          <a:xfrm>
            <a:off x="533520" y="48690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E9260-4DFD-42E8-9A81-75D4186CAA4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Direct Disbursements to Stud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Content Placeholder 2" descr=""/>
          <p:cNvPicPr/>
          <p:nvPr/>
        </p:nvPicPr>
        <p:blipFill>
          <a:blip r:embed="rId1"/>
          <a:stretch/>
        </p:blipFill>
        <p:spPr>
          <a:xfrm>
            <a:off x="536400" y="1146240"/>
            <a:ext cx="8278920" cy="3389400"/>
          </a:xfrm>
          <a:prstGeom prst="rect">
            <a:avLst/>
          </a:prstGeom>
          <a:ln w="0">
            <a:noFill/>
          </a:ln>
        </p:spPr>
      </p:pic>
      <p:sp>
        <p:nvSpPr>
          <p:cNvPr id="386" name="Slide Number Placeholder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0C922-65B7-4540-A63C-08C6C6673AC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D1931-8A6F-4814-8D0F-C28FCEA89A7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196164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Arial"/>
                <a:ea typeface="Arial"/>
              </a:rPr>
              <a:t>Other Cash Management Provis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533520" y="48690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816E3-8712-47C5-8D40-F1A0CF24C4B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Overview of Cha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Content Placeholder 2" descr=""/>
          <p:cNvPicPr/>
          <p:nvPr/>
        </p:nvPicPr>
        <p:blipFill>
          <a:blip r:embed="rId1"/>
          <a:stretch/>
        </p:blipFill>
        <p:spPr>
          <a:xfrm>
            <a:off x="536400" y="1133640"/>
            <a:ext cx="8229600" cy="3414600"/>
          </a:xfrm>
          <a:prstGeom prst="rect">
            <a:avLst/>
          </a:prstGeom>
          <a:ln w="0">
            <a:noFill/>
          </a:ln>
        </p:spPr>
      </p:pic>
      <p:sp>
        <p:nvSpPr>
          <p:cNvPr id="392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117A2-991E-4BA5-BFDF-7D258DE81BA2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0080" y="13320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Risk of Lo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Content Placeholder 2" descr=""/>
          <p:cNvPicPr/>
          <p:nvPr/>
        </p:nvPicPr>
        <p:blipFill>
          <a:blip r:embed="rId1"/>
          <a:stretch/>
        </p:blipFill>
        <p:spPr>
          <a:xfrm>
            <a:off x="493560" y="1006560"/>
            <a:ext cx="8285400" cy="3406680"/>
          </a:xfrm>
          <a:prstGeom prst="rect">
            <a:avLst/>
          </a:prstGeom>
          <a:ln w="0">
            <a:noFill/>
          </a:ln>
        </p:spPr>
      </p:pic>
      <p:sp>
        <p:nvSpPr>
          <p:cNvPr id="395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B7E1B-6EEA-474A-8BF9-A0DE4579BCE2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0080" y="13320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Reimbursement and HC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Content Placeholder 5" descr=""/>
          <p:cNvPicPr/>
          <p:nvPr/>
        </p:nvPicPr>
        <p:blipFill>
          <a:blip r:embed="rId1"/>
          <a:stretch/>
        </p:blipFill>
        <p:spPr>
          <a:xfrm>
            <a:off x="476280" y="1139760"/>
            <a:ext cx="8296200" cy="3395880"/>
          </a:xfrm>
          <a:prstGeom prst="rect">
            <a:avLst/>
          </a:prstGeom>
          <a:ln w="0">
            <a:noFill/>
          </a:ln>
        </p:spPr>
      </p:pic>
      <p:sp>
        <p:nvSpPr>
          <p:cNvPr id="398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096C8-F1BE-4329-85C5-5A31741F7FE5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0080" y="18072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Maintaining &amp; Accounting for Fu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Content Placeholder 4" descr=""/>
          <p:cNvPicPr/>
          <p:nvPr/>
        </p:nvPicPr>
        <p:blipFill>
          <a:blip r:embed="rId1"/>
          <a:stretch/>
        </p:blipFill>
        <p:spPr>
          <a:xfrm>
            <a:off x="822240" y="1103400"/>
            <a:ext cx="7426440" cy="347508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09DD5-0E22-4E40-BA92-F4455E595838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0080" y="18072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Maintaining &amp; Accounting for Fu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Content Placeholder 2" descr=""/>
          <p:cNvPicPr/>
          <p:nvPr/>
        </p:nvPicPr>
        <p:blipFill>
          <a:blip r:embed="rId1"/>
          <a:stretch/>
        </p:blipFill>
        <p:spPr>
          <a:xfrm>
            <a:off x="536400" y="1133640"/>
            <a:ext cx="8229600" cy="3414600"/>
          </a:xfrm>
          <a:prstGeom prst="rect">
            <a:avLst/>
          </a:prstGeom>
          <a:ln w="0">
            <a:noFill/>
          </a:ln>
        </p:spPr>
      </p:pic>
      <p:sp>
        <p:nvSpPr>
          <p:cNvPr id="404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0F696-39D2-4F70-A371-AB428A6C6E29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0080" y="18072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Maintaining &amp; Accounting for Fu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6" name="Content Placeholder 3" descr=""/>
          <p:cNvPicPr/>
          <p:nvPr/>
        </p:nvPicPr>
        <p:blipFill>
          <a:blip r:embed="rId1"/>
          <a:stretch/>
        </p:blipFill>
        <p:spPr>
          <a:xfrm>
            <a:off x="536400" y="1133640"/>
            <a:ext cx="8229600" cy="3414600"/>
          </a:xfrm>
          <a:prstGeom prst="rect">
            <a:avLst/>
          </a:prstGeom>
          <a:ln w="0">
            <a:noFill/>
          </a:ln>
        </p:spPr>
      </p:pic>
      <p:sp>
        <p:nvSpPr>
          <p:cNvPr id="407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6AC47-4756-4591-A2D6-611B25B53B91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oreign Schoo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Content Placeholder 4" descr=""/>
          <p:cNvPicPr/>
          <p:nvPr/>
        </p:nvPicPr>
        <p:blipFill>
          <a:blip r:embed="rId1"/>
          <a:stretch/>
        </p:blipFill>
        <p:spPr>
          <a:xfrm>
            <a:off x="536400" y="1122480"/>
            <a:ext cx="8229600" cy="3425760"/>
          </a:xfrm>
          <a:prstGeom prst="rect">
            <a:avLst/>
          </a:prstGeom>
          <a:ln w="0">
            <a:noFill/>
          </a:ln>
        </p:spPr>
      </p:pic>
      <p:sp>
        <p:nvSpPr>
          <p:cNvPr id="410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91836-D264-4D2D-9E88-E1BE87FDE7E2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Disbursement by Payment Peri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Content Placeholder 4" descr=""/>
          <p:cNvPicPr/>
          <p:nvPr/>
        </p:nvPicPr>
        <p:blipFill>
          <a:blip r:embed="rId1"/>
          <a:stretch/>
        </p:blipFill>
        <p:spPr>
          <a:xfrm>
            <a:off x="536400" y="1146240"/>
            <a:ext cx="8236080" cy="3389400"/>
          </a:xfrm>
          <a:prstGeom prst="rect">
            <a:avLst/>
          </a:prstGeom>
          <a:ln w="0">
            <a:noFill/>
          </a:ln>
        </p:spPr>
      </p:pic>
      <p:sp>
        <p:nvSpPr>
          <p:cNvPr id="413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CE431-9D7B-4ECC-82DE-B1C94D430305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Overview of Regul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Content Placeholder 3" descr=""/>
          <p:cNvPicPr/>
          <p:nvPr/>
        </p:nvPicPr>
        <p:blipFill>
          <a:blip r:embed="rId1"/>
          <a:stretch/>
        </p:blipFill>
        <p:spPr>
          <a:xfrm>
            <a:off x="523800" y="1146240"/>
            <a:ext cx="8334360" cy="3402000"/>
          </a:xfrm>
          <a:prstGeom prst="rect">
            <a:avLst/>
          </a:prstGeom>
          <a:ln w="0">
            <a:noFill/>
          </a:ln>
        </p:spPr>
      </p:pic>
      <p:sp>
        <p:nvSpPr>
          <p:cNvPr id="330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B39DF-17BC-4E57-8A47-78BB98049157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Disbursement &amp; Upfront Cos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TextBox 2" descr=""/>
          <p:cNvPicPr/>
          <p:nvPr/>
        </p:nvPicPr>
        <p:blipFill>
          <a:blip r:embed="rId1"/>
          <a:stretch/>
        </p:blipFill>
        <p:spPr>
          <a:xfrm>
            <a:off x="536400" y="1920960"/>
            <a:ext cx="7998120" cy="573120"/>
          </a:xfrm>
          <a:prstGeom prst="rect">
            <a:avLst/>
          </a:prstGeom>
          <a:ln w="0">
            <a:noFill/>
          </a:ln>
        </p:spPr>
      </p:pic>
      <p:pic>
        <p:nvPicPr>
          <p:cNvPr id="416" name="TextBox 4" descr=""/>
          <p:cNvPicPr/>
          <p:nvPr/>
        </p:nvPicPr>
        <p:blipFill>
          <a:blip r:embed="rId2"/>
          <a:stretch/>
        </p:blipFill>
        <p:spPr>
          <a:xfrm>
            <a:off x="536400" y="3333600"/>
            <a:ext cx="7998120" cy="854280"/>
          </a:xfrm>
          <a:prstGeom prst="rect">
            <a:avLst/>
          </a:prstGeom>
          <a:ln w="0">
            <a:noFill/>
          </a:ln>
        </p:spPr>
      </p:pic>
      <p:sp>
        <p:nvSpPr>
          <p:cNvPr id="417" name="TextBox 5"/>
          <p:cNvSpPr/>
          <p:nvPr/>
        </p:nvSpPr>
        <p:spPr>
          <a:xfrm>
            <a:off x="315000" y="113184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programs with substantially equal PP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310320" y="272412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ll other progra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4A25D-2FE0-4C4C-83E9-EFF9D41EFD23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0080" y="18072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rior-Year Char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Content Placeholder 4" descr=""/>
          <p:cNvPicPr/>
          <p:nvPr/>
        </p:nvPicPr>
        <p:blipFill>
          <a:blip r:embed="rId1"/>
          <a:stretch/>
        </p:blipFill>
        <p:spPr>
          <a:xfrm>
            <a:off x="536400" y="1146240"/>
            <a:ext cx="8229600" cy="3389400"/>
          </a:xfrm>
          <a:prstGeom prst="rect">
            <a:avLst/>
          </a:prstGeom>
          <a:ln w="0">
            <a:noFill/>
          </a:ln>
        </p:spPr>
      </p:pic>
      <p:sp>
        <p:nvSpPr>
          <p:cNvPr id="422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8EAEC-08E7-4589-BBC4-23CC3770350D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0080" y="18072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Books/Supplies in Tuition &amp; F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Content Placeholder 4" descr=""/>
          <p:cNvPicPr/>
          <p:nvPr/>
        </p:nvPicPr>
        <p:blipFill>
          <a:blip r:embed="rId1"/>
          <a:stretch/>
        </p:blipFill>
        <p:spPr>
          <a:xfrm>
            <a:off x="480960" y="858960"/>
            <a:ext cx="8291520" cy="3463920"/>
          </a:xfrm>
          <a:prstGeom prst="rect">
            <a:avLst/>
          </a:prstGeom>
          <a:ln w="0">
            <a:noFill/>
          </a:ln>
        </p:spPr>
      </p:pic>
      <p:sp>
        <p:nvSpPr>
          <p:cNvPr id="425" name="TextBox 5"/>
          <p:cNvSpPr/>
          <p:nvPr/>
        </p:nvSpPr>
        <p:spPr>
          <a:xfrm>
            <a:off x="304920" y="4411800"/>
            <a:ext cx="86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* Also an opt out of the credit balance based books and supplies provision; now applies to all stude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E295F-22AE-4670-96DF-3AAA87883CA3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0080" y="18072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Books/Supplies in Tuition &amp; F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Content Placeholder 2" descr=""/>
          <p:cNvPicPr/>
          <p:nvPr/>
        </p:nvPicPr>
        <p:blipFill>
          <a:blip r:embed="rId1"/>
          <a:stretch/>
        </p:blipFill>
        <p:spPr>
          <a:xfrm>
            <a:off x="450720" y="1073160"/>
            <a:ext cx="8412120" cy="3462480"/>
          </a:xfrm>
          <a:prstGeom prst="rect">
            <a:avLst/>
          </a:prstGeom>
          <a:ln w="0">
            <a:noFill/>
          </a:ln>
        </p:spPr>
      </p:pic>
      <p:sp>
        <p:nvSpPr>
          <p:cNvPr id="429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065F3-D782-4A27-A7F6-2770D4DBBB4F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0080" y="13320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Confirm Eligibility &amp; Disburs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Content Placeholder 4" descr=""/>
          <p:cNvPicPr/>
          <p:nvPr/>
        </p:nvPicPr>
        <p:blipFill>
          <a:blip r:embed="rId1"/>
          <a:stretch/>
        </p:blipFill>
        <p:spPr>
          <a:xfrm>
            <a:off x="523800" y="1116000"/>
            <a:ext cx="8255160" cy="3548160"/>
          </a:xfrm>
          <a:prstGeom prst="rect">
            <a:avLst/>
          </a:prstGeom>
          <a:ln w="0">
            <a:noFill/>
          </a:ln>
        </p:spPr>
      </p:pic>
      <p:sp>
        <p:nvSpPr>
          <p:cNvPr id="432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EEDF2-5650-435D-B4FF-B10D9C9AB810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01D39-7CC0-41BD-9D00-C99067937DAB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Picture 2" descr="C:\Users\Joe.Aiello\Desktop\Question-and-Answer.png"/>
          <p:cNvPicPr/>
          <p:nvPr/>
        </p:nvPicPr>
        <p:blipFill>
          <a:blip r:embed="rId1"/>
          <a:stretch/>
        </p:blipFill>
        <p:spPr>
          <a:xfrm>
            <a:off x="3295800" y="1465200"/>
            <a:ext cx="24955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Who is cover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Content Placeholder 3" descr=""/>
          <p:cNvPicPr/>
          <p:nvPr/>
        </p:nvPicPr>
        <p:blipFill>
          <a:blip r:embed="rId1"/>
          <a:stretch/>
        </p:blipFill>
        <p:spPr>
          <a:xfrm>
            <a:off x="487440" y="1146240"/>
            <a:ext cx="8332560" cy="3389400"/>
          </a:xfrm>
          <a:prstGeom prst="rect">
            <a:avLst/>
          </a:prstGeom>
          <a:ln w="0">
            <a:noFill/>
          </a:ln>
        </p:spPr>
      </p:pic>
      <p:sp>
        <p:nvSpPr>
          <p:cNvPr id="333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B840C-4EF9-4CB1-B1BC-01F640FEE2BB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Overview of new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Content Placeholder 3" descr=""/>
          <p:cNvPicPr/>
          <p:nvPr/>
        </p:nvPicPr>
        <p:blipFill>
          <a:blip r:embed="rId1"/>
          <a:stretch/>
        </p:blipFill>
        <p:spPr>
          <a:xfrm>
            <a:off x="536400" y="1109520"/>
            <a:ext cx="8253720" cy="3426120"/>
          </a:xfrm>
          <a:prstGeom prst="rect">
            <a:avLst/>
          </a:prstGeom>
          <a:ln w="0">
            <a:noFill/>
          </a:ln>
        </p:spPr>
      </p:pic>
      <p:sp>
        <p:nvSpPr>
          <p:cNvPr id="336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84236-A1B3-4124-BEE6-01DBDF15EC79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211428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Arial"/>
                <a:ea typeface="Arial"/>
              </a:rPr>
              <a:t>T1 and T2 Arrangem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2"/>
          <p:cNvSpPr/>
          <p:nvPr/>
        </p:nvSpPr>
        <p:spPr>
          <a:xfrm>
            <a:off x="533520" y="4861080"/>
            <a:ext cx="2133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42550-635F-4978-BDC0-DB1BD4266A3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tudent choice – the probl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Content Placeholder 3" descr=""/>
          <p:cNvPicPr/>
          <p:nvPr/>
        </p:nvPicPr>
        <p:blipFill>
          <a:blip r:embed="rId1"/>
          <a:stretch/>
        </p:blipFill>
        <p:spPr>
          <a:xfrm>
            <a:off x="536400" y="1146240"/>
            <a:ext cx="8229600" cy="3389400"/>
          </a:xfrm>
          <a:prstGeom prst="rect">
            <a:avLst/>
          </a:prstGeom>
          <a:ln w="0">
            <a:noFill/>
          </a:ln>
        </p:spPr>
      </p:pic>
      <p:sp>
        <p:nvSpPr>
          <p:cNvPr id="341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7D92B-0009-4A57-9BFA-4FEDF6BE4261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tudent choice – the men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Diagram 3" descr=""/>
          <p:cNvPicPr/>
          <p:nvPr/>
        </p:nvPicPr>
        <p:blipFill>
          <a:blip r:embed="rId1"/>
          <a:stretch/>
        </p:blipFill>
        <p:spPr>
          <a:xfrm>
            <a:off x="1603440" y="817560"/>
            <a:ext cx="6095880" cy="3930480"/>
          </a:xfrm>
          <a:prstGeom prst="rect">
            <a:avLst/>
          </a:prstGeom>
          <a:ln w="0">
            <a:noFill/>
          </a:ln>
        </p:spPr>
      </p:pic>
      <p:sp>
        <p:nvSpPr>
          <p:cNvPr id="344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2C68C-9B4C-4D80-ABAC-0479A397404E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tudent choice – menu 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Content Placeholder 5" descr=""/>
          <p:cNvPicPr/>
          <p:nvPr/>
        </p:nvPicPr>
        <p:blipFill>
          <a:blip r:embed="rId1"/>
          <a:stretch/>
        </p:blipFill>
        <p:spPr>
          <a:xfrm>
            <a:off x="536400" y="1133640"/>
            <a:ext cx="8229600" cy="341460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2DA8D-B85F-49EB-BB43-FE0FD3114806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6T13:32:44Z</dcterms:created>
  <dc:creator>Ian Foss</dc:creator>
  <dc:description/>
  <dc:language>en-US</dc:language>
  <cp:lastModifiedBy>Authorised User</cp:lastModifiedBy>
  <cp:lastPrinted>2012-09-05T16:31:24Z</cp:lastPrinted>
  <dcterms:modified xsi:type="dcterms:W3CDTF">2016-11-18T16:41:31Z</dcterms:modified>
  <cp:revision>36</cp:revision>
  <dc:subject/>
  <dc:title>Type Session Title He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37D63EE5034904FBE124CE4C93FC8B0</vt:lpwstr>
  </property>
  <property fmtid="{D5CDD505-2E9C-101B-9397-08002B2CF9AE}" pid="3" name="_dlc_DocId">
    <vt:lpwstr>ZQHRFS737ZVJ-391-3</vt:lpwstr>
  </property>
  <property fmtid="{D5CDD505-2E9C-101B-9397-08002B2CF9AE}" pid="4" name="_dlc_DocIdItemGuid">
    <vt:lpwstr>8f810f7d-8a11-484d-ad7f-0aeb8d6ca03d</vt:lpwstr>
  </property>
  <property fmtid="{D5CDD505-2E9C-101B-9397-08002B2CF9AE}" pid="5" name="_dlc_DocIdUrl">
    <vt:lpwstr>https://fsa.share.ed.gov/as/comm/_layouts/DocIdRedir.aspx?ID=ZQHRFS737ZVJ-391-3, ZQHRFS737ZVJ-391-3</vt:lpwstr>
  </property>
</Properties>
</file>