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  <p:sldId id="295" r:id="rId103"/>
    <p:sldId id="296" r:id="rId104"/>
    <p:sldId id="297" r:id="rId105"/>
    <p:sldId id="298" r:id="rId106"/>
    <p:sldId id="299" r:id="rId107"/>
    <p:sldId id="300" r:id="rId108"/>
    <p:sldId id="301" r:id="rId109"/>
    <p:sldId id="302" r:id="rId110"/>
    <p:sldId id="303" r:id="rId111"/>
    <p:sldId id="304" r:id="rId112"/>
    <p:sldId id="305" r:id="rId113"/>
    <p:sldId id="306" r:id="rId114"/>
    <p:sldId id="307" r:id="rId115"/>
    <p:sldId id="308" r:id="rId116"/>
    <p:sldId id="309" r:id="rId117"/>
    <p:sldId id="310" r:id="rId118"/>
    <p:sldId id="311" r:id="rId119"/>
    <p:sldId id="312" r:id="rId120"/>
    <p:sldId id="313" r:id="rId121"/>
    <p:sldId id="314" r:id="rId122"/>
    <p:sldId id="315" r:id="rId123"/>
    <p:sldId id="316" r:id="rId124"/>
    <p:sldId id="317" r:id="rId125"/>
    <p:sldId id="318" r:id="rId126"/>
    <p:sldId id="319" r:id="rId127"/>
  </p:sldIdLst>
  <p:sldSz cx="9144000" cy="5145088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slide" Target="slides/slide40.xml"/><Relationship Id="rId104" Type="http://schemas.openxmlformats.org/officeDocument/2006/relationships/slide" Target="slides/slide41.xml"/><Relationship Id="rId105" Type="http://schemas.openxmlformats.org/officeDocument/2006/relationships/slide" Target="slides/slide42.xml"/><Relationship Id="rId106" Type="http://schemas.openxmlformats.org/officeDocument/2006/relationships/slide" Target="slides/slide43.xml"/><Relationship Id="rId107" Type="http://schemas.openxmlformats.org/officeDocument/2006/relationships/slide" Target="slides/slide44.xml"/><Relationship Id="rId108" Type="http://schemas.openxmlformats.org/officeDocument/2006/relationships/slide" Target="slides/slide45.xml"/><Relationship Id="rId109" Type="http://schemas.openxmlformats.org/officeDocument/2006/relationships/slide" Target="slides/slide46.xml"/><Relationship Id="rId110" Type="http://schemas.openxmlformats.org/officeDocument/2006/relationships/slide" Target="slides/slide47.xml"/><Relationship Id="rId111" Type="http://schemas.openxmlformats.org/officeDocument/2006/relationships/slide" Target="slides/slide48.xml"/><Relationship Id="rId112" Type="http://schemas.openxmlformats.org/officeDocument/2006/relationships/slide" Target="slides/slide49.xml"/><Relationship Id="rId113" Type="http://schemas.openxmlformats.org/officeDocument/2006/relationships/slide" Target="slides/slide50.xml"/><Relationship Id="rId114" Type="http://schemas.openxmlformats.org/officeDocument/2006/relationships/slide" Target="slides/slide51.xml"/><Relationship Id="rId115" Type="http://schemas.openxmlformats.org/officeDocument/2006/relationships/slide" Target="slides/slide52.xml"/><Relationship Id="rId116" Type="http://schemas.openxmlformats.org/officeDocument/2006/relationships/slide" Target="slides/slide53.xml"/><Relationship Id="rId117" Type="http://schemas.openxmlformats.org/officeDocument/2006/relationships/slide" Target="slides/slide54.xml"/><Relationship Id="rId118" Type="http://schemas.openxmlformats.org/officeDocument/2006/relationships/slide" Target="slides/slide55.xml"/><Relationship Id="rId119" Type="http://schemas.openxmlformats.org/officeDocument/2006/relationships/slide" Target="slides/slide56.xml"/><Relationship Id="rId120" Type="http://schemas.openxmlformats.org/officeDocument/2006/relationships/slide" Target="slides/slide57.xml"/><Relationship Id="rId121" Type="http://schemas.openxmlformats.org/officeDocument/2006/relationships/slide" Target="slides/slide58.xml"/><Relationship Id="rId122" Type="http://schemas.openxmlformats.org/officeDocument/2006/relationships/slide" Target="slides/slide59.xml"/><Relationship Id="rId123" Type="http://schemas.openxmlformats.org/officeDocument/2006/relationships/slide" Target="slides/slide60.xml"/><Relationship Id="rId124" Type="http://schemas.openxmlformats.org/officeDocument/2006/relationships/slide" Target="slides/slide61.xml"/><Relationship Id="rId125" Type="http://schemas.openxmlformats.org/officeDocument/2006/relationships/slide" Target="slides/slide62.xml"/><Relationship Id="rId126" Type="http://schemas.openxmlformats.org/officeDocument/2006/relationships/slide" Target="slides/slide63.xml"/><Relationship Id="rId127" Type="http://schemas.openxmlformats.org/officeDocument/2006/relationships/slide" Target="slides/slide64.xml"/><Relationship Id="rId1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 type="dt" idx="4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PlaceHolder 5"/>
          <p:cNvSpPr>
            <a:spLocks noGrp="1"/>
          </p:cNvSpPr>
          <p:nvPr>
            <p:ph type="ftr" idx="43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6"/>
          <p:cNvSpPr>
            <a:spLocks noGrp="1"/>
          </p:cNvSpPr>
          <p:nvPr>
            <p:ph type="sldNum" idx="44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EDD61-0E15-4D36-A3BB-44919D639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5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BCBA5-9C50-41ED-A175-C6846B6E38C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8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3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A7B36-BDDE-421A-9903-C9566A26DB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sldImg"/>
          </p:nvPr>
        </p:nvSpPr>
        <p:spPr>
          <a:xfrm>
            <a:off x="349200" y="698400"/>
            <a:ext cx="6210360" cy="3494160"/>
          </a:xfrm>
          <a:prstGeom prst="rect">
            <a:avLst/>
          </a:prstGeom>
          <a:ln w="0">
            <a:noFill/>
          </a:ln>
        </p:spPr>
      </p:sp>
      <p:sp>
        <p:nvSpPr>
          <p:cNvPr id="268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C7DEC-71B5-4B67-BB1C-DEF6C278C9A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8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B3A64-EEC2-4E61-92E1-4A807AFA6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9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864AE-BC49-4D14-B434-5FC895282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9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48496-F3A0-41A4-8D33-A3DA36CE4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9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60109-4C1C-4AD0-91FD-4834DF707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0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532AA-F64B-49CF-8700-BF66D5D70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0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85134-3D68-4381-8EBB-C68AFB126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0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47582-4A2A-4DD1-81A3-D11FD56CBB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0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2B567-7B8E-4A28-BE19-45CF30A016D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5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D9D30-23E3-4B7A-A798-54025679C7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1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7796A-6613-4C4F-B99D-DDD0C9DB37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1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41894-350C-4009-B583-F69B9474EC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1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E8C90-68C8-44D6-853D-5020C3A220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2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467E4-CB89-455B-9F52-1146311DAA7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2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89B07-46CE-4962-812D-91976D916C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2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8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8607D-4149-4236-8C53-C23D943297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3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4C367-B2D8-430D-9C40-4662525B981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3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DE9AE-4076-4954-B571-30F1BDF839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3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F7762-1102-40A2-8020-66639AEFA6B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3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7DAA0-B971-4876-9E4E-F68E801BCBB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6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AE1F1-436D-4BAE-8071-7EE4870D30F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4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578CF-F27C-43F1-B175-605F30278D0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4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514C0-F3C5-46D8-AF3D-7984B1125B8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D445F-E852-4200-B026-7A9DC8B2A5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5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272BC-BCB2-4B69-A6B9-8EC707669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5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8C963-2CFD-4A6A-93C8-CB5B7C667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5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C080C-87A3-47C4-A851-13A356C35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6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31D1C-075F-4F01-BD63-E6F4FDC68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6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AA834-320D-422D-8AD0-1319B16B4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6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31F78-B405-490E-BA5D-F6CDA6B51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6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82E6D-3C1E-410A-AE09-22E94CB9F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6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00248-0B09-4522-8328-97E98EEB76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7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3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17320-8FB5-4D29-BB95-DFBF48C55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7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6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0EF8C-C117-4960-95FC-3B41F396A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7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8BEC2-2D0A-4479-8DD3-6B7F937D0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8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DDF00-E20A-40E5-82E4-C280D2A26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37F53-DDA9-45AB-9F2B-0C782B867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8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73773-42D0-4E54-8A25-42C367479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9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91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72302-DDB6-4D74-9A77-F466217D600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71849-9CED-4123-9B67-0F466A599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FFCD9-18E2-40EA-A0D8-C48E1A6D4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0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57693-71B6-4DDF-989B-6E9211307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6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7F820-323B-486A-889D-EAEADE0608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0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B15F1-F61F-4D2F-BCF5-6BA736F9E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0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888C9-874F-4125-948F-EE49B9DE5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0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A8FBD-C3EC-4F45-83C9-8C25C40E5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51478-3CEC-443B-9F4D-695059C1C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1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20DC4-88CF-4518-8117-502D3A5A2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EE645-7BE4-4C3A-AC0E-315ACBDE4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2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06408-B99D-4CC8-A317-FAA09B200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887A1-7B65-4C78-9048-460E42634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2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D1D7E-957E-4714-BBFA-5B3E7ADD2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2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3F635-43F7-4CEB-90B3-4D54CD5F9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74AAF-D3F7-4B51-A632-DC62CA269D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3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3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E3784-D8C6-44A5-B042-D310E6980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3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6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8AAE0-365A-43E1-A174-5C1A29633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3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4099B-1259-4C1B-803C-D90D0AE99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0ED2C-2AB5-4D26-BB2E-E86862DD4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02504-29CF-4CBF-B070-1FD15CC4B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7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4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66ED1-CF83-42CF-ADEE-50A68D27CA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7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7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E398A-7BD1-4D76-9B34-84C6EEE16F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ldImg"/>
          </p:nvPr>
        </p:nvSpPr>
        <p:spPr>
          <a:xfrm>
            <a:off x="324000" y="698400"/>
            <a:ext cx="6210000" cy="3494160"/>
          </a:xfrm>
          <a:prstGeom prst="rect">
            <a:avLst/>
          </a:prstGeom>
          <a:ln w="0">
            <a:noFill/>
          </a:ln>
        </p:spPr>
      </p:sp>
      <p:sp>
        <p:nvSpPr>
          <p:cNvPr id="267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Slide Number Placeholder 3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FFA17-DC86-4124-AF25-330BF3C990F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7352-B1B3-40EF-86CB-36874C4DE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8A3E-0ACD-4AD3-8406-B94F432EDBB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313DD-FE0F-46DB-B24E-81BB97A8BBD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39154-F818-4683-9473-84B3AB50D5E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08E04-DB45-429E-A13D-F6429F08747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A3A97-2787-4A32-9169-A8914000017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16B8-4AFD-4ECB-8D5D-2D284CCDDFA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0AAD4-291A-4124-9154-9A8DDD338A4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985CB-2DEC-4834-ADF2-87BE1AB674B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D80D2-8191-4673-A512-9C62AA9D2E6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CE80E-17A0-435F-ADF0-7E67820AC1E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9D6478-5E2B-4006-923E-B06CBFE8C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A88AF-D6F5-4C2B-9E6A-4D8AD8730BB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3A5902-E926-40DA-9F63-814E2137944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B570F6-F24C-41CC-8F61-820CAAAFCD0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CAFBBD-E1DA-43D3-930C-E701BB67D96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0CCA95-B595-44C7-BCE0-EADA036C326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856134-2414-4C69-B7C8-7FB32745F26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FDCBB0-76E3-4294-9278-E3933C972DE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6A2827-BBF7-464A-B7EE-E7D1D90574E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2CEF5-3CA6-4970-ADCB-13C5740D848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1297B-B985-4522-B3E9-964F2FD5CFD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0A0174-C30B-49B6-9C88-E74BA3E72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665E-C3CF-4A9C-8BCE-9B78770B427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9DAC59-F71D-490C-98C7-780E1FD63FC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B83C-660D-4E11-8351-F18FA26BA7E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490D-AC9D-45B4-B3DD-E951F9F6CBC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810A9-B3F0-4DC1-BB27-C7686BCC29B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875B6F-A287-4D0D-9737-AA74AB00172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02BEA0-D753-4FAD-A60A-67BB3B06BD5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E1D6E-DFD0-40AB-98A5-4CE848A8F9C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C2B71-D094-4C38-AB66-D946145DE4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6353-A201-4EE5-89F1-775DBA98328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672204-C22D-441C-B90B-CC290A27E09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8FCF9B-3A4F-4EA0-89AA-3B8AD3EC580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8871C-7FDB-4472-AA05-31ABE33933B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A2ABF-8FCE-48D1-A106-8DF8FFA7DF0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F2016-0807-4629-95D8-974E97115F3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DDA624-07AD-477D-98D1-8E84C1E8723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34733-19E1-447F-9D7F-959B6D1CC0F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0A829-B57D-40A4-B971-5176EB18B77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E6600-3160-49D5-8F3C-4B28E6E5E2F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3D595-72E6-4744-8FBE-0E451D70F8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4CE6-2809-45CA-BE87-73C01F2CD9B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88F51-CC9A-4FD8-B993-A14075D5765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0F393-299C-42D0-93D0-14A3C2FE8A8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5C81A-99D7-4542-9516-AA437BD49A1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7FF0D-6C64-404D-8C2A-95BCB878B8F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24013-DF6A-40FE-85FA-B74D1087C00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35A7-66BD-4E56-9231-CE36B0A840C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8D13F-1756-428C-A4F2-BE677DDB265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743CB-11E8-4471-B8B2-D214A3CD81C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07067-DB49-4E24-8818-F0D04D3C539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26D12A-6AE2-4234-8EC1-66C6F3B158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EE9D2-75EC-4D51-83AA-AA15407C676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43F1CA-6266-4EAB-B38A-4273CBDD446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15D22F-8D98-4506-AF49-D1C10DB073E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6F9699-962B-4B0B-8399-B8AEDB32A9C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88FCEC-6006-4541-A099-22453D66761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EDA08C-4223-4ADB-A157-09F583F9613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93AE00-FFB8-4DC1-8DF6-4A5E570D61B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2096FF-1DE0-404A-8BA4-F276F2ACD4A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DE7F00-30ED-4FBD-8B7D-8D97E4C8753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797AEF-D2A2-4BF8-BEFB-AA2248B1546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347657-0D86-4185-9E59-082EBE3B8A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F2FD-07AD-4F3F-816B-FD8A252C14E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6D222C-ED01-47A8-94F1-38F4261C178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37670-E907-4D12-86E5-A85FC96AFE4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4B1E-7808-4EFF-BE57-266F7B09F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A606-2FF5-4AB1-A3C0-3D3F6B5F6C0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97191-104E-4D1D-843A-569E3C7ECB8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40482-E5E3-4995-9995-B94B7EB9308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38D12-2030-4B4D-98EB-4DF8B66F799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F7EF7-FA6D-43A3-8432-A820EA3677D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12632-B168-4C98-92B4-DFAC6F9383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8AA29-4A10-487B-AC0B-4D4DA0DDA6A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A6398-213F-4FDE-9534-748BE4C8BEC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0850A-BF1F-475B-8A0E-2533DD9FFA0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6ABE6-CD07-4A84-9477-56FEC67657E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20E579-99CF-4B38-9408-6A366A54258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E789D-3508-43AD-A616-1D8115744D4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B3D8B8-5541-4D48-9D20-F1E630F51E1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6C46D8-A7B6-4B12-89D7-5C3CF3F078A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6AFC0-B3B4-4F67-BCA3-6DB21272A1C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DAEEE-60C6-47E6-9572-4EAE0267991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2C53B-B55D-49DC-8660-D7D4931F04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ABC12-D9C6-4703-B1D4-C544CFEAB4F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06A8C-8759-4FA8-8FE9-2CC8AA068EF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F00BE-76BA-47EF-8DCB-0B700C06417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29DF0-10F6-4817-AD27-A7FD73E44AA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48866-8795-44CA-A32C-488FFE0E3A3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B92FC-307D-4CC6-9AEE-71D87BBA9DC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40DFD-4829-4220-85AE-6DA88D32ECB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65A3E-E4EB-43B6-847A-CDEDD2910FD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A2CE5-0CF8-475B-8791-22E0B018294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A7079-0633-4709-9999-0702F8FA152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0A2B8C-034E-49E3-89AE-9B3677045D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6C7B0-B8B0-4B2A-8726-63BB394AEA2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E04455-67DB-4D09-AFDF-F6434CB9557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196908-CC01-4D8C-8D93-B3C7C580A60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62B9A7-E69B-4563-BEA7-6647ECF283B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D38EB2-CFEA-4955-8080-617449845F0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CC688B-9092-4C20-8C0D-16D140FDECD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6C5CD0-270A-4C0A-A03D-5C4F8F1A355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4912E5-CEF1-4453-9E6E-17D1CFFB708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F54094-BAD9-48EF-B0DF-2990304CC39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6F2A72-4553-4497-9A97-A2F47AC623C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04C122-0F53-4866-9D3E-358EA4911C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112F7-0C1F-427D-8A81-B56B87BB22B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1259B7-27E4-498B-8C37-696ADB4F205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58696-8A5E-493A-B959-9E6C240CD51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C84F6-ACAA-4918-9A59-1E8DEB723E9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761AB-0F9E-482D-80B9-04E43619B03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384C7-0207-4469-A65C-C7AD5ED17A1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425BB-D719-4BD5-9B63-7726D9B91F4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12D02D-3B7F-468E-9FCC-AE06FADF997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6E81A-5F2B-4F62-9919-A47CC544020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2DF2D-8DF5-4BC5-8E72-797851C69E9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6004C4-0720-4086-8266-455439D23B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810-EFEF-43C1-B999-07395F509F7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0228D3-E022-488E-A15C-0E6FDD6D7E1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198CC4-E8A1-4E0F-BDD1-286908AF65A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16154-4EC4-4821-8074-2564EAD32D5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974-3B0B-4054-B4C7-20FEDFD51E5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B69-D08F-4F20-A0AC-723612B3CFD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24183-46A1-46C8-A4E4-85CD8BA0C71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07987-D063-4213-A4C6-A8E7F723965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C9F21-82FE-482C-9061-DE013435A1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983-2855-4DC5-8379-27509D8A113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21D17-8E54-45EE-92A8-DDFD0A1C93D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06E86-289A-41CC-9A8F-6D7A551B0B8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71D2B-261F-4286-BCD1-C85E73FB786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5163A-E4B9-4DC3-B53A-C7D1B947979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CE135-BB95-4811-8428-3827FE0901B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9B261-6DAA-496B-B837-2570F10FBE5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B536B-772B-4835-B171-A404F73AB65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97B4F-74A3-4B9C-A9D7-D9700163090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36D71-C698-4971-A86C-D3E9F937036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1A220D-4CDA-42BA-9C7C-F347049722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728-F164-47B1-96B5-06874642188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4C3268-FCFB-4A7F-A9BB-8FD4ACF979C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A41E82-EAF7-49ED-B739-B5A3E74FC88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31BFC7-B34F-498F-84B4-00ABF0996C1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BF9E07-7321-4BCD-B8BB-160FAA48042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47E308-B4EE-4ED5-8694-C4EDEAF8DBB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9C66E0-92BF-4C27-BC84-2716C300076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01A6EB-7410-44CA-9718-16036F24849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141B75-9565-42EA-B64F-20C7D556BC2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D831A3-51EB-4C2D-9242-1A868B2961A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9BBC53-0B7D-4183-889C-613A83A08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2794-DC71-48C6-A99E-378C47D8B6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161-6609-43BC-AE91-1723F2B6556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3F94DF-DD15-4161-B521-2AF53F93F04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E2562-B5E8-45B8-A314-FFC19E9A5CE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DAAB70-B42E-49D7-A62F-753F8436F74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4CF95F-2374-40EE-BC20-8308A8F8088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045234-BB5C-4A2F-B0F3-5373862A676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9E34DF-6FAF-4C0F-8787-9C5FE4A71CB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03C2EA-B765-430B-85CF-698A6391F6F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100F46-3707-456E-93B6-7B83A6B6DD2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A69B2-9ED5-45AA-9B6C-4D24D3E04F2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E48818-5AF6-40BA-9AF3-171A3414C9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D6B-9E6E-42BE-A064-43535C5222F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B999DA-0920-4D3B-808C-00C45484C83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87976-8BD7-45AF-904C-66495967A2D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F1F5BF-1999-4D39-8AC2-83B51C51DEA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F4E-5AA5-46B9-8D79-B2EC57FC55D4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388-E214-40A9-82A5-FFEFC87C00ED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41C15-480A-4C6B-9AC4-008F7883625C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3AB04-5BF7-4022-8469-22CD519ABC26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FB2ED-071B-4F23-A955-EA2AEC60EE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4E9-4145-4317-87EE-40C66EBC3CDD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B1A9C-4CA7-4C91-B1F7-E82BC2101811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E67FC-9617-4527-BADA-EA4F5CF6AD21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14E8F-ADB5-4632-9159-C22160A567FD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D67C4-DC7F-4D4A-8E1E-CB548BE82E0E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3B64D-7046-4EF0-BEAE-9904481A4939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ECA5F-3387-4ED8-9106-D1BFBF1A7EC3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BC2D2-367A-4AF2-8616-7304582E3DA6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A3CEE-0D8B-42DF-9243-1E2DC44C7655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292F2-7CDD-43DD-92B2-EF1D5E1C8A99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4898B9-859A-4A04-9D9D-21B2FF5712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692-3582-411B-A75F-F9254BB8B123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86FBC8-E65A-4027-89AC-CE5D8A8E5DA9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A8DABD-186F-4D87-B7AF-2A9040B71930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B60EC2-64B7-4135-82EB-C8F407D31C31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CA21F8-904F-4BF6-844A-7CDEE3567122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B52B24-3EBB-42AE-B5CA-1F7C51B5619E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98C507-ABB4-438D-953A-83CF0628C55F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962940-1E84-439D-B358-E63BA6829224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27D3FF-FC4C-43FE-A71B-77F0D25313E4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FF40BC-8F65-482A-B35A-DC2F18FE140D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E99C16-D748-49FC-BB71-3558EB80DC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340-38D0-4DF2-9231-873BF0DD19B5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7094B7-F8D5-4F7B-9A19-F536FB996735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D5C512-B52A-40F6-93F5-312EE9EF41D8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2DFD6A-B027-4881-9608-4CAC5B01CEC4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2A83F6-2A53-4DFD-94B1-BD7447076EEE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9A4E7A-6BB2-42A3-977F-3E731B3DE0B7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2B0097-8404-4DE6-99B8-8E2743B6CB65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D5915D-37DA-45AC-80AD-1C31DE3B4615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23AD49-A360-4FED-A7F8-7848F1E35E50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4D0E98-87E1-4CFD-856C-9F5AFA838617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19DEBB-A80A-43B8-BE13-5A278973BD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DAB45-4AEB-4D9E-AA37-C1A947C463D4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7792B9-002C-404A-871C-864DFE1D5F56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D2D9FA-3A5C-4049-B8EC-DB2E4AACBD7F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7BFA94-AC9C-490A-A101-CB3F8D36C5EA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F664C-99DE-4030-99E3-04121333F9B1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913C1-F3BC-4D08-90FB-33603C9B20CD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CA0EA-FC9A-446A-B63A-6A56B66CEAFC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D9389-213C-40FB-A7C1-964F8FC653ED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AE330-0E75-454B-A1A8-2F07D810F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C159-4DEC-4554-BE38-0A3F1D93FC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3FF80-F8E1-4888-9AE9-4BEF9C74DD90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D8C60-EC8D-40BC-85F9-1BA9CEC2EDBA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2D828-8A6C-42D4-8E8E-EB542891075E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C3535-758E-4214-9611-0B6F444AB35B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4D191-D86C-4CAB-9430-8680A84FE2AF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7439B-7914-4D3A-8ECA-8F5A97F60AAC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0D645-F093-49E5-8228-E5C1E2352C21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9000B-9F6F-4F45-B8B0-8C74D20DC968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25945-A736-4E73-96BE-74B2E9BA2A6D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6CDF3-F91D-49B9-9B5B-7009EF499258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BDA7F-A3BB-4914-B78A-D7058538F5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EB87B-194F-4618-A908-232ACC5D43DA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293F5-B103-4339-BEF7-2627BD2769E9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56931-F99A-479D-A8E4-BB4D3280581F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82A704-CD4E-4FBB-96BB-CF2FE127678E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A08BA-04C7-472B-853E-ADBFD9AB8399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814DF-9469-4E85-A854-EF742515A154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04C8E-3341-4DB9-9B7D-E2C8C166B53E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FA871-B1CC-4F1E-A3C6-7B48039B565F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C18D4-9C0C-4DA2-90FA-FFE785FA941A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A31F1-2890-4E12-A877-EEC01509F120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1B675-49E3-4309-B449-E7E8D6B711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B91F5-6575-4321-9B90-160536D9D0DE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8A1DF-D627-4113-9ACC-EB3AC70A2C7A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34B598-FCAB-4E4A-885E-F5835167FC86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55337E-C416-4201-AFF7-2DC9510B83C1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DD5CD1-54AB-45B8-A578-AEB81C0DE8CA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749E58-B101-4FFD-B290-B551E7840472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6E0A89-80C8-4038-A098-99647F8A9232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89527D-1F8F-4A13-A27C-D05F295F8902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6B4D18-3D0B-4167-BBD0-DC797CAA4F66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AA6718-BE9C-4C57-91F2-38EFE5845682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9D7F3B-2EB3-4C10-AD50-28473EAEFF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09591-A033-454A-869F-4F2056800218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5FA7AE-4274-4A0A-90A1-F82F6E2D569D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DB3309-7C23-4E19-BAD2-1CE0F85562CA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4245BC-A0B7-486E-8397-9C7F5DC02C4C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8B81A-1512-4F85-9293-978F4175632D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8DF73-6041-4838-92A1-3921D7A5DEA8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951A2-ABC9-47C6-AA91-3551245A1CCF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39CD5-5D73-4575-ABD1-9A82F5FBEBC3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91DF5-719B-468A-9D43-E9054EC221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9BB32-5A7E-4C96-810E-B208A93F9D7D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13871-9994-455B-BAD8-8C772EA8BD6B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0D7A4-30E8-4DBA-94B4-5A74C396BC5F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33D07-61DD-46A2-B649-21BB32CC816F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7EE7F-31F3-477E-AEF9-A21FFE0853CB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9DA32-86A3-4296-8E6D-B3EA195AE437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58BD2-B88A-4C19-B7CE-AA203EB31B95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F5937-4E7C-40E1-8E25-A7258F5648FD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76587-92EA-4FC9-8863-C3EC890DB2AB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F1444-8A9B-4995-9EC6-1617B4201B0A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F4883-3123-47D9-BE32-732C990A2F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27117-BBCD-4779-A4A6-0DD9E2A3D63D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5615F-97D9-41CD-9B94-27D40D4BF7D8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085F1-24C7-41CB-A000-586D4A455D67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E1212-E33D-481D-9009-4F20349A0926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2A709-1560-4DF3-BFA7-BA728CAEEF38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E6958-A07A-4B28-967E-FFD535B21DB8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A4D39-1C76-4DD3-A218-B31BB3C50F7A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5B18F-3FFD-4241-A2CB-B172B6E51D5D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E5D4F-5609-47A8-8192-C8442F58F1C5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0677C-1522-464E-BC47-CB8E9383C588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10D4F-A042-4011-9460-5EEFE822EC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7A0C8-CEB6-45F1-AFB4-91F094347681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4E638-4AE1-499F-A462-ECC359F6EFEA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AA3BEF-8538-4FD8-BCF2-CD7EA805502F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A19BDB-ECCC-4461-8D56-E6374E593652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EF3CD6-A627-42B9-A69E-D4277201842A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2A87A3-BCAA-4A1B-8024-DD6A951C0CB5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EF4192-D168-441C-A2F7-86F896386575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B89150-53D2-4EE1-869B-FCA0A09D6684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4231FF-EA42-4340-8F33-296C0C3445A8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D39725-83E1-48F6-974D-47AB9E3BEF30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1CC466-7A02-494A-B792-1C682863FA7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AB418-A1DD-405B-A55F-6719A1D1F765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F13001-3FAC-46F9-87A5-16042920AF0A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0B95A2-50A7-4EC2-B946-340BDFFC98E7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33317C-60DE-4342-B121-2CAC15C23FC7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8BA3-F59B-4EC2-8456-252C0C57871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61B8F-EF61-45A2-A0D0-646EB86F94BE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3A7E6-F01F-46BB-B982-7F71E669F3EB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5E772-08AB-4812-9425-B9626D5185BD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D9DED-F62F-4466-A1BB-51BE335199EA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83C38-474B-4FD3-BB5B-5101B463D00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28F64-7C22-4AD1-9D3A-44951F524BE9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E2FB6-9A04-40AA-B89E-4CAD1F56C285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A247A-CDE6-41BD-B87B-47F73930134E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4E29D-E03C-4445-9095-AA162C6E883F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F224B-BF9F-4FC7-BA04-002537323C57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DA744-DB52-4003-85A3-CC9937DF6B1C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D8749-5697-4354-A764-E511A9457FE4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758E5-2073-4EF0-BB3C-F36CBB6D686A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C0C0E-1FCF-4FF2-BD6D-EB5F8A1A695E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8CBC8-362F-4353-8FBD-1D7B3B2D2B88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709057-D7EA-47E1-9043-128E7FEFED4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BD70A-83BC-4FCF-82B5-A095305E9407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4C5401-C55F-4C0B-91D5-418B9EDFB6A6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F685E3-362C-4E72-B93C-85D5C5E360CA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D132E9-2D66-40F4-9B71-F314C6CE0675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B9A934-C476-4B25-8776-E4928506F6EF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D7DD84-7184-403D-A28D-C588CDFA07AC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837889-DE40-4FF7-9F4E-98D8F2F90907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C52280-9D72-4CD3-89DE-31AFF1B86D14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F3E482-63DC-4311-8E98-0B45B752479B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8949AB-A376-471E-B23F-785946ECDC49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DDAC85-2E6C-4270-8B73-82B1AA2495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A84E1-953A-4143-B74D-6ED6859DCADA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E8A8A1-675C-40D8-BE10-96548774EE12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3B4093-663C-4E85-A3F0-40B3A704304E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DACEDC-64B6-4932-B131-1233E0D9A9F2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462B03-36E4-4461-A99F-F1D070CF4ECD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369879-F181-49AA-B4E9-214624C7F92D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E582BD-1F5F-4233-B45E-FE90C7719504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4D723B-F06C-4FBA-A0C6-EEDE15523EC7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ABD688-4994-4582-8392-8A5AA3CFD506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6A0B47-8690-457B-8B8C-C21B87378571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353900-C761-4D08-BC44-748A58B79C2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2900D-905C-4DB7-9AFF-78DB1A09B802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F2579E-060A-4E17-98C2-7BD8BDC2BF38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2F709E-A9EE-4D49-A8A3-93290FAB43FA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081407-BCF6-400D-89E4-601957CC2749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1145C-767C-4E24-9F2D-04FA39DA5833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09CE0-ED75-4EBA-A8F2-FB4D941FE704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AA0BB-054A-4DF4-ACC6-A73F04EA9426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843CA-3ABA-4C74-B430-3F72F439DD5D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388A4-58E9-45EB-B417-B922BC7A2D0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31D1B-EC6E-46E2-A2B4-E045911A9EB5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CFF06-1D3C-4A3F-8344-3629E7C1A1F5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4D23E-49F7-458C-9E61-4D4FFD77ABAF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A85D3-D1BE-4CFE-9CC6-445A9408A113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1E603-CE49-4177-90D1-7CDB5737FCD3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D59DF-D279-4ED9-A234-5F7B79B73106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5C73C-74AC-49AB-BD70-614BF71CD63C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0D57E-34CF-47C8-AC10-7B7422E93D06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025A1-AD9D-4AED-8AC7-4A89142811F2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F3C25-F9C2-4E9B-A7EC-F2BCCB1C5A82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E28EA8-8D59-4925-B264-1EB12BB6057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B93F9-A515-4E90-9062-C53ACA489CFE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48972F-FB4F-48DC-A3A3-25B436FDF915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98787-AE9D-45B3-A1A6-0FB7093D45DF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CCD2B-67C3-460A-B2A4-12004FE1CAE1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72880-C12C-47CC-A938-81E1E2CCD51C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835772-24A3-4507-BAEB-33BB87CDDC6B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5DCC0-2CEE-411D-B14B-18E93FAECE67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EBA59-7772-475D-A552-44CB921EEA5D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6C187-3EDD-4DC8-A935-332BCFFD9350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4F18E-4281-482A-B3D0-C0437ACA1EA1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A9CF31-A5E5-4468-B145-1ED74D5F0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FB74-85FE-40EA-B478-9908D3B65D9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06EB6-2251-4D90-B96E-4D78BD49857B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6331A-4191-4618-AD9D-6097DDAF9FB4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D182AE-963D-4F24-A583-0E0C2889A0CC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FB4D18-91D0-4D7C-A62D-99801528513E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2D0F4A-D659-4B56-8E2D-BDAB47082C96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7BE8F1-200D-45F5-B2BA-0CD08FBDD2A6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5E3C67-CBF2-4D31-A20E-E356E3024558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A761B2-7D49-4ED8-8093-A883DC6B8538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2307C4-B32D-4A55-B6A2-1B80FC3293AE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24187A-871E-4C34-955E-749E12A55209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7A0181-FFFD-45C3-A1A3-670BE6F3EE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9F21-846F-4AE8-8C70-EAB000C84A34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5E6BCF-0BB2-4268-99B8-44F8886CEC38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E1E7C9-2AC7-4ABA-9735-DBAA2E01FC34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27BA77-D915-4427-821A-F3AD59C4DC07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8B44-50C1-4849-B912-8E0C44B3B89D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D818-33DF-4771-BE9C-F4EEA5B9B8DE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2152C-8CE7-4F92-8A2E-AD376AB9F5C7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08942-47F5-4FFB-A0A0-42125B04DAD6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585F6-0C8B-45B7-8D61-D85D565331D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CA69-7B3B-45AC-A089-058A96B199C5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C5A7D-3FC1-4E8D-B390-71465981A7C2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A3476-9E7B-49FC-8645-C3CD77516052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B45DC-B539-4B29-BC70-38EE198C69D3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30E33-899A-4D5A-A6E8-483CD98A169A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2583B-79F8-45C6-9FE5-011C88BEB937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0FAF9-A8EC-4817-8229-FC135003930E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0C618-907C-48A1-8963-F143E30F372C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380AF-6A56-4605-8E57-D9EC374988E6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80FE7-3992-435C-BCDE-2DE5A59320E0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C3288C-0E8E-484B-B2F1-65F7722605E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19B1-77F0-407B-BBD9-23528E72AC88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EB7A7E-7977-4F78-AF90-56F2F9CF0BC1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A2443C-3CF3-464A-B73C-9D74C8CE16C5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CB2A1E-E2E2-45BE-BD5C-F54084AC9B76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1531FB-4DD3-4841-B969-CB307B952367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C3F63F-8CD6-4F49-B325-1CBACA1F1F63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6DC406-F9EE-4B1E-93E9-E33D84AAEA51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D4961B-0F7B-427C-9473-A0D68CA0EB93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EE660D-44B4-481E-81F9-3A4AA14D88A7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952487-10F8-4BAA-B74B-3C0B2615D3AA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24D8FB-E001-4E80-8C7C-C2CF5986E23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C559-C0B2-4776-800F-78545F3FA748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A318D2-3B34-4226-B63D-CCDD60F0618E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D70680-9917-4187-8475-F15C24344DDC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C795AB-B36D-4CDE-8627-1B29FFFF69C0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5EEC96-7339-4DAB-8037-983930D8A8C8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B816ED-E04B-455C-B06F-AB62620ED921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A0EFFA-87DA-40D2-91A5-7AE54A687977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92BF28-7FAA-43DD-A0C7-C8C971BD575A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0AF55D-7DDE-446A-9C41-9149BEAE3B84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6779ED-CF68-4F26-929C-1EFF714E7F2A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FFF600-9857-4A17-A364-F74FE7D9EBE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72AB-9D87-4EA9-A3F8-5D7908936852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2D267E-2377-4846-9AEB-8EA4F7627630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2056CE-B5AB-4FEE-9048-FB591E927011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5B4B06-DB79-4F65-9D1C-C21A0A4E9B71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CE40-422E-46A1-9091-E7CCC229A18F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A20E-3A97-49B5-84D5-29B915372800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D7EB7-C6E0-4E87-98B9-EE68CC04F23F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91617-4E55-4933-901D-9551464C083D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56FDA-9A2E-4BA7-8182-62254CC9B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360D-03C3-4DF2-AA4D-CEF1B5CAEC4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8FF4-A66D-4FD4-9D4C-CFAA7E999422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C466F-296E-4AA2-94E3-5A9010D0A974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6EE2A-EA02-44F3-A9BB-61F3CF87A50A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DCAD5-EC7E-4EA2-AD44-90F3E52E2CC1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D1EE8-C105-49F4-B670-5D34F354AF79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AE6EE-837B-4113-A7B2-6C89D056F5B2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B972F-5C1C-4D6D-B556-59689DBFAB2D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0B7A0-8CBC-4F27-8CCE-2F842573CCCA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A3C37-36FB-4F24-8663-7DE93B7A34F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8D97A-906E-4F7B-B04B-A2ADC65237CD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217C27D-8071-4FE2-88BE-F23B454646A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C5E9-CA31-49EE-838E-9077DE53A2AC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BFDC1D-EF7B-4CA1-BCBC-3A47BA8BDCE6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CB9329B-6059-49E4-9AAB-9C16B6C48DD6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7952CFC-893A-4A3B-B07D-2B31F4E2902B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71EBB5-0831-4860-82CA-8FC3C92B0D6E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E64B38-D658-47BD-A4A8-CFAB67BE7396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5553603-1696-4D0F-B67B-E5CFDC741541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3CED67-1AEE-4E5D-AF49-68D07B03D15B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4E4805-AC38-4261-A733-55C741B81395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6A446F-9039-43CD-B203-44AF8E427766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071646-990F-46CB-B858-08BDBC33BD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4BFB-73A9-432E-BB67-94BB6597012D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29A393-6468-4D6A-81F3-97269020DC27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09FAA3-B173-4EE0-8D96-90262F493424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A9EC82-8565-4A06-AD28-623F039DD4BB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2DA1CB-D582-4B9B-BCE1-E126D979CF3A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718E60-8B0A-495F-B348-EA2D6E4210A5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459799-E704-4301-9484-73FFC234140B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A0B10F-DD1B-400C-A0F3-2663FB529663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49A3C2-8F02-4C44-AE13-FD632F949C21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782006-B6BB-462D-AC48-BD6730F36CC9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77701D-D920-47AD-8ABB-00FBDC98594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E59103-014B-4AB2-84D5-7604F7F2D27C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1E0D91-CF8B-441C-82A1-F554D44FF9BB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051D04-F9CB-43C2-9BB4-0AD9E4E36FEB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74822A-9B1A-497C-A4AB-F679B64DED7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6CC189-4584-4E1D-B2C8-E9705B62D6D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E2F4C2-FF11-4712-9E02-FF30B5A20CF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69C361-027D-461A-B107-6660D48B8F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BED274-E0E9-4E41-AB3D-5C5290CA306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9E2688-AEB5-435D-8911-99748223CEA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9672D-308D-48CB-A486-199A704E1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8E07-F85D-41A8-AE49-33F7DF00F55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89B5A2-AB03-46E4-B945-31F9607C84D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D509A9-B126-44E0-BCB8-73E21B0324D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5B2E8-711D-498F-BA28-E8F6E44C27C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C2D386-2B86-40F8-9B10-73F69116C41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C43BC7-5D0B-4040-A3B4-8B1D39C349E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86689-45CF-43D3-8813-DE6F6C12AE8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C3011-FBAD-4B44-ADFC-9E8046D932D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F5D27-0C5C-4D50-A84F-5A46333EBD2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EB5AE-B968-45B3-A946-A1796C91238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5E16C-C35E-4EEA-9816-C2AE723DE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FCE9-5249-44D0-BDBC-8CB5CE0F104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BE5D2-BF8D-4D01-A96F-FB5A97EC0EB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A78F6-6A63-49DA-ACA6-92831FE9F6A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92F28-C746-4F92-96F1-C90654D17FF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7E089-C52A-4A14-ADFE-429D9AF4D1B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5A7F5-85B3-47FB-97DC-48D0CE760D5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86A82-239F-40A9-BE73-6A0D18FF5EC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7C207-2B87-464F-A92A-F2F555C0B50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9F30E-8A08-4593-ACAD-27F20507A48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5A8E-FF8F-447E-991D-3C27918A503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D2FB3-78BB-44DE-968C-371F09834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E03FE-1027-4E45-8AD5-D0536E6BB7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Num" idx="1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D0E31-F52A-43F0-9207-C389A18DF9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sldNum" idx="11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55065-F714-43BB-8A5B-797B4347942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sldNum" idx="12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FF531-66BD-4BDC-9DFE-F3E09485B2D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ldNum" idx="13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EAE7D-4CD6-4C8F-991D-85851E36E25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2"/>
          <a:stretch/>
        </p:blipFill>
        <p:spPr>
          <a:xfrm>
            <a:off x="228600" y="4286160"/>
            <a:ext cx="613728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2"/>
          <a:stretch/>
        </p:blipFill>
        <p:spPr>
          <a:xfrm>
            <a:off x="76320" y="255600"/>
            <a:ext cx="6137280" cy="67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Picture 6" descr=""/>
          <p:cNvPicPr/>
          <p:nvPr/>
        </p:nvPicPr>
        <p:blipFill>
          <a:blip r:embed="rId2"/>
          <a:stretch/>
        </p:blipFill>
        <p:spPr>
          <a:xfrm>
            <a:off x="4645080" y="4659480"/>
            <a:ext cx="4422600" cy="4842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sldNum" idx="14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B3FD5-6351-4FAE-8E83-DB2AA5E2D16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6" descr=""/>
          <p:cNvPicPr/>
          <p:nvPr/>
        </p:nvPicPr>
        <p:blipFill>
          <a:blip r:embed="rId2"/>
          <a:stretch/>
        </p:blipFill>
        <p:spPr>
          <a:xfrm>
            <a:off x="4645080" y="4659480"/>
            <a:ext cx="4422600" cy="4842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sldNum" idx="15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3A30D-54AE-4C50-8455-5F56DD2C5AE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ldNum" idx="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70870-5CEF-430B-90D6-9512A8100B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2"/>
          <a:stretch/>
        </p:blipFill>
        <p:spPr>
          <a:xfrm>
            <a:off x="4645080" y="4665600"/>
            <a:ext cx="4422600" cy="48600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sldNum" idx="16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15E49-25CC-4A71-8B5A-F8E087BB0EB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Num" idx="1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B79F8-B261-47B1-8625-5DA130BC6EF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8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7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sldNum" idx="18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4E793-8687-4D46-8A6E-4CBB411F529E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8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929" name="PlaceHolder 1"/>
          <p:cNvSpPr>
            <a:spLocks noGrp="1"/>
          </p:cNvSpPr>
          <p:nvPr>
            <p:ph type="sldNum" idx="19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9067D-84F4-432D-B9E9-AC630D9643F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8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sldNum" idx="20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B6B68-54F2-4045-9659-EAC7E0027A4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7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6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6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087" name="PlaceHolder 1"/>
          <p:cNvSpPr>
            <a:spLocks noGrp="1"/>
          </p:cNvSpPr>
          <p:nvPr>
            <p:ph type="sldNum" idx="21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19B3F-A3E3-4426-A830-CE94C724078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9D393-CCC5-4E6B-87A0-9CF6761ADE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1"/>
          <p:cNvSpPr>
            <a:spLocks noGrp="1"/>
          </p:cNvSpPr>
          <p:nvPr>
            <p:ph type="sldNum" idx="22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10325-0C9E-4E6B-BDFC-BF1E492C8AF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7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sldNum" idx="23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EC082-6403-4D64-95C1-E83DC842324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6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5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286" name="PlaceHolder 1"/>
          <p:cNvSpPr>
            <a:spLocks noGrp="1"/>
          </p:cNvSpPr>
          <p:nvPr>
            <p:ph type="sldNum" idx="24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5CC42-25DA-4C16-A5CE-62E8C87515A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6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327" name="PlaceHolder 1"/>
          <p:cNvSpPr>
            <a:spLocks noGrp="1"/>
          </p:cNvSpPr>
          <p:nvPr>
            <p:ph type="sldNum" idx="25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A414F-C3D9-433B-8B1D-8B586C6051E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367" name="PlaceHolder 1"/>
          <p:cNvSpPr>
            <a:spLocks noGrp="1"/>
          </p:cNvSpPr>
          <p:nvPr>
            <p:ph type="sldNum" idx="26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708CF-B2F3-45EA-A0F8-982C2E34283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5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4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485" name="PlaceHolder 1"/>
          <p:cNvSpPr>
            <a:spLocks noGrp="1"/>
          </p:cNvSpPr>
          <p:nvPr>
            <p:ph type="sldNum" idx="27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F5459-9197-47A3-86E6-F16AA90ED99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Num" idx="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36492-D5DD-423C-A8EB-130E75AC1A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5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526" name="PlaceHolder 1"/>
          <p:cNvSpPr>
            <a:spLocks noGrp="1"/>
          </p:cNvSpPr>
          <p:nvPr>
            <p:ph type="sldNum" idx="28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D22B0-82F2-4F06-BD90-5CACD7F9D6D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5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566" name="PlaceHolder 1"/>
          <p:cNvSpPr>
            <a:spLocks noGrp="1"/>
          </p:cNvSpPr>
          <p:nvPr>
            <p:ph type="sldNum" idx="29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59503-FBFC-49E1-A267-84E8211D111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4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3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3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684" name="PlaceHolder 1"/>
          <p:cNvSpPr>
            <a:spLocks noGrp="1"/>
          </p:cNvSpPr>
          <p:nvPr>
            <p:ph type="sldNum" idx="30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55C1A-4E57-455B-80B6-4984AC62672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4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725" name="PlaceHolder 1"/>
          <p:cNvSpPr>
            <a:spLocks noGrp="1"/>
          </p:cNvSpPr>
          <p:nvPr>
            <p:ph type="sldNum" idx="31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582FA-EF84-4AA3-A38A-8C51E663E82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4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765" name="PlaceHolder 1"/>
          <p:cNvSpPr>
            <a:spLocks noGrp="1"/>
          </p:cNvSpPr>
          <p:nvPr>
            <p:ph type="sldNum" idx="32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D3519-0CCD-4859-8194-6AC19D8379C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3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2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2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883" name="PlaceHolder 1"/>
          <p:cNvSpPr>
            <a:spLocks noGrp="1"/>
          </p:cNvSpPr>
          <p:nvPr>
            <p:ph type="sldNum" idx="33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A2184-F84E-4C0A-8E0D-49A7E7B3EA3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Num" idx="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2DFCD-649F-409C-85FF-CEED91ED44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3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924" name="PlaceHolder 1"/>
          <p:cNvSpPr>
            <a:spLocks noGrp="1"/>
          </p:cNvSpPr>
          <p:nvPr>
            <p:ph type="sldNum" idx="34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DF303-384A-48C0-B281-1B7ED3A503C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3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sldNum" idx="35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3927F-8CAD-42D1-A26B-AF6DAA68758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2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1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1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2082" name="PlaceHolder 1"/>
          <p:cNvSpPr>
            <a:spLocks noGrp="1"/>
          </p:cNvSpPr>
          <p:nvPr>
            <p:ph type="sldNum" idx="36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62262-95ED-4ACD-9545-AC471E10CB7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2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2123" name="PlaceHolder 1"/>
          <p:cNvSpPr>
            <a:spLocks noGrp="1"/>
          </p:cNvSpPr>
          <p:nvPr>
            <p:ph type="sldNum" idx="37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713FE-4B4E-4CFC-8382-564D15535F3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2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2163" name="PlaceHolder 1"/>
          <p:cNvSpPr>
            <a:spLocks noGrp="1"/>
          </p:cNvSpPr>
          <p:nvPr>
            <p:ph type="sldNum" idx="38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3AC34-BD05-4821-8F3B-0CC350BD8E4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1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0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0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2281" name="PlaceHolder 1"/>
          <p:cNvSpPr>
            <a:spLocks noGrp="1"/>
          </p:cNvSpPr>
          <p:nvPr>
            <p:ph type="sldNum" idx="39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45F3A-42DA-4A8B-95AB-8482759D522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5822F-021C-4216-9C59-710A6BBFE7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1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2322" name="PlaceHolder 1"/>
          <p:cNvSpPr>
            <a:spLocks noGrp="1"/>
          </p:cNvSpPr>
          <p:nvPr>
            <p:ph type="sldNum" idx="40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8F1FB-DC50-4609-9369-9E5F20EC2D1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1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2362" name="PlaceHolder 1"/>
          <p:cNvSpPr>
            <a:spLocks noGrp="1"/>
          </p:cNvSpPr>
          <p:nvPr>
            <p:ph type="sldNum" idx="41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2889E-F5D5-44C9-9E0C-912F07F42A3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Num" idx="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65A91-DEBE-46F9-A613-CD4D945C7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Num" idx="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E53A8-A119-4E22-BF6A-5A83F10CF2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01555-1397-4CDC-A2A9-78040EDBA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5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8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5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5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5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5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sadownload.ed.gov/" TargetMode="External"/><Relationship Id="rId2" Type="http://schemas.openxmlformats.org/officeDocument/2006/relationships/hyperlink" Target="http://www.fsadownload.ed.gov/" TargetMode="External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fap.ed.gov/eannouncements/031115LoanRecordDetailReportLRDRImportTool.html" TargetMode="External"/><Relationship Id="rId2" Type="http://schemas.openxmlformats.org/officeDocument/2006/relationships/hyperlink" Target="http://ifap.ed.gov/eannouncements/062215SchoolPortfolioReportImportTool.html" TargetMode="External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77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ifap.ed.gov/ifap/byNSLDSType.jsp?type=NSLDS" TargetMode="External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9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697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9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17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17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17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nsldsfap.ed.gov/" TargetMode="External"/><Relationship Id="rId2" Type="http://schemas.openxmlformats.org/officeDocument/2006/relationships/hyperlink" Target="mailto:nslds@ed.gov" TargetMode="External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"/>
          <p:cNvSpPr txBox="1"/>
          <p:nvPr/>
        </p:nvSpPr>
        <p:spPr>
          <a:xfrm>
            <a:off x="456840" y="2857680"/>
            <a:ext cx="84582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Eric Hardy and Bessie Sipple-Asher | Dec.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U.S. Department of 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2015 FSA Training Conference for Financial Aid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228600" y="1503360"/>
            <a:ext cx="86104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NSLDS UPDATE 2015</a:t>
            </a:r>
            <a:br>
              <a:rPr sz="4400"/>
            </a:b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Title 3"/>
          <p:cNvSpPr/>
          <p:nvPr/>
        </p:nvSpPr>
        <p:spPr>
          <a:xfrm>
            <a:off x="152280" y="228600"/>
            <a:ext cx="35053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Session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affi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476280" y="819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n “R” reaffirmation icon displays next to the Loan Detail button on the Loan History page for a reaffirmed lo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licking on the “R” icon takes the user to the Reaffirmation History page for the corresponding lo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19EDB-0D2B-42AE-9AAC-5F9DFB7D24D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8" name="Picture 5" descr=""/>
          <p:cNvPicPr/>
          <p:nvPr/>
        </p:nvPicPr>
        <p:blipFill>
          <a:blip r:embed="rId1"/>
          <a:stretch/>
        </p:blipFill>
        <p:spPr>
          <a:xfrm>
            <a:off x="1836720" y="1657440"/>
            <a:ext cx="5489640" cy="1912680"/>
          </a:xfrm>
          <a:prstGeom prst="rect">
            <a:avLst/>
          </a:prstGeom>
          <a:ln w="0">
            <a:noFill/>
          </a:ln>
        </p:spPr>
      </p:pic>
      <p:pic>
        <p:nvPicPr>
          <p:cNvPr id="2439" name="Picture 6" descr=""/>
          <p:cNvPicPr/>
          <p:nvPr/>
        </p:nvPicPr>
        <p:blipFill>
          <a:blip r:embed="rId2"/>
          <a:stretch/>
        </p:blipFill>
        <p:spPr>
          <a:xfrm>
            <a:off x="4419720" y="4213080"/>
            <a:ext cx="3819240" cy="40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0" name="Oval 2"/>
          <p:cNvSpPr/>
          <p:nvPr/>
        </p:nvSpPr>
        <p:spPr>
          <a:xfrm>
            <a:off x="4562640" y="1787400"/>
            <a:ext cx="27540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41" name="Curved Connector 9"/>
          <p:cNvCxnSpPr/>
          <p:nvPr/>
        </p:nvCxnSpPr>
        <p:spPr>
          <a:xfrm rot="10800000">
            <a:off x="7286040" y="2067840"/>
            <a:ext cx="87840" cy="13320"/>
          </a:xfrm>
          <a:prstGeom prst="curvedConnector5">
            <a:avLst>
              <a:gd name="adj1" fmla="val 13580"/>
              <a:gd name="adj2" fmla="val 50000"/>
              <a:gd name="adj3" fmla="val 1358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2" name="Elbow Connector 11"/>
          <p:cNvCxnSpPr/>
          <p:nvPr/>
        </p:nvCxnSpPr>
        <p:spPr>
          <a:xfrm flipH="1" rot="16200000">
            <a:off x="6741720" y="2716560"/>
            <a:ext cx="2127960" cy="865800"/>
          </a:xfrm>
          <a:prstGeom prst="bentConnector3">
            <a:avLst>
              <a:gd name="adj1" fmla="val -473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affi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"/>
          <p:cNvSpPr txBox="1"/>
          <p:nvPr/>
        </p:nvSpPr>
        <p:spPr>
          <a:xfrm>
            <a:off x="380880" y="3714480"/>
            <a:ext cx="87631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186120" indent="-18612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Reaffirmation records display in descending order by Reaffirmation Begi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6120" indent="-18612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Newsletter #48 details how to use Reaffirmation data on NSLDS Professional Access along with Prescreening and Postscreening codes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1D40D-2E4A-42AE-AFC5-13D75EAF417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6" name="Picture 5" descr=""/>
          <p:cNvPicPr/>
          <p:nvPr/>
        </p:nvPicPr>
        <p:blipFill>
          <a:blip r:embed="rId1"/>
          <a:srcRect l="0" t="11411" r="1706" b="10324"/>
          <a:stretch/>
        </p:blipFill>
        <p:spPr>
          <a:xfrm>
            <a:off x="954000" y="895320"/>
            <a:ext cx="63277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Reporting Statis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0" y="895320"/>
            <a:ext cx="91440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 March 2015, FSA began an outreach campaign (e-mails and phone calls) to schools that had not yet reported Program-level Enroll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 July 2015, NSLDS released the Enrollment Reporting Statistics web 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Available to all school-users associated to that sch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Generated on the third Wednesday of each mon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Designed to emphasize the “completeness” of reporting not just the timeli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323C0-F928-4E32-BBA8-C95E0EBF4C1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Title 1"/>
          <p:cNvSpPr/>
          <p:nvPr/>
        </p:nvSpPr>
        <p:spPr>
          <a:xfrm>
            <a:off x="304920" y="438120"/>
            <a:ext cx="2668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nrollment Reporting Statistic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1" name="Picture 2" descr=""/>
          <p:cNvPicPr/>
          <p:nvPr/>
        </p:nvPicPr>
        <p:blipFill>
          <a:blip r:embed="rId1"/>
          <a:stretch/>
        </p:blipFill>
        <p:spPr>
          <a:xfrm>
            <a:off x="3327480" y="285840"/>
            <a:ext cx="581652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52" name="Picture 3" descr=""/>
          <p:cNvPicPr/>
          <p:nvPr/>
        </p:nvPicPr>
        <p:blipFill>
          <a:blip r:embed="rId2"/>
          <a:stretch/>
        </p:blipFill>
        <p:spPr>
          <a:xfrm>
            <a:off x="0" y="2266920"/>
            <a:ext cx="9144000" cy="238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53" name="Slide Number Placeholder 1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2DD84-BEA2-44F1-8D40-B934E226866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Reporting Statis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5" name="Picture 2" descr=""/>
          <p:cNvPicPr/>
          <p:nvPr/>
        </p:nvPicPr>
        <p:blipFill>
          <a:blip r:embed="rId1"/>
          <a:srcRect l="0" t="65460" r="0" b="0"/>
          <a:stretch/>
        </p:blipFill>
        <p:spPr>
          <a:xfrm>
            <a:off x="447840" y="836640"/>
            <a:ext cx="8364240" cy="91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56" name="Left Brace 4"/>
          <p:cNvSpPr/>
          <p:nvPr/>
        </p:nvSpPr>
        <p:spPr>
          <a:xfrm rot="16200000">
            <a:off x="3179520" y="-811440"/>
            <a:ext cx="381240" cy="5788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5788080"/>
              <a:gd name="textAreaBottom" fmla="*/ 5778360 h 578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8"/>
                </a:cubicBezTo>
                <a:lnTo>
                  <a:pt x="10800" y="10682"/>
                </a:lnTo>
                <a:cubicBezTo>
                  <a:pt x="10800" y="10741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8"/>
                </a:cubicBezTo>
                <a:lnTo>
                  <a:pt x="10800" y="21482"/>
                </a:lnTo>
                <a:cubicBezTo>
                  <a:pt x="10800" y="2154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7" name=""/>
          <p:cNvGraphicFramePr/>
          <p:nvPr/>
        </p:nvGraphicFramePr>
        <p:xfrm>
          <a:off x="409680" y="2333520"/>
          <a:ext cx="8440560" cy="2286000"/>
        </p:xfrm>
        <a:graphic>
          <a:graphicData uri="http://schemas.openxmlformats.org/drawingml/2006/table">
            <a:tbl>
              <a:tblPr/>
              <a:tblGrid>
                <a:gridCol w="3166920"/>
                <a:gridCol w="5273640"/>
              </a:tblGrid>
              <a:tr h="2764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of the evaluation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of the evaluation period and date the evaluation is perform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in Portfol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udents on the school’s roster as of the star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Cert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udents on a roster as of the start date which were certified at least once on or before the evalua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Certified with Program Enroll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udents on a roster as of the start date that was certified with a program at least once on or before the evalua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Cert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Certified divided by Students i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Certified with Program Enroll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Certified with Program Enrollment divided by Students i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8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1BE83-4652-46C8-8F3B-63907ED8C4F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Reporting Statis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0" name="Picture 2" descr=""/>
          <p:cNvPicPr/>
          <p:nvPr/>
        </p:nvPicPr>
        <p:blipFill>
          <a:blip r:embed="rId1"/>
          <a:srcRect l="0" t="65460" r="0" b="0"/>
          <a:stretch/>
        </p:blipFill>
        <p:spPr>
          <a:xfrm>
            <a:off x="460440" y="971640"/>
            <a:ext cx="8364600" cy="91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61" name="Left Brace 2"/>
          <p:cNvSpPr/>
          <p:nvPr/>
        </p:nvSpPr>
        <p:spPr>
          <a:xfrm rot="16200000">
            <a:off x="7429320" y="856800"/>
            <a:ext cx="381240" cy="2590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2590920"/>
              <a:gd name="textAreaBottom" fmla="*/ 2581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3"/>
                  <a:pt x="10800" y="265"/>
                </a:cubicBezTo>
                <a:lnTo>
                  <a:pt x="10800" y="10535"/>
                </a:lnTo>
                <a:cubicBezTo>
                  <a:pt x="10800" y="10668"/>
                  <a:pt x="5400" y="10800"/>
                  <a:pt x="0" y="10800"/>
                </a:cubicBezTo>
                <a:cubicBezTo>
                  <a:pt x="5400" y="10800"/>
                  <a:pt x="10800" y="10933"/>
                  <a:pt x="10800" y="11065"/>
                </a:cubicBezTo>
                <a:lnTo>
                  <a:pt x="10800" y="21335"/>
                </a:lnTo>
                <a:cubicBezTo>
                  <a:pt x="10800" y="2146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Left Brace 5"/>
          <p:cNvSpPr/>
          <p:nvPr/>
        </p:nvSpPr>
        <p:spPr>
          <a:xfrm rot="16200000">
            <a:off x="828360" y="1494720"/>
            <a:ext cx="381240" cy="131472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1314720"/>
              <a:gd name="textAreaBottom" fmla="*/ 1305000 h 131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1"/>
                  <a:pt x="10800" y="522"/>
                </a:cubicBezTo>
                <a:lnTo>
                  <a:pt x="10800" y="10278"/>
                </a:lnTo>
                <a:cubicBezTo>
                  <a:pt x="10800" y="10539"/>
                  <a:pt x="5400" y="10800"/>
                  <a:pt x="0" y="10800"/>
                </a:cubicBezTo>
                <a:cubicBezTo>
                  <a:pt x="5400" y="10800"/>
                  <a:pt x="10800" y="11061"/>
                  <a:pt x="10800" y="11322"/>
                </a:cubicBezTo>
                <a:lnTo>
                  <a:pt x="10800" y="21078"/>
                </a:lnTo>
                <a:cubicBezTo>
                  <a:pt x="10800" y="2133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3" name=""/>
          <p:cNvGraphicFramePr/>
          <p:nvPr/>
        </p:nvGraphicFramePr>
        <p:xfrm>
          <a:off x="474840" y="2693880"/>
          <a:ext cx="8278560" cy="1871640"/>
        </p:xfrm>
        <a:graphic>
          <a:graphicData uri="http://schemas.openxmlformats.org/drawingml/2006/table">
            <a:tbl>
              <a:tblPr/>
              <a:tblGrid>
                <a:gridCol w="2944800"/>
                <a:gridCol w="5333760"/>
              </a:tblGrid>
              <a:tr h="274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of the evaluation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of the evaluation period and date the evaluation is perform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ter Records Retur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umber of records the school submitted between the Start Date and Evalua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ter Records in Error Retur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umber of records returned to the school for an error between the Start Date and Evalua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ter Error Perc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ter Record in Error Returned divided by Roster Record Retur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4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7EEC4-2A20-4757-B77D-6B92F443204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Reporting Statistic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AE1AD-ED15-4D4D-9A7F-E9E0A889B96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"/>
          <p:cNvSpPr txBox="1"/>
          <p:nvPr/>
        </p:nvSpPr>
        <p:spPr>
          <a:xfrm>
            <a:off x="152280" y="97164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Warning icons will display under the following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The school location has, as of the most recent calculation</a:t>
            </a:r>
            <a:r>
              <a:rPr b="1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 failed to achieve the minimum threshold for certifying students in its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The school location is currently late in responding to a roster sent by NSLDS. A late letter has been sent and no roster has been received after the late letter was s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The school location has failed to achieve the minimum threshold for certification and is currently late responding to a ro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8" name="Picture 8" descr=""/>
          <p:cNvPicPr/>
          <p:nvPr/>
        </p:nvPicPr>
        <p:blipFill>
          <a:blip r:embed="rId1"/>
          <a:stretch/>
        </p:blipFill>
        <p:spPr>
          <a:xfrm>
            <a:off x="8381880" y="1193760"/>
            <a:ext cx="49536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69" name="Picture 8" descr=""/>
          <p:cNvPicPr/>
          <p:nvPr/>
        </p:nvPicPr>
        <p:blipFill>
          <a:blip r:embed="rId2"/>
          <a:stretch/>
        </p:blipFill>
        <p:spPr>
          <a:xfrm>
            <a:off x="8381880" y="2536920"/>
            <a:ext cx="49536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70" name="Picture 8" descr=""/>
          <p:cNvPicPr/>
          <p:nvPr/>
        </p:nvPicPr>
        <p:blipFill>
          <a:blip r:embed="rId3"/>
          <a:stretch/>
        </p:blipFill>
        <p:spPr>
          <a:xfrm>
            <a:off x="8381880" y="3908520"/>
            <a:ext cx="49536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Statistics Repo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2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D6951-8EF8-46CE-886B-31EE0216D1F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"/>
          <p:cNvSpPr txBox="1"/>
          <p:nvPr/>
        </p:nvSpPr>
        <p:spPr>
          <a:xfrm>
            <a:off x="460080" y="1047240"/>
            <a:ext cx="37335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he Enrollment Statistics Report (</a:t>
            </a:r>
            <a:r>
              <a:rPr b="0" i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ENLST1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) includes information about completeness and quality of the enrollment reporting provided by schools participating in federal student a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4" name="Picture 2" descr=""/>
          <p:cNvPicPr/>
          <p:nvPr/>
        </p:nvPicPr>
        <p:blipFill>
          <a:blip r:embed="rId1"/>
          <a:stretch/>
        </p:blipFill>
        <p:spPr>
          <a:xfrm>
            <a:off x="4448160" y="819000"/>
            <a:ext cx="4440240" cy="432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Loss of Interest Subsidy (150%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6" name="Diagram 7" descr=""/>
          <p:cNvPicPr/>
          <p:nvPr/>
        </p:nvPicPr>
        <p:blipFill>
          <a:blip r:embed="rId1"/>
          <a:stretch/>
        </p:blipFill>
        <p:spPr>
          <a:xfrm>
            <a:off x="573120" y="895320"/>
            <a:ext cx="8016840" cy="3427560"/>
          </a:xfrm>
          <a:prstGeom prst="rect">
            <a:avLst/>
          </a:prstGeom>
          <a:ln w="0">
            <a:noFill/>
          </a:ln>
        </p:spPr>
      </p:pic>
      <p:sp>
        <p:nvSpPr>
          <p:cNvPr id="2477" name=""/>
          <p:cNvSpPr txBox="1"/>
          <p:nvPr/>
        </p:nvSpPr>
        <p:spPr>
          <a:xfrm>
            <a:off x="228240" y="3714480"/>
            <a:ext cx="8785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535353"/>
                </a:solidFill>
                <a:latin typeface="Arial"/>
                <a:ea typeface="Arial"/>
              </a:rPr>
              <a:t>LOS is based on </a:t>
            </a:r>
            <a:r>
              <a:rPr b="1" lang="en-US" sz="2300" spc="-1" strike="noStrike">
                <a:solidFill>
                  <a:srgbClr val="535353"/>
                </a:solidFill>
                <a:latin typeface="Arial"/>
                <a:ea typeface="Arial"/>
              </a:rPr>
              <a:t>Enrollment Reporting by schools </a:t>
            </a:r>
            <a:r>
              <a:rPr b="0" lang="en-US" sz="2300" spc="-1" strike="noStrike">
                <a:solidFill>
                  <a:srgbClr val="535353"/>
                </a:solidFill>
                <a:latin typeface="Arial"/>
                <a:ea typeface="Arial"/>
              </a:rPr>
              <a:t>to NSLD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0A061-B5BA-4673-B694-D31C86F21AA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Loss of Interest Subsidy (150%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9E043-64DA-4724-B244-53D29EBD20B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Content Placeholder 10"/>
          <p:cNvSpPr/>
          <p:nvPr/>
        </p:nvSpPr>
        <p:spPr>
          <a:xfrm>
            <a:off x="266760" y="895320"/>
            <a:ext cx="861048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Times New Roman"/>
              </a:rPr>
              <a:t>In July 2015, NSLDS implemented functionality to identify borrowers who lost eligibility for interest subsidy on their Direct Subsidized Lo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2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Times New Roman"/>
              </a:rPr>
              <a:t>Inquiries should be submitted online via COD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2" name=""/>
          <p:cNvGraphicFramePr/>
          <p:nvPr/>
        </p:nvGraphicFramePr>
        <p:xfrm>
          <a:off x="1447920" y="1809720"/>
          <a:ext cx="6095880" cy="18334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of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ns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at have Lost Interest Subsi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of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rowers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at have Lost Interest Subsi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of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s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at have a loan that has Lost Interest Subsi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7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3" name=""/>
          <p:cNvGraphicFramePr/>
          <p:nvPr/>
        </p:nvGraphicFramePr>
        <p:xfrm>
          <a:off x="1447920" y="3643200"/>
          <a:ext cx="6095880" cy="3715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* As of 2015-11-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"/>
          <p:cNvSpPr txBox="1"/>
          <p:nvPr/>
        </p:nvSpPr>
        <p:spPr>
          <a:xfrm>
            <a:off x="533520" y="114300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What is in NSLD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Changes Made in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NSLDS Planned Enhanc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03F6F-927D-46BF-B3CF-E225ACC5613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erkins Reconciliation Re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"/>
          <p:cNvSpPr txBox="1"/>
          <p:nvPr/>
        </p:nvSpPr>
        <p:spPr>
          <a:xfrm>
            <a:off x="152280" y="819000"/>
            <a:ext cx="87631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Released in July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Perkins Reconciliation Report (REC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rovides school users with an extract file containing information on campus-based loans they currently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Ad-Hoc Report – one time report delivered to the SAIG mailbox (TG Number) associated with the User ID requesting this 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Scheduled Report – automatically distributed on a monthly basis to a designated SAIG mailb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Message Class: SCHREC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7CE9C-DDB4-4766-8121-B209152E87A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xit Counseling Spreadsheet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 October 2015, the </a:t>
            </a:r>
            <a:r>
              <a:rPr b="1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xit Counseling Spreadsheet 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ubmittal template was updated to accept both .xls or .xlsx form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Allows users to upload and submit to 2,500 records/rows of data at a time, with a maximum file size of 1,000 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With the new template the NSLDSFAP website allows users to validate data within their Exit Counseling Spreadsheet before submitting to NSL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The submittal template is available on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fsadownload.ed.g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E5424-7B24-49B8-AE36-61A158CCC8F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ublic Service Loan Forgiven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C66A2-767D-4943-8CE2-BDDBC18C30F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"/>
          <p:cNvSpPr txBox="1"/>
          <p:nvPr/>
        </p:nvSpPr>
        <p:spPr>
          <a:xfrm>
            <a:off x="241200" y="930240"/>
            <a:ext cx="8686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3" name="Picture 2" descr="C:\Users\Eric.Hardy\AppData\Local\Microsoft\Windows\Temporary Internet Files\Content.Outlook\JVD3DE4A\pslf zoom.PNG"/>
          <p:cNvPicPr/>
          <p:nvPr/>
        </p:nvPicPr>
        <p:blipFill>
          <a:blip r:embed="rId1"/>
          <a:stretch/>
        </p:blipFill>
        <p:spPr>
          <a:xfrm>
            <a:off x="1828800" y="1008000"/>
            <a:ext cx="4641840" cy="146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94" name="Content Placeholder 2"/>
          <p:cNvSpPr/>
          <p:nvPr/>
        </p:nvSpPr>
        <p:spPr>
          <a:xfrm>
            <a:off x="533520" y="930240"/>
            <a:ext cx="82296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575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535353"/>
                </a:solidFill>
                <a:latin typeface="Arial"/>
              </a:rPr>
              <a:t>NSLDS began displaying the cumulative number of matched months in October 201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575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575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535353"/>
                </a:solidFill>
                <a:latin typeface="Arial"/>
              </a:rPr>
              <a:t>The PSLF Servicer will begin updating this value weekly in December 201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LRDR and SPR Import To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4B80C-6F15-4CE6-B06F-20A68E7D468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"/>
          <p:cNvSpPr txBox="1"/>
          <p:nvPr/>
        </p:nvSpPr>
        <p:spPr>
          <a:xfrm>
            <a:off x="228600" y="930240"/>
            <a:ext cx="8686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Content Placeholder 2"/>
          <p:cNvSpPr/>
          <p:nvPr/>
        </p:nvSpPr>
        <p:spPr>
          <a:xfrm>
            <a:off x="76320" y="1143000"/>
            <a:ext cx="883908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</a:rPr>
              <a:t>NSLDS released an import tool that allows schools to easily import a fixed-width version of reports into Microsoft Exc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</a:rPr>
              <a:t>March 2015—Loan Record Detail Report (LRDR)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fap.ed.gov/eannouncements/031115LoanRecordDetailReportLRDRImportTool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</a:rPr>
              <a:t>June 2015—School Portfolio Report (SCHPR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fap.ed.gov/eannouncements/062215SchoolPortfolioReportImportTool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SA I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533520" y="8953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 May 2015, a Username and Password replaced the Personal Identification Number (PIN) for students, parents, and borrowers to log into NSL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1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BE7BA-0A7D-43B3-AAAD-3CF65851CF0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2" name="Picture 3" descr=""/>
          <p:cNvPicPr/>
          <p:nvPr/>
        </p:nvPicPr>
        <p:blipFill>
          <a:blip r:embed="rId1"/>
          <a:srcRect l="9094" t="4102" r="8168" b="9358"/>
          <a:stretch/>
        </p:blipFill>
        <p:spPr>
          <a:xfrm>
            <a:off x="1828800" y="2011320"/>
            <a:ext cx="5410080" cy="26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GE Program Trac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"/>
          <p:cNvSpPr txBox="1"/>
          <p:nvPr/>
        </p:nvSpPr>
        <p:spPr>
          <a:xfrm>
            <a:off x="304560" y="895320"/>
            <a:ext cx="4267080" cy="38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 July 2015, NSLDS released the GE Program Tracking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Displays a unique list of GE programs and their sources, for an instit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stitutions are required to update the program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E151D-1865-48A3-A317-E3DC06F9C20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6" name="Picture 14" descr="C:\Users\MEGANG~1.AD\AppData\Local\Temp\1\SNAGHTML100fa602.PNG"/>
          <p:cNvPicPr/>
          <p:nvPr/>
        </p:nvPicPr>
        <p:blipFill>
          <a:blip r:embed="rId1"/>
          <a:srcRect l="0" t="0" r="0" b="13728"/>
          <a:stretch/>
        </p:blipFill>
        <p:spPr>
          <a:xfrm>
            <a:off x="4540320" y="895320"/>
            <a:ext cx="4575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GE Program Track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1A138-1D3A-46C3-9542-B33FB7E20E5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9" name="Picture 4" descr=""/>
          <p:cNvPicPr/>
          <p:nvPr/>
        </p:nvPicPr>
        <p:blipFill>
          <a:blip r:embed="rId1"/>
          <a:srcRect l="0" t="25782" r="-496" b="14452"/>
          <a:stretch/>
        </p:blipFill>
        <p:spPr>
          <a:xfrm>
            <a:off x="588960" y="1886040"/>
            <a:ext cx="7881840" cy="2666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10" name=""/>
          <p:cNvSpPr txBox="1"/>
          <p:nvPr/>
        </p:nvSpPr>
        <p:spPr>
          <a:xfrm>
            <a:off x="460080" y="895320"/>
            <a:ext cx="82263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NSLDS also released a companion report to GE Program Tracking function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Content Placeholder 2"/>
          <p:cNvSpPr/>
          <p:nvPr/>
        </p:nvSpPr>
        <p:spPr>
          <a:xfrm>
            <a:off x="314280" y="19242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</a:rPr>
              <a:t>NSLDS Planned Enhanc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B1F49-4D01-4EDB-BEAD-D29CCA93FE7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GE Completers Li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"/>
          <p:cNvSpPr txBox="1"/>
          <p:nvPr/>
        </p:nvSpPr>
        <p:spPr>
          <a:xfrm>
            <a:off x="151920" y="819000"/>
            <a:ext cx="8861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2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SLDS will release the GE Completer’s List very s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ontains students who have completed a G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Draft and Final GE Completers Lis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Students and GE Programs as reported to NSLDS by a sch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Final GE Completers Lis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Updates made by DCAS based on a school’s approved challen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779AA-24EE-4C2C-BCD3-2419DC6552F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GE Completers Li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"/>
          <p:cNvSpPr txBox="1"/>
          <p:nvPr/>
        </p:nvSpPr>
        <p:spPr>
          <a:xfrm>
            <a:off x="6324480" y="971640"/>
            <a:ext cx="2743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GE Completers List (GEPDC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ontains students who have completed a G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FC203-569E-4E0C-BACB-369F104F1D2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9" name="Picture 5" descr=""/>
          <p:cNvPicPr/>
          <p:nvPr/>
        </p:nvPicPr>
        <p:blipFill>
          <a:blip r:embed="rId1"/>
          <a:srcRect l="0" t="22419" r="0" b="0"/>
          <a:stretch/>
        </p:blipFill>
        <p:spPr>
          <a:xfrm>
            <a:off x="304920" y="1200240"/>
            <a:ext cx="5957640" cy="336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What is in NSLDS for School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3" name="Diagram 3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613720" cy="3943080"/>
          </a:xfrm>
          <a:prstGeom prst="rect">
            <a:avLst/>
          </a:prstGeom>
          <a:ln w="0">
            <a:noFill/>
          </a:ln>
        </p:spPr>
      </p:pic>
      <p:sp>
        <p:nvSpPr>
          <p:cNvPr id="2414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9C774-D8B2-4F6C-B7BD-F09E70C0890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Year-End Acknowled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"/>
          <p:cNvSpPr txBox="1"/>
          <p:nvPr/>
        </p:nvSpPr>
        <p:spPr>
          <a:xfrm>
            <a:off x="75960" y="930240"/>
            <a:ext cx="88390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3840" indent="-2138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DP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 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ctive SAIG mailboxes annually or all users in their organization risk losing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3840" indent="-2138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ccess to these accounts will be removed if not validated within specified peri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76200" indent="-16236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Affects access to NSLDS &amp; Title IV aid report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79960" indent="-15192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All Online capabil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579960" indent="-15192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NSLDS Batch Serv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579960" indent="-15192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Enrollment Repor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579960" indent="-15192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Perkins Repor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579960" indent="-15192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TSM/FAH Repor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579960" indent="-15192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eCD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76200" indent="-162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Deadline to validate is DECEMBER 11,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3840" indent="-213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3840" indent="-213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A359A-A298-4588-BC32-2625E899670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tudent Eligibility 2016-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SIR and S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o new field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o new codes added to existing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ransfer Student Monitoring/Financial Aid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Updated guide published on November 22,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dded Reaffirmation Cod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2C929-99AB-4EBB-8866-3ECDC2ADBFF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Unusual Enrollment History (UEH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"/>
          <p:cNvSpPr txBox="1"/>
          <p:nvPr/>
        </p:nvSpPr>
        <p:spPr>
          <a:xfrm>
            <a:off x="151920" y="1143000"/>
            <a:ext cx="8861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Updating the logic used to flag students with Unusual Enrollment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-2318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dding logic to account for students that move from undergraduate studies to graduate 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-2318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Better account for schools that merge from one school code to a new school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-2318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pplicable for 2015-16 and 2016-17 in January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-2318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o new codes or fields added to the IS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-231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2814E-5D80-4E00-AF07-0767D7B26FF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Website Enhanc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4134C-8F0F-427D-836B-CCD0438F403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"/>
          <p:cNvSpPr txBox="1"/>
          <p:nvPr/>
        </p:nvSpPr>
        <p:spPr>
          <a:xfrm>
            <a:off x="76320" y="930240"/>
            <a:ext cx="90676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n December 2015, NSLDS will make several enhancements to the Loan information displayed on NSLDSF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hanges are applicable to federally-serviced loans o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hanges will be phased in starting in December 2015 through January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Website Enhanc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EF28D-B932-413E-81CD-D7C546439F9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4" name="Picture 8" descr=""/>
          <p:cNvPicPr/>
          <p:nvPr/>
        </p:nvPicPr>
        <p:blipFill>
          <a:blip r:embed="rId1"/>
          <a:stretch/>
        </p:blipFill>
        <p:spPr>
          <a:xfrm>
            <a:off x="1276200" y="1800360"/>
            <a:ext cx="6589800" cy="3000240"/>
          </a:xfrm>
          <a:prstGeom prst="rect">
            <a:avLst/>
          </a:prstGeom>
          <a:ln w="0">
            <a:noFill/>
          </a:ln>
        </p:spPr>
      </p:pic>
      <p:sp>
        <p:nvSpPr>
          <p:cNvPr id="2535" name=""/>
          <p:cNvSpPr txBox="1"/>
          <p:nvPr/>
        </p:nvSpPr>
        <p:spPr>
          <a:xfrm>
            <a:off x="228600" y="930240"/>
            <a:ext cx="8686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Last Payment Date 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will be replaced with </a:t>
            </a:r>
            <a:r>
              <a:rPr b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ext Payment Due Date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 in the </a:t>
            </a:r>
            <a:r>
              <a:rPr b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etails for Loan 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60080" y="18072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Website Enhanc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TextBox 4"/>
          <p:cNvSpPr/>
          <p:nvPr/>
        </p:nvSpPr>
        <p:spPr>
          <a:xfrm>
            <a:off x="304920" y="914400"/>
            <a:ext cx="3886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Repayment Plan will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isclosure Date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date which the servicer distributed the disclosure of repayment terms to the borrower for the lo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8" name="Picture 5" descr=""/>
          <p:cNvPicPr/>
          <p:nvPr/>
        </p:nvPicPr>
        <p:blipFill>
          <a:blip r:embed="rId1"/>
          <a:stretch/>
        </p:blipFill>
        <p:spPr>
          <a:xfrm>
            <a:off x="4191120" y="1047600"/>
            <a:ext cx="4562280" cy="3289320"/>
          </a:xfrm>
          <a:prstGeom prst="rect">
            <a:avLst/>
          </a:prstGeom>
          <a:ln w="0">
            <a:noFill/>
          </a:ln>
        </p:spPr>
      </p:pic>
      <p:pic>
        <p:nvPicPr>
          <p:cNvPr id="2539" name="Picture 5" descr=""/>
          <p:cNvPicPr/>
          <p:nvPr/>
        </p:nvPicPr>
        <p:blipFill>
          <a:blip r:embed="rId2"/>
          <a:stretch/>
        </p:blipFill>
        <p:spPr>
          <a:xfrm>
            <a:off x="2924280" y="2324160"/>
            <a:ext cx="6219720" cy="1190520"/>
          </a:xfrm>
          <a:prstGeom prst="rect">
            <a:avLst/>
          </a:prstGeom>
          <a:ln w="0">
            <a:noFill/>
          </a:ln>
        </p:spPr>
      </p:pic>
      <p:sp>
        <p:nvSpPr>
          <p:cNvPr id="2540" name="Rectangle 3"/>
          <p:cNvSpPr/>
          <p:nvPr/>
        </p:nvSpPr>
        <p:spPr>
          <a:xfrm>
            <a:off x="304920" y="2327400"/>
            <a:ext cx="2666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595959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 Payment Due Date 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–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rst payment due following the disclosure d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Rectangle 6"/>
          <p:cNvSpPr/>
          <p:nvPr/>
        </p:nvSpPr>
        <p:spPr>
          <a:xfrm>
            <a:off x="304920" y="3465360"/>
            <a:ext cx="36576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IDR Plan Anniv. Date 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– 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date a borrower will be reevaluated for IDR based on the date when the borrower entered the current IDR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85370-0AEB-436D-8B26-A504ED9CA23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295200" y="209160"/>
            <a:ext cx="8553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595959"/>
                </a:solidFill>
                <a:latin typeface="Arial"/>
                <a:ea typeface="Arial"/>
              </a:rPr>
              <a:t>Website Enhancements</a:t>
            </a: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"/>
          <p:cNvSpPr txBox="1"/>
          <p:nvPr/>
        </p:nvSpPr>
        <p:spPr>
          <a:xfrm>
            <a:off x="533520" y="10065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NSLDS will begin to collect and display summarized payme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F6000-38E3-47D4-BED7-29F8449A801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6" name="Picture 6" descr=""/>
          <p:cNvPicPr/>
          <p:nvPr/>
        </p:nvPicPr>
        <p:blipFill>
          <a:blip r:embed="rId1"/>
          <a:stretch/>
        </p:blipFill>
        <p:spPr>
          <a:xfrm>
            <a:off x="1676520" y="2190600"/>
            <a:ext cx="5771880" cy="14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Website Enhanc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5791320" y="905040"/>
            <a:ext cx="320328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Discharge Partial/Full Indicator – 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indicates if the discharge record reported is a partial or a full discharge of the lo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Forgiveness Partial/Full Indicator – 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indicates if the forgiveness record reported is a partial or a full discharge of the lo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9" name="Picture 7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465800" cy="3219120"/>
          </a:xfrm>
          <a:prstGeom prst="rect">
            <a:avLst/>
          </a:prstGeom>
          <a:ln w="0">
            <a:noFill/>
          </a:ln>
        </p:spPr>
      </p:pic>
      <p:pic>
        <p:nvPicPr>
          <p:cNvPr id="2550" name="Picture 7" descr=""/>
          <p:cNvPicPr/>
          <p:nvPr/>
        </p:nvPicPr>
        <p:blipFill>
          <a:blip r:embed="rId2"/>
          <a:stretch/>
        </p:blipFill>
        <p:spPr>
          <a:xfrm>
            <a:off x="228600" y="1886040"/>
            <a:ext cx="5451480" cy="1782720"/>
          </a:xfrm>
          <a:prstGeom prst="rect">
            <a:avLst/>
          </a:prstGeom>
          <a:ln w="0">
            <a:noFill/>
          </a:ln>
        </p:spPr>
      </p:pic>
      <p:sp>
        <p:nvSpPr>
          <p:cNvPr id="2551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F2856-4AB7-4EA8-9369-C4D2260DE15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New Income-Driven Repayment Pl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"/>
          <p:cNvSpPr txBox="1"/>
          <p:nvPr/>
        </p:nvSpPr>
        <p:spPr>
          <a:xfrm>
            <a:off x="151920" y="1143000"/>
            <a:ext cx="86108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Revised Pay As You Earn (REPAYE)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vailable to Direct Loan borro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xcludes Parent PLUS and consolidation loans containing a Parent PLUS lo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ayment based on 10% of discretionary inc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Forgivene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20 Years - Borrowers with undergraduate loans on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25 Years - Borrowers with undergraduate and graduate loans or just graduate lo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4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D33E5-38FF-4D7F-B027-C7F1489BFBC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NSLDSFAP Website Enhanc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Rectangle 5"/>
          <p:cNvSpPr/>
          <p:nvPr/>
        </p:nvSpPr>
        <p:spPr>
          <a:xfrm>
            <a:off x="4724280" y="2770200"/>
            <a:ext cx="4419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Repayment Plan Typ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I5 - Borrowers in REPAY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J5 - Borrowers that have been removed from REPAYE and currently under a Post-REPAYE-Alternative-Fixed repaym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7" name="Picture 5" descr=""/>
          <p:cNvPicPr/>
          <p:nvPr/>
        </p:nvPicPr>
        <p:blipFill>
          <a:blip r:embed="rId1"/>
          <a:stretch/>
        </p:blipFill>
        <p:spPr>
          <a:xfrm>
            <a:off x="152280" y="958680"/>
            <a:ext cx="4878360" cy="3517920"/>
          </a:xfrm>
          <a:prstGeom prst="rect">
            <a:avLst/>
          </a:prstGeom>
          <a:ln w="0">
            <a:noFill/>
          </a:ln>
        </p:spPr>
      </p:pic>
      <p:pic>
        <p:nvPicPr>
          <p:cNvPr id="2558" name="Picture 7" descr=""/>
          <p:cNvPicPr/>
          <p:nvPr/>
        </p:nvPicPr>
        <p:blipFill>
          <a:blip r:embed="rId2"/>
          <a:stretch/>
        </p:blipFill>
        <p:spPr>
          <a:xfrm>
            <a:off x="152280" y="1504800"/>
            <a:ext cx="6708960" cy="1265400"/>
          </a:xfrm>
          <a:prstGeom prst="rect">
            <a:avLst/>
          </a:prstGeom>
          <a:ln w="0">
            <a:noFill/>
          </a:ln>
        </p:spPr>
      </p:pic>
      <p:sp>
        <p:nvSpPr>
          <p:cNvPr id="2559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22D88-7DE2-4DC4-93E9-CBBC87E8DCF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Timeliness of Repor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1CB83-DE85-4791-B5E2-B85EF352013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17" name=""/>
          <p:cNvGraphicFramePr/>
          <p:nvPr/>
        </p:nvGraphicFramePr>
        <p:xfrm>
          <a:off x="304920" y="895320"/>
          <a:ext cx="8610480" cy="3140280"/>
        </p:xfrm>
        <a:graphic>
          <a:graphicData uri="http://schemas.openxmlformats.org/drawingml/2006/table">
            <a:tbl>
              <a:tblPr/>
              <a:tblGrid>
                <a:gridCol w="3314520"/>
                <a:gridCol w="1657440"/>
                <a:gridCol w="1843200"/>
                <a:gridCol w="179532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rrower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an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Loans Updated in Last 30 Day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 NS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0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.5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deral (TIVAS and NFP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3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1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.8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 (G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0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pus-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 m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8" name=""/>
          <p:cNvGraphicFramePr/>
          <p:nvPr/>
        </p:nvGraphicFramePr>
        <p:xfrm>
          <a:off x="304920" y="4095720"/>
          <a:ext cx="6095880" cy="3715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* As of 201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NSLDSFAP Website Enhanc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Rectangle 5"/>
          <p:cNvSpPr/>
          <p:nvPr/>
        </p:nvSpPr>
        <p:spPr>
          <a:xfrm>
            <a:off x="4495680" y="933480"/>
            <a:ext cx="44197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rgiveness Type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R8 - Borrowers eligible for forgiveness under REPAYE for undergrad loans after 20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R9 - Borrowers eligible for forgiveness under REPAYE for undergrad and graduate loans, or just graduate loans after 25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2" name="Picture 5" descr=""/>
          <p:cNvPicPr/>
          <p:nvPr/>
        </p:nvPicPr>
        <p:blipFill>
          <a:blip r:embed="rId1"/>
          <a:stretch/>
        </p:blipFill>
        <p:spPr>
          <a:xfrm>
            <a:off x="152280" y="958680"/>
            <a:ext cx="4562640" cy="3289320"/>
          </a:xfrm>
          <a:prstGeom prst="rect">
            <a:avLst/>
          </a:prstGeom>
          <a:ln w="0">
            <a:noFill/>
          </a:ln>
        </p:spPr>
      </p:pic>
      <p:pic>
        <p:nvPicPr>
          <p:cNvPr id="2563" name="Picture 8" descr=""/>
          <p:cNvPicPr/>
          <p:nvPr/>
        </p:nvPicPr>
        <p:blipFill>
          <a:blip r:embed="rId2"/>
          <a:stretch/>
        </p:blipFill>
        <p:spPr>
          <a:xfrm>
            <a:off x="190440" y="3271680"/>
            <a:ext cx="7485120" cy="990720"/>
          </a:xfrm>
          <a:prstGeom prst="rect">
            <a:avLst/>
          </a:prstGeom>
          <a:ln w="0">
            <a:noFill/>
          </a:ln>
        </p:spPr>
      </p:pic>
      <p:sp>
        <p:nvSpPr>
          <p:cNvPr id="2564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AE7F9-DAAA-427E-BCF7-6EC4FA61E16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Borrower Defen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Borrower Def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Borrowers may be eligible for a Direct Loan discharge if a school commits fraud or violates state law related to their loans or the educational service paid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New discharge types coming so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40B09-8ABB-4C6D-B9C9-C0BB0B9C51E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chool Portfolio Report Updates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9" name="Diagram 4" descr=""/>
          <p:cNvPicPr/>
          <p:nvPr/>
        </p:nvPicPr>
        <p:blipFill>
          <a:blip r:embed="rId1"/>
          <a:stretch/>
        </p:blipFill>
        <p:spPr>
          <a:xfrm>
            <a:off x="2414520" y="2176560"/>
            <a:ext cx="4230720" cy="2200320"/>
          </a:xfrm>
          <a:prstGeom prst="rect">
            <a:avLst/>
          </a:prstGeom>
          <a:ln w="0">
            <a:noFill/>
          </a:ln>
        </p:spPr>
      </p:pic>
      <p:sp>
        <p:nvSpPr>
          <p:cNvPr id="2570" name="Rectangle 5"/>
          <p:cNvSpPr/>
          <p:nvPr/>
        </p:nvSpPr>
        <p:spPr>
          <a:xfrm>
            <a:off x="333360" y="971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hanges to be released in December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Updated record layout will be availab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ifap.ed.gov/ifap/byNSLDSType.jsp?type=NS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40025-10B4-4FE7-9D5E-6B59C7CD0A6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228600" y="209160"/>
            <a:ext cx="8553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tudent Access (SA) Enhancements</a:t>
            </a: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	</a:t>
            </a:r>
            <a:br>
              <a:rPr sz="3200"/>
            </a:b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0BF7B-3E1E-4C12-941B-E4B154EB065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4" name="Picture 2" descr=""/>
          <p:cNvPicPr/>
          <p:nvPr/>
        </p:nvPicPr>
        <p:blipFill>
          <a:blip r:embed="rId1"/>
          <a:srcRect l="0" t="13519" r="0" b="19549"/>
          <a:stretch/>
        </p:blipFill>
        <p:spPr>
          <a:xfrm>
            <a:off x="457200" y="888840"/>
            <a:ext cx="4876920" cy="375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75" name="Rectangle 3"/>
          <p:cNvSpPr/>
          <p:nvPr/>
        </p:nvSpPr>
        <p:spPr>
          <a:xfrm>
            <a:off x="533520" y="3703680"/>
            <a:ext cx="4724280" cy="457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Rectangle 6"/>
          <p:cNvSpPr/>
          <p:nvPr/>
        </p:nvSpPr>
        <p:spPr>
          <a:xfrm>
            <a:off x="457200" y="2038320"/>
            <a:ext cx="2286000" cy="152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TextBox 4"/>
          <p:cNvSpPr/>
          <p:nvPr/>
        </p:nvSpPr>
        <p:spPr>
          <a:xfrm>
            <a:off x="5562720" y="1047600"/>
            <a:ext cx="3429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elds to be added to Student Acce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DR Plan Anniversa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ost Recent Payment Effective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umulative Payment Am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urrent Repaym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SLF Cumulative Matched Month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Reporting Monito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"/>
          <p:cNvSpPr txBox="1"/>
          <p:nvPr/>
        </p:nvSpPr>
        <p:spPr>
          <a:xfrm>
            <a:off x="53352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Enrollment Reporting Stat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Focus on roster completion, specifically Percent Certified with Program Enroll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tatistics are updated the 3</a:t>
            </a:r>
            <a:r>
              <a:rPr b="0" lang="en-US" sz="2000" spc="-1" strike="noStrike" baseline="30000">
                <a:solidFill>
                  <a:srgbClr val="535353"/>
                </a:solidFill>
                <a:latin typeface="Arial"/>
                <a:ea typeface="Arial"/>
              </a:rPr>
              <a:t>rd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 Wednesday of each mon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vailable to all school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548A0-720C-4D54-95A8-945E13A2CCA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1" name="Picture 4" descr=""/>
          <p:cNvPicPr/>
          <p:nvPr/>
        </p:nvPicPr>
        <p:blipFill>
          <a:blip r:embed="rId1"/>
          <a:srcRect l="0" t="58502" r="0" b="-1711"/>
          <a:stretch/>
        </p:blipFill>
        <p:spPr>
          <a:xfrm>
            <a:off x="147600" y="3200400"/>
            <a:ext cx="8920080" cy="12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Reporting Monito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3" name=""/>
          <p:cNvSpPr txBox="1"/>
          <p:nvPr/>
        </p:nvSpPr>
        <p:spPr>
          <a:xfrm>
            <a:off x="152280" y="971640"/>
            <a:ext cx="8615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mpliance Let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Escalating letters will be sent for non-compliant schools in early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Schools who fall below 90% of the portfolio certified with a program will be notified for non-compli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The 90% threshold is considered minimal and may be increased in the fu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Schools who do not improve their performance will be referred to FSA Program Compliance for action after receiving two not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04C81-4DE1-4339-82A2-66A77ACD42F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Reporting Monito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6" name=""/>
          <p:cNvGraphicFramePr/>
          <p:nvPr/>
        </p:nvGraphicFramePr>
        <p:xfrm>
          <a:off x="609480" y="1581120"/>
          <a:ext cx="7696440" cy="2990880"/>
        </p:xfrm>
        <a:graphic>
          <a:graphicData uri="http://schemas.openxmlformats.org/drawingml/2006/table">
            <a:tbl>
              <a:tblPr/>
              <a:tblGrid>
                <a:gridCol w="1752840"/>
                <a:gridCol w="1066680"/>
                <a:gridCol w="1295280"/>
                <a:gridCol w="1295640"/>
                <a:gridCol w="1295280"/>
                <a:gridCol w="990720"/>
              </a:tblGrid>
              <a:tr h="156204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ools with a Portfolio of Stu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of Stu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of Students Cert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of Students Certified with a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Certified with a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584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57,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72,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16,5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5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584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ust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28,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302,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99,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5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er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345,5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72,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93,0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3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548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458,5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470,3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46,5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379,0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471,6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382,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587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0B934-2F8B-40EF-8C52-6B295D0604A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"/>
          <p:cNvSpPr txBox="1"/>
          <p:nvPr/>
        </p:nvSpPr>
        <p:spPr>
          <a:xfrm>
            <a:off x="209160" y="968400"/>
            <a:ext cx="870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SLDS strongly encourages schools to review their enrollment stat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Submittal File Trac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"/>
          <p:cNvSpPr txBox="1"/>
          <p:nvPr/>
        </p:nvSpPr>
        <p:spPr>
          <a:xfrm>
            <a:off x="53352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SLDS will be releasing the Enrollment Submittal File Tracking page in Spring 2016 to help schools track their Enrollment 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Will include inbound Enrollment Files and outbound Roster 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86857-C4CD-4E99-92E3-CBC0D947B72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2" name="Picture 5" descr="C:\Users\megan.goates.AD\AppData\Local\Microsoft\Windows\Temporary Internet Files\Content.Outlook\QMCQ6V6I\Enrollment Submittal Tracking - ED - School.png"/>
          <p:cNvPicPr/>
          <p:nvPr/>
        </p:nvPicPr>
        <p:blipFill>
          <a:blip r:embed="rId1"/>
          <a:srcRect l="7987" t="55266" r="8726" b="11135"/>
          <a:stretch/>
        </p:blipFill>
        <p:spPr>
          <a:xfrm>
            <a:off x="1066680" y="2571840"/>
            <a:ext cx="67248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rogram-Level Enrollment Hi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"/>
          <p:cNvSpPr txBox="1"/>
          <p:nvPr/>
        </p:nvSpPr>
        <p:spPr>
          <a:xfrm>
            <a:off x="53352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oday, schools can only see the most recent status for each program reported for a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5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225E2-6F35-4EA4-93BC-D57C314CECB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6" name="Picture 2" descr=""/>
          <p:cNvPicPr/>
          <p:nvPr/>
        </p:nvPicPr>
        <p:blipFill>
          <a:blip r:embed="rId1"/>
          <a:stretch/>
        </p:blipFill>
        <p:spPr>
          <a:xfrm>
            <a:off x="376200" y="1809720"/>
            <a:ext cx="4973760" cy="2227320"/>
          </a:xfrm>
          <a:prstGeom prst="rect">
            <a:avLst/>
          </a:prstGeom>
          <a:ln w="0">
            <a:noFill/>
          </a:ln>
        </p:spPr>
      </p:pic>
      <p:pic>
        <p:nvPicPr>
          <p:cNvPr id="2597" name="Picture 6" descr=""/>
          <p:cNvPicPr/>
          <p:nvPr/>
        </p:nvPicPr>
        <p:blipFill>
          <a:blip r:embed="rId2"/>
          <a:stretch/>
        </p:blipFill>
        <p:spPr>
          <a:xfrm>
            <a:off x="3770280" y="2724120"/>
            <a:ext cx="4960800" cy="1795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rogram-Level Enrollment Hi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"/>
          <p:cNvSpPr txBox="1"/>
          <p:nvPr/>
        </p:nvSpPr>
        <p:spPr>
          <a:xfrm>
            <a:off x="53352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n Spring 2016, NSLDS will create the ability for schools to view all program history reported for a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69DD4-82E5-4C77-A236-700823D6852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1" name="Picture 3" descr=""/>
          <p:cNvPicPr/>
          <p:nvPr/>
        </p:nvPicPr>
        <p:blipFill>
          <a:blip r:embed="rId1"/>
          <a:srcRect l="3142" t="41116" r="1467" b="0"/>
          <a:stretch/>
        </p:blipFill>
        <p:spPr>
          <a:xfrm>
            <a:off x="0" y="1800360"/>
            <a:ext cx="9144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requency of Repor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B662C-49DE-4C44-9FED-2A9CC0FAF7FE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1" name=""/>
          <p:cNvGraphicFramePr/>
          <p:nvPr/>
        </p:nvGraphicFramePr>
        <p:xfrm>
          <a:off x="304920" y="971640"/>
          <a:ext cx="8610480" cy="3708360"/>
        </p:xfrm>
        <a:graphic>
          <a:graphicData uri="http://schemas.openxmlformats.org/drawingml/2006/table">
            <a:tbl>
              <a:tblPr/>
              <a:tblGrid>
                <a:gridCol w="3827520"/>
                <a:gridCol w="4782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 Provi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 and SL.g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SA Web Enr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deral Loan Servi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CS and T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ranty A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ly, Bi-Weekly or Month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kins Schools and School Servi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Enroll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 or Every 60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inful Emplo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rogram-Level Enrollment Hi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"/>
          <p:cNvSpPr txBox="1"/>
          <p:nvPr/>
        </p:nvSpPr>
        <p:spPr>
          <a:xfrm>
            <a:off x="53352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chools will be able to drill down to individual school certifications for each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AE37C-C0E4-41AD-931D-909FE165028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5" name="Picture 4" descr=""/>
          <p:cNvPicPr/>
          <p:nvPr/>
        </p:nvPicPr>
        <p:blipFill>
          <a:blip r:embed="rId1"/>
          <a:srcRect l="8824" t="41320" r="9241" b="10260"/>
          <a:stretch/>
        </p:blipFill>
        <p:spPr>
          <a:xfrm>
            <a:off x="380880" y="1809720"/>
            <a:ext cx="8140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8740F-0F9A-467B-AC0C-80D19C12ACB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75960" y="1047240"/>
            <a:ext cx="22064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Arial"/>
                <a:ea typeface="Arial"/>
              </a:rPr>
              <a:t>Enrollment Submittal Trac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8" name="Picture 5" descr="C:\Users\eric.hardy\AppData\Local\Microsoft\Windows\Temporary Internet Files\Content.Outlook\HAFYF7VQ\Enrollment Submittal Tracking - School - Location.png"/>
          <p:cNvPicPr/>
          <p:nvPr/>
        </p:nvPicPr>
        <p:blipFill>
          <a:blip r:embed="rId1"/>
          <a:srcRect l="0" t="6738" r="0" b="12935"/>
          <a:stretch/>
        </p:blipFill>
        <p:spPr>
          <a:xfrm>
            <a:off x="2133720" y="285840"/>
            <a:ext cx="693396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"/>
          <p:cNvSpPr txBox="1"/>
          <p:nvPr/>
        </p:nvSpPr>
        <p:spPr>
          <a:xfrm>
            <a:off x="151920" y="971640"/>
            <a:ext cx="8861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Expected to be released Summer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Mass Push to Ro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0320" indent="-1728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Online users will be able to push all students with previous participation on the enrollment roster to the most current roster for a school location. This functionality will assist schools in correcting erroneously reported data to NSL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Late Enrollment Certifications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00320" indent="-1728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The new Urgent/Late Ad-Hoc Report will assist schools in making sure enrollment data is reported for students in a timely manner. Online users will be able to request the Urgent/Late Ad-Hoc Report on the NSLDSFAP web site and retrieve it from their SAIG mailbox. The report will use the same layout as the Enrollment Ros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60833-D3B5-4F1E-A4D0-560C5475582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Upd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"/>
          <p:cNvSpPr txBox="1"/>
          <p:nvPr/>
        </p:nvSpPr>
        <p:spPr>
          <a:xfrm>
            <a:off x="76320" y="1143000"/>
            <a:ext cx="89373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xpected to be released in Summer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Upcoming changes to Enrollment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Update selection criteria to display students “with programs” or “without programs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Create a sort that displays oldest Certification Dates fir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Add a warning icon next to students that have not been certified in more than 65 da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Add an icon to indicate if a row if sourced from COD or a sch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ew Ed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Create reasonability edits between Credential Level and Published Program Leng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Create reasonability edits on Program Begin Date to ensure the date is not more than 20 years in the pa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017F3-29AB-4F79-8324-42E1383B5F5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New Scheduled School Repo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NSLDS will be adding four additional reports to list of reports that can be schedul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360" indent="-17100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Borrower Demographic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6360" indent="-17100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Date Entered Repayment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6360" indent="-17100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36 Month Repayment Info Loan Det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6360" indent="-17100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Borrower Default Summary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Will also be available in CSV for both ad-hoc and scheduled in unique message cla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Expected to be available in Summer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A4C07-6564-42D5-91BD-1E570FBB5FF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‘</a:t>
            </a: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Org’ Tab – Current 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9" name="Picture 2" descr=""/>
          <p:cNvPicPr/>
          <p:nvPr/>
        </p:nvPicPr>
        <p:blipFill>
          <a:blip r:embed="rId1"/>
          <a:stretch/>
        </p:blipFill>
        <p:spPr>
          <a:xfrm>
            <a:off x="457200" y="895320"/>
            <a:ext cx="8229600" cy="1911240"/>
          </a:xfrm>
          <a:prstGeom prst="rect">
            <a:avLst/>
          </a:prstGeom>
          <a:ln w="0">
            <a:noFill/>
          </a:ln>
        </p:spPr>
      </p:pic>
      <p:pic>
        <p:nvPicPr>
          <p:cNvPr id="2620" name="Picture 3" descr=""/>
          <p:cNvPicPr/>
          <p:nvPr/>
        </p:nvPicPr>
        <p:blipFill>
          <a:blip r:embed="rId2"/>
          <a:stretch/>
        </p:blipFill>
        <p:spPr>
          <a:xfrm>
            <a:off x="0" y="2905200"/>
            <a:ext cx="9086760" cy="1724040"/>
          </a:xfrm>
          <a:prstGeom prst="rect">
            <a:avLst/>
          </a:prstGeom>
          <a:ln w="0">
            <a:noFill/>
          </a:ln>
        </p:spPr>
      </p:pic>
      <p:sp>
        <p:nvSpPr>
          <p:cNvPr id="2621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0BF52-41A6-42B2-88C2-ED3F0B4C755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Organization Setup P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"/>
          <p:cNvSpPr txBox="1"/>
          <p:nvPr/>
        </p:nvSpPr>
        <p:spPr>
          <a:xfrm>
            <a:off x="304560" y="1143000"/>
            <a:ext cx="8708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SLDS will be creating a new “one stop shop” Organization Profile Setup page Schools will be able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5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View and establish schedule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Update their Organization Profile (i.e. TSM setu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View fsawebenroll.ed.gov batch servi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928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040" indent="-2300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xpected to be available in Summer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2D54B-7AD0-4219-88F6-B3A3CFD67F4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Institutional Cohort Default R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"/>
          <p:cNvSpPr txBox="1"/>
          <p:nvPr/>
        </p:nvSpPr>
        <p:spPr>
          <a:xfrm>
            <a:off x="151920" y="1143000"/>
            <a:ext cx="8861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hanges for Cohort Year 2013 (draft release in February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7680" indent="-1764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CDR Notification Letter will be available on NSLDSF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7680" indent="-1764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Loan Record Detail Reports will be available in .CSV on an ad-hoc ba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7680" indent="-1764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Removal of loans from numerator where the effective date of a bankruptcy, ID theft, disability or veteran's disability discharge is earlier than the date of defau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hanges for Cohort Year 2013 (official release in September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7680" indent="-1764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NSLDS will push the .CSV version of the LRDR out with the CDR Rate Notification l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4FBE0-8CC1-4535-9BA5-08354A3850F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rogram Cohort Default Rat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SLDS will begin to calculate a </a:t>
            </a:r>
            <a:r>
              <a:rPr b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rogram Cohort Default Rate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or GE Progra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irst calculation in early 2017 for Cohort Year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chools will be sent Program CDR Notification Letters and backup detail to their GE TG mail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8A988-9C05-4250-B00E-382B4C780A0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LUS Cohort Default Rat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SLDS will begin to calculate a Cohort Default Rate for </a:t>
            </a:r>
            <a:r>
              <a:rPr b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arent PLUS 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Graduate PLUS 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borrow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irst calculation in early 2017 for Cohort Year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51D33-EA90-42A0-BEA2-3B842E8963E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Content Placeholder 2"/>
          <p:cNvSpPr/>
          <p:nvPr/>
        </p:nvSpPr>
        <p:spPr>
          <a:xfrm>
            <a:off x="314280" y="19242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</a:rPr>
              <a:t>NSLDS Changes Made in 20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EDC1C-B2B4-4349-8749-B2B71B8EB2D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4100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Adding Organization Cont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0AE26-EF44-43BE-AA62-9AEAA0BFC28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6" name="Picture 3" descr=""/>
          <p:cNvPicPr/>
          <p:nvPr/>
        </p:nvPicPr>
        <p:blipFill>
          <a:blip r:embed="rId1"/>
          <a:stretch/>
        </p:blipFill>
        <p:spPr>
          <a:xfrm>
            <a:off x="762120" y="836640"/>
            <a:ext cx="7772400" cy="3868560"/>
          </a:xfrm>
          <a:prstGeom prst="rect">
            <a:avLst/>
          </a:prstGeom>
          <a:ln w="0">
            <a:noFill/>
          </a:ln>
        </p:spPr>
      </p:pic>
      <p:sp>
        <p:nvSpPr>
          <p:cNvPr id="2637" name="Right Arrow 4"/>
          <p:cNvSpPr/>
          <p:nvPr/>
        </p:nvSpPr>
        <p:spPr>
          <a:xfrm rot="927600">
            <a:off x="2490840" y="2755800"/>
            <a:ext cx="1523880" cy="381240"/>
          </a:xfrm>
          <a:prstGeom prst="rightArrow">
            <a:avLst>
              <a:gd name="adj1" fmla="val 50000"/>
              <a:gd name="adj2" fmla="val 98782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540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Adding Organization Cont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A4FE4-9791-4641-B91A-4BF67AB4174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0" name="Picture 7" descr="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3684600"/>
          </a:xfrm>
          <a:prstGeom prst="rect">
            <a:avLst/>
          </a:prstGeom>
          <a:ln w="0">
            <a:noFill/>
          </a:ln>
        </p:spPr>
      </p:pic>
      <p:sp>
        <p:nvSpPr>
          <p:cNvPr id="2641" name="Right Arrow 8"/>
          <p:cNvSpPr/>
          <p:nvPr/>
        </p:nvSpPr>
        <p:spPr>
          <a:xfrm rot="10800000">
            <a:off x="5638680" y="3409920"/>
            <a:ext cx="1524240" cy="380880"/>
          </a:xfrm>
          <a:prstGeom prst="rightArrow">
            <a:avLst>
              <a:gd name="adj1" fmla="val 50000"/>
              <a:gd name="adj2" fmla="val 98899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Adding Organization Cont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FAA7E-8339-46EE-A35F-4B1F24A889A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4" name="Picture 4" descr=""/>
          <p:cNvPicPr/>
          <p:nvPr/>
        </p:nvPicPr>
        <p:blipFill>
          <a:blip r:embed="rId1"/>
          <a:srcRect l="0" t="0" r="1424" b="1037"/>
          <a:stretch/>
        </p:blipFill>
        <p:spPr>
          <a:xfrm>
            <a:off x="638280" y="868320"/>
            <a:ext cx="7696080" cy="3846600"/>
          </a:xfrm>
          <a:prstGeom prst="rect">
            <a:avLst/>
          </a:prstGeom>
          <a:ln w="0">
            <a:noFill/>
          </a:ln>
        </p:spPr>
      </p:pic>
      <p:sp>
        <p:nvSpPr>
          <p:cNvPr id="2645" name="Right Arrow 5"/>
          <p:cNvSpPr/>
          <p:nvPr/>
        </p:nvSpPr>
        <p:spPr>
          <a:xfrm rot="927600">
            <a:off x="709560" y="3378240"/>
            <a:ext cx="1523880" cy="380880"/>
          </a:xfrm>
          <a:prstGeom prst="rightArrow">
            <a:avLst>
              <a:gd name="adj1" fmla="val 50000"/>
              <a:gd name="adj2" fmla="val 98875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06D27-2BE7-42BF-974A-A3027F040C8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9" name="Picture 2" descr="C:\Users\Joe.Aiello\Desktop\Question-and-Answer.png"/>
          <p:cNvPicPr/>
          <p:nvPr/>
        </p:nvPicPr>
        <p:blipFill>
          <a:blip r:embed="rId1"/>
          <a:stretch/>
        </p:blipFill>
        <p:spPr>
          <a:xfrm>
            <a:off x="3143160" y="1465200"/>
            <a:ext cx="28576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NSLDS Contact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EE3D9-35DF-4664-A52C-C4B1F30C909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Content Placeholder 2"/>
          <p:cNvSpPr/>
          <p:nvPr/>
        </p:nvSpPr>
        <p:spPr>
          <a:xfrm>
            <a:off x="457200" y="1170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ustomer Support Cen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Phone: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1-800-999-82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Toll: 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785-838-214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Fax: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785-838-21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Web: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nsldsfap.ed.gov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9595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E-mail: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nslds@ed.gov</a:t>
            </a: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NSLDS Changes 2015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304920" y="819000"/>
            <a:ext cx="8610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Reaffirmation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Enrollment Reporting Stat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Loss of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New Reports/Templates (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erkins, Enrollment, Exit Counse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Software Upgrades and Impor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Public Service Loan Forg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FSA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GE Program Tracker and Completers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1E826-0CFF-4387-8443-E184C7E3C39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affi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"/>
          <p:cNvSpPr txBox="1"/>
          <p:nvPr/>
        </p:nvSpPr>
        <p:spPr>
          <a:xfrm>
            <a:off x="304920" y="8190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Reaffirmation is the process by which a student who inadvertently over-borrows may regain eligibility for Title IV aid by making satisfactory repayment arrangements in writing with their loan hold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rocessing Reaffirmation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Before: School </a:t>
            </a:r>
            <a:r>
              <a:rPr b="0" lang="en-US" sz="16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Student </a:t>
            </a:r>
            <a:r>
              <a:rPr b="0" lang="en-US" sz="16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Loan Holder </a:t>
            </a:r>
            <a:r>
              <a:rPr b="0" lang="en-US" sz="16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Student </a:t>
            </a:r>
            <a:r>
              <a:rPr b="0" lang="en-US" sz="16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Sch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After:    School </a:t>
            </a:r>
            <a:r>
              <a:rPr b="0" lang="en-US" sz="16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Student </a:t>
            </a:r>
            <a:r>
              <a:rPr b="0" lang="en-US" sz="16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Loan Holder </a:t>
            </a:r>
            <a:r>
              <a:rPr b="0" lang="en-US" sz="1600" spc="-1" strike="noStrike">
                <a:solidFill>
                  <a:srgbClr val="535353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NSLD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pril 2015: NSLDS began collecting Reaffirmation da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40FC7-A037-403C-861A-C339CD45861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30" name=""/>
          <p:cNvGraphicFramePr/>
          <p:nvPr/>
        </p:nvGraphicFramePr>
        <p:xfrm>
          <a:off x="2133720" y="3105000"/>
          <a:ext cx="4647960" cy="1584360"/>
        </p:xfrm>
        <a:graphic>
          <a:graphicData uri="http://schemas.openxmlformats.org/drawingml/2006/table">
            <a:tbl>
              <a:tblPr/>
              <a:tblGrid>
                <a:gridCol w="2324160"/>
                <a:gridCol w="23238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Reaffirme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row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n NSLD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 Reaffirmed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n NSLD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As of 2015-11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60440" y="209160"/>
            <a:ext cx="56354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affi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"/>
          <p:cNvSpPr txBox="1"/>
          <p:nvPr/>
        </p:nvSpPr>
        <p:spPr>
          <a:xfrm>
            <a:off x="-76320" y="895320"/>
            <a:ext cx="2743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1188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NSLDS alerts users to the presence of reaffirmation data with the use of  ic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0040" indent="-1188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0040" indent="-1188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The “Reaffirmation(s)” informational icon displays for a borrower when an active reaffirmation is reported on one or more lo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8CD4B-C341-4562-828E-2190A1B9405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4" name="Picture 6" descr=""/>
          <p:cNvPicPr/>
          <p:nvPr/>
        </p:nvPicPr>
        <p:blipFill>
          <a:blip r:embed="rId1"/>
          <a:srcRect l="0" t="10672" r="-79" b="6354"/>
          <a:stretch/>
        </p:blipFill>
        <p:spPr>
          <a:xfrm>
            <a:off x="2666880" y="895320"/>
            <a:ext cx="6194520" cy="368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9:08:42Z</dcterms:created>
  <dc:creator>user ce</dc:creator>
  <dc:description/>
  <dc:language>en-US</dc:language>
  <cp:lastModifiedBy>psavuser</cp:lastModifiedBy>
  <cp:lastPrinted>2015-11-30T22:35:25Z</cp:lastPrinted>
  <dcterms:modified xsi:type="dcterms:W3CDTF">2015-11-30T22:43:18Z</dcterms:modified>
  <cp:revision>2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mpleted">
    <vt:lpwstr>0</vt:lpwstr>
  </property>
  <property fmtid="{D5CDD505-2E9C-101B-9397-08002B2CF9AE}" pid="3" name="ContentTypeId">
    <vt:lpwstr>0x010100337D63EE5034904FBE124CE4C93FC8B0</vt:lpwstr>
  </property>
  <property fmtid="{D5CDD505-2E9C-101B-9397-08002B2CF9AE}" pid="4" name="_dlc_DocId">
    <vt:lpwstr>ZQHRFS737ZVJ-956-283</vt:lpwstr>
  </property>
  <property fmtid="{D5CDD505-2E9C-101B-9397-08002B2CF9AE}" pid="5" name="_dlc_DocIdItemGuid">
    <vt:lpwstr>6aa86774-cb62-4803-a638-36d07215dce5</vt:lpwstr>
  </property>
  <property fmtid="{D5CDD505-2E9C-101B-9397-08002B2CF9AE}" pid="6" name="_dlc_DocIdUrl">
    <vt:lpwstr>https://fsa.share.ed.gov/bo/soadms/si/NSLDS/NSLDSProjectTeamHome/_layouts/DocIdRedir.aspx?ID=ZQHRFS737ZVJ-956-283, ZQHRFS737ZVJ-956-283</vt:lpwstr>
  </property>
</Properties>
</file>