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  <p:sldId id="295" r:id="rId103"/>
    <p:sldId id="296" r:id="rId104"/>
    <p:sldId id="297" r:id="rId105"/>
    <p:sldId id="298" r:id="rId106"/>
    <p:sldId id="299" r:id="rId107"/>
    <p:sldId id="300" r:id="rId108"/>
    <p:sldId id="301" r:id="rId109"/>
    <p:sldId id="302" r:id="rId110"/>
    <p:sldId id="303" r:id="rId111"/>
    <p:sldId id="304" r:id="rId112"/>
    <p:sldId id="305" r:id="rId113"/>
    <p:sldId id="306" r:id="rId114"/>
    <p:sldId id="307" r:id="rId115"/>
    <p:sldId id="308" r:id="rId116"/>
    <p:sldId id="309" r:id="rId117"/>
    <p:sldId id="310" r:id="rId118"/>
    <p:sldId id="311" r:id="rId119"/>
    <p:sldId id="312" r:id="rId120"/>
    <p:sldId id="313" r:id="rId121"/>
    <p:sldId id="314" r:id="rId122"/>
    <p:sldId id="315" r:id="rId123"/>
    <p:sldId id="316" r:id="rId124"/>
    <p:sldId id="317" r:id="rId125"/>
    <p:sldId id="318" r:id="rId126"/>
    <p:sldId id="319" r:id="rId127"/>
  </p:sldIdLst>
  <p:sldSz cx="9144000" cy="5145088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slide" Target="slides/slide40.xml"/><Relationship Id="rId104" Type="http://schemas.openxmlformats.org/officeDocument/2006/relationships/slide" Target="slides/slide41.xml"/><Relationship Id="rId105" Type="http://schemas.openxmlformats.org/officeDocument/2006/relationships/slide" Target="slides/slide42.xml"/><Relationship Id="rId106" Type="http://schemas.openxmlformats.org/officeDocument/2006/relationships/slide" Target="slides/slide43.xml"/><Relationship Id="rId107" Type="http://schemas.openxmlformats.org/officeDocument/2006/relationships/slide" Target="slides/slide44.xml"/><Relationship Id="rId108" Type="http://schemas.openxmlformats.org/officeDocument/2006/relationships/slide" Target="slides/slide45.xml"/><Relationship Id="rId109" Type="http://schemas.openxmlformats.org/officeDocument/2006/relationships/slide" Target="slides/slide46.xml"/><Relationship Id="rId110" Type="http://schemas.openxmlformats.org/officeDocument/2006/relationships/slide" Target="slides/slide47.xml"/><Relationship Id="rId111" Type="http://schemas.openxmlformats.org/officeDocument/2006/relationships/slide" Target="slides/slide48.xml"/><Relationship Id="rId112" Type="http://schemas.openxmlformats.org/officeDocument/2006/relationships/slide" Target="slides/slide49.xml"/><Relationship Id="rId113" Type="http://schemas.openxmlformats.org/officeDocument/2006/relationships/slide" Target="slides/slide50.xml"/><Relationship Id="rId114" Type="http://schemas.openxmlformats.org/officeDocument/2006/relationships/slide" Target="slides/slide51.xml"/><Relationship Id="rId115" Type="http://schemas.openxmlformats.org/officeDocument/2006/relationships/slide" Target="slides/slide52.xml"/><Relationship Id="rId116" Type="http://schemas.openxmlformats.org/officeDocument/2006/relationships/slide" Target="slides/slide53.xml"/><Relationship Id="rId117" Type="http://schemas.openxmlformats.org/officeDocument/2006/relationships/slide" Target="slides/slide54.xml"/><Relationship Id="rId118" Type="http://schemas.openxmlformats.org/officeDocument/2006/relationships/slide" Target="slides/slide55.xml"/><Relationship Id="rId119" Type="http://schemas.openxmlformats.org/officeDocument/2006/relationships/slide" Target="slides/slide56.xml"/><Relationship Id="rId120" Type="http://schemas.openxmlformats.org/officeDocument/2006/relationships/slide" Target="slides/slide57.xml"/><Relationship Id="rId121" Type="http://schemas.openxmlformats.org/officeDocument/2006/relationships/slide" Target="slides/slide58.xml"/><Relationship Id="rId122" Type="http://schemas.openxmlformats.org/officeDocument/2006/relationships/slide" Target="slides/slide59.xml"/><Relationship Id="rId123" Type="http://schemas.openxmlformats.org/officeDocument/2006/relationships/slide" Target="slides/slide60.xml"/><Relationship Id="rId124" Type="http://schemas.openxmlformats.org/officeDocument/2006/relationships/slide" Target="slides/slide61.xml"/><Relationship Id="rId125" Type="http://schemas.openxmlformats.org/officeDocument/2006/relationships/slide" Target="slides/slide62.xml"/><Relationship Id="rId126" Type="http://schemas.openxmlformats.org/officeDocument/2006/relationships/slide" Target="slides/slide63.xml"/><Relationship Id="rId127" Type="http://schemas.openxmlformats.org/officeDocument/2006/relationships/slide" Target="slides/slide64.xml"/><Relationship Id="rId1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 type="dt" idx="4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PlaceHolder 5"/>
          <p:cNvSpPr>
            <a:spLocks noGrp="1"/>
          </p:cNvSpPr>
          <p:nvPr>
            <p:ph type="ftr" idx="43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6"/>
          <p:cNvSpPr>
            <a:spLocks noGrp="1"/>
          </p:cNvSpPr>
          <p:nvPr>
            <p:ph type="sldNum" idx="44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47F82-90AB-42EC-8C6B-4558AAD60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5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7F608-757F-4031-8341-B55C5B80961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8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3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FA6FC-889E-408C-A04E-70E370C2492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sldImg"/>
          </p:nvPr>
        </p:nvSpPr>
        <p:spPr>
          <a:xfrm>
            <a:off x="349200" y="698400"/>
            <a:ext cx="6210360" cy="3494160"/>
          </a:xfrm>
          <a:prstGeom prst="rect">
            <a:avLst/>
          </a:prstGeom>
          <a:ln w="0">
            <a:noFill/>
          </a:ln>
        </p:spPr>
      </p:sp>
      <p:sp>
        <p:nvSpPr>
          <p:cNvPr id="268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C5FE8-3F4A-4A5C-A9BD-9935C0F5A91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8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91386-6333-4C0E-B5F5-18CDE4C8C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9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0C5E5-19A5-473A-BCBA-092479148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9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10903-BCCD-4733-95AC-3CD08D976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9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90DDE-73E8-4913-9CB6-EDA6EED79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0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EE91C-0215-482F-A8BB-F6D4DFA41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0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5BFCB-F5D1-4868-A60B-EF016F696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0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E4783-404F-4597-92A2-F7A951E5C68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0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073DD-0E4E-4C59-B3C8-E1AD33A105C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5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1AC4D-2B48-4EF6-BA06-9EF36658A1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1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3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620BC-B926-43F1-AD62-3ADB94D3008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1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8255D-51A8-46DE-B72F-647F2948ADC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1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9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33799-3053-44A8-8893-46B173CF791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2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E09CB-407F-4304-8190-E1DCD18A999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2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54164-B0EB-410F-B52C-DFFA7261CDA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2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8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8BA7F-25DD-4C98-A184-2352D9B3E87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3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9B38E-AD68-4600-8AB8-FD0EAF3C2E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3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A1CC5-DBE5-4989-80C0-D4E289171A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3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45A95-FDA7-410C-BDD3-11DF12B69E2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3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3F443-C5E9-4464-AD16-F9C0FEF83A6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6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E6FB5-42F5-41B0-8E79-4E04CB9EA85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4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ED99D-0EC3-4FF6-B998-B1FDE6FB5E6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4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B9785-4EC3-45B9-B2D9-489D647B85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5F8C9-A8F3-40BE-BD37-2116B7CD64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5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2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3F73B-C9F7-4D51-AC5A-87467BFAB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5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3CFF9-2431-4A37-914E-4337F471F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5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31ECD-F87F-411A-A60E-114039558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6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1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9D5FB-B3CF-4F62-91E7-A590949A7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6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0E679-84FB-489B-8404-C4120A431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6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FCD8E-982B-4C3B-A032-7BF28A304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6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8B464-1D63-479F-AE85-1C6D8879A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6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62FD8-CDCF-4B1B-A0AE-C90E8930374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7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3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3573F-E5B7-42B0-82E5-68F2E165F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7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6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B0C54-4BC0-4E67-8257-F4D4AD2E7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7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6D5B3-08ED-439D-AF48-8E130E857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8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86D9B-343E-4740-BC1C-AEB56224D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340F2-95A1-44E8-8D07-DC9130D12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8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8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5B71E-80D8-4F93-B61D-385C110D5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9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91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49028-8E35-4428-AC07-10D7D448155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C0F73-2E7D-4919-BCF4-23AD3FF34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7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48D95-EC41-49B9-96C0-249E2558D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0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E04B9-AD34-4D11-AA52-731585DE3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6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D318B-064D-46C8-B2FC-6E012F9BF83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0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BDA1C-90E6-48A6-9469-6EB94B880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0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6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BD44D-F106-471F-A9FE-F989D9082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0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C0A11-E409-408C-8FE1-AF58DB521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7ABC9-BDD0-4F77-845A-1350D6D3D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1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48C5B-31A2-4884-B563-A36D28029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41E7F-4609-42C7-A3D5-BB27A1388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2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3613F-4159-437C-B3B2-0FFBD4323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33214-6FF6-4A1E-8AEA-DEE786DB2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2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25760-398C-4559-B25B-42050F70C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2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FBC32-9976-4272-B786-9E4E73E6B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4FF3D-184C-4929-9BCD-2DEEB5EA02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3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3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7E360-4685-42D6-B556-C4C396EDA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3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6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AA8EC-A466-490C-B229-6FEF29B75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3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EA8DD-CFC8-4F52-8156-AD7416134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2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9B8F5-C82E-47E5-8C15-AFF017EF2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1E08D-43B0-444A-891C-01D2DF478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7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4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94FF4-700A-4B30-8F2F-007ED7D2BCB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7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7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7F4E1-A1C4-401F-8405-92FBA4D5FD1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7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A5B68-82E5-4BA6-8CF3-00BA0C3DF1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094A-78C0-4836-BC68-BF6C400BE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4885-C6D4-46CB-A687-84D0CC5541B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448D6-AA0D-4964-AB62-E063E143062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67834-362F-4257-A536-7FD91902870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89A22-2337-466C-9109-9DE1CF2BFBB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8D8C6-FEE9-467A-8AE8-D241A0F0D76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64AE4-7461-497A-BF75-1D3A022FD30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A2123-C822-4312-B68C-E68E159826C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D38F4-2292-41BB-9866-ECFCE06D42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367DC-A173-4703-AF88-F661D41A6B5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962CA-8AF1-4488-B988-5943634DF8F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059890-DB34-41A7-A2EE-6907661CF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31DD-94AE-48F7-B61F-82207E44928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D47676-F4AE-4509-BFFA-FB4C680018E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D95B6C-B443-40DF-BE08-96333F4DFD5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01D08D-8AF9-4EF9-B5AD-165554C5145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BC3F69-CFDE-438C-9DF2-3372316D086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1C44E9-79B9-4056-84F8-27060B812B7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6D7972-3A7B-4B58-8EBC-670DB2468E7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255FB5-E524-48A0-BEF4-AB39C243800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C366F4-E680-4B52-962D-C10D2B629FA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E3D653-9787-4832-8F31-4F7FBB136F6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B8D553-ECEC-40C0-B40A-9EAF49449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EF98-BB6C-4899-B2B3-CA3AF0A32C1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DC183B-8D3A-45DF-AA28-FAA2508A8B7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9A7CF-FE40-430E-B4D7-C0AFDF0EE43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19119-73A4-47B0-AD6A-6410B941E2F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186C54-90EF-4807-87E7-C542949D9C8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49B1EE-EF51-4A86-9C5A-991A57AAD7A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6DEA92-3073-437E-A153-19C689C3681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F9E323-C611-45E8-9098-93BDC84EC9E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4F93DC-2C95-401B-A43D-31A81C211B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ED721-7060-4DD0-84FD-EE3067E85F0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C3467A-B62E-4534-ADE4-E6DCF9EFABE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2521D7-2E84-4906-9F50-C52F88481C8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DB582F-E563-4FB8-BC0E-101742A5F26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869BB8-4DBC-46D8-884B-587BA492E13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08136-E58B-4448-88E8-78DC567EF3B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E17CD9-27A0-442E-90A4-18806485D6E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981BB4-873C-4BB5-BEC8-3E9D2E88592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0E1DF-44D8-4ACA-9F48-8A2DF4E64F7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8D803-2D78-4303-BD67-FA2B4AA3468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7A918-CDE5-4EB7-AACC-E803070E61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A8F5D-1D45-45F1-985A-4A1536E5EFF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D0686-DE3F-476D-AB18-D042CAAB045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9CAA3-E542-48B9-929C-1932E3F02C3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41A06-A8E0-4F71-AEC1-D020E0BDEDB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B4970-8FB3-4F28-B179-7BD0EF40A24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CEF61-D06A-47D5-B031-03AD1E7DB2A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C38D7-1C63-4070-84DF-D7299B56679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643F0-5E18-4912-A6D3-59BB3884EA6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C1895-A05D-412E-B684-21C8BFCF5C5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DB4AC-D9C3-4B1D-976B-0923FE0942E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3989CC-1F5F-44BE-BFC4-4DC6CF4CBC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7441-2B08-4B4C-B81A-3966B87BA14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8D0A0C-59AA-41B0-9EE1-2A8A46B3075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92538F-7A67-4B05-A0FD-438EA6F809E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A4EE7F-9BD8-492B-936E-6C6CD326348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102136-66E5-45B4-A77F-FE6A1B66191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80EEBF-43FB-42C5-A39A-378FA277083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128A71-E011-42C0-B287-0ED6DF3359D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FE4356-3386-4403-B9BE-671C6E87249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53B644-48E0-4320-B5C3-B321760BB4D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23B742-0344-4191-A55F-BC9D05FD592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5BB806-BD03-467F-9E50-6519C408F1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3E1D-E737-4473-8242-77768BA4530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5E9E0C-E20D-493A-BE6B-1C214B2A0AB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5E92-35F4-45E5-AB2A-BCE998EE7BD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63C8-2D12-4796-BB28-0A9A9ABA5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B8ECF-43F0-4786-9A0E-966D930D527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F916D5-FACE-480C-9845-6A631FA6CC3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9C388-7303-4062-88A7-B5EB9190AC3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86840-0168-4019-B5AF-956C53AE611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94718-5C3B-4252-A3F7-7F202DDE03B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BA014D-9761-4EA9-8290-67B790D9C4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A9375-0D24-4E81-BB9A-975ED91960C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C1CC6-87E2-4C27-A633-FAB4C66C331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938552-638C-40F2-8DA1-715CAD81091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7BAA4B-C38F-4C13-A9B8-83BB8D72BC2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9EC8F6-E1E7-451B-953A-D249F285906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46344-96F5-49A2-AF2F-471251D3565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202E64-138B-4B2E-8EC7-9780CAE8F8E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BA80A3-1E8D-49F1-B5D3-17D5B843A7F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F8980-C7E3-49F2-BB84-25261073F65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CD4F6-367E-4F60-AB91-CFC90737F05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EDA90-C762-41BD-9A75-A3BD5E087D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64960-5567-4049-9FEC-A7AD9159E81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1BF05-D9E1-4EBA-BEB8-94C6F77B1BF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F0E83-445B-4EC6-AEE6-610E008FF49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231C0-2EC0-4DD6-B2EB-7BDA34A72EC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C61DD-5C31-4AC3-BE11-65657F3CAD9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83905-0A96-45CB-92F3-F96776191E2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B985F-31E0-402B-AFD3-7C4C4C166B1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ACE8F-70D0-4703-BFD2-C666D00B1B6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C41B0-714E-4CB0-8440-5A9CD2051AF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642AD-ED6F-4E4F-9DD8-2DD9B0E1D09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C747EF-39A8-4C86-8994-E3EFFF8C44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8EFC3-DE9C-4198-9924-70A9791D9ED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DD5D62-994D-4D57-8462-D2429B85EAE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A53241-4069-4B76-8952-28CBC762C4E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BCEBFF-777E-4BF9-B8DC-D4461194422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25FB30-2C2E-4DDA-AFF2-AABADBD007A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D40451-93CD-49F8-A803-4D779F9B5D5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F9786B-8B45-4E02-9B3B-F71847BD107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326641-94AB-4B51-A582-A181F23EC30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D93CFC-D2EE-4EAA-B599-6C2FF977689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2647FA-4910-4BF5-86E2-2927AA3C034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A62893-7BD7-4AD9-9CC6-B62903CC35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5801-864D-46A3-B5EB-A6765F07E1C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AE02A7-EF04-4236-A96C-5A3203538D1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E6278F-7946-46CF-A326-5AFA5ADC866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F5395-FDD0-47EC-8EFE-934CC86A335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5B3EB-E597-4C16-944C-19C13AA4ADE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CEE8C3-2A56-41E9-8464-BC54B4F54F2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AD59D-A96F-4FE5-85F5-A54224612BE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30BAA0-E0DC-4033-B881-006527E50C5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0A5A4B-F370-411B-A1CE-B7AB9FD0999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D7C3A-DF2E-4E48-B4BC-F5B0972F094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AB17B9-A4B9-4AB9-94A1-845AA820F0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B18-DA63-4D79-B648-7AA3FD8E35C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359206-83AF-4E72-BEE5-F117C0EA03F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9D8778-9FD3-4006-A26A-5EF5A354816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630D3-F1A3-48F4-8907-9EB5EE78C1A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A44-A864-4055-8302-6E07E2135B4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638-59F3-430B-ACC6-8F9788669F0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C1FB8-5888-4DF6-B514-9338A571478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BF048-5863-48DE-94E7-8C4F747C525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3ED7C-9654-44CE-A323-3D1245F1D4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B98-C389-4A2B-9A00-50BD98B4317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B4DEE-C810-4D15-8080-5ED3C1EA2A2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897E2-D44F-4E52-86A8-726F8A81464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71CE9-0487-48CE-900A-C0074D00A77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E3F69-4805-4AD3-B351-1BF95D8F3BE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7B8D4-9550-4A24-BFD8-5B0111F6EBB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68D96-7898-482C-8810-77EDE37BE7B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6362E-A8A2-46C1-A870-DB388FF7A16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48560-07BE-44EE-8F6A-1DC128488A3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8B41C-9362-421E-8A54-1F6C6077821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7C022C-53E0-4FF9-B04D-647B0859B5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920-4E33-4022-97AE-3188710D2CD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379859-0C04-48E2-B37D-55B51AF246F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99A9AE-A083-444F-AFFA-A713E3E673D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BC7751-D592-4B34-8EC5-5BF89BA8E16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E8CCDB-7203-405B-A2F4-D787B1777B7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56F4D3-D7FD-4B1A-94DE-3268A89B16F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072E14-B784-4E62-B918-3967B3E9EB5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B2C9E6-36CA-400A-AC56-5A25BE28666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54F100-D9BA-4986-8D76-B892B496F4C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89D1E3-7FC3-4A4E-9137-51CBE8F97BD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4F1D43-66AF-454E-852A-FA153C7EFF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E0EB-E402-4C81-92CD-A9E43FBA59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C105-2DCA-4D8C-8CF6-672ECC4FC1C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51C499-EE8A-4B8D-9D6E-E9CAC48EA63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7D84E6-769B-4A02-9818-F235DBBB644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F94D93-7C3D-4CE5-BCA6-B488300D5B6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03AC11-DC52-4F5D-97AF-F74F043F7DA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F59339-B584-429B-810D-B45C3D45E39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D2389-447B-49DD-BCB5-11F9F8A348E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62EEE0-9882-4BBE-A892-6155C20C8C2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B72B19-0C15-4901-9909-5E553C135CA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DD478C-3726-43BC-B15E-C740C0DB7B0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AAF07E-4729-4EB4-956C-6F96403B01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020-8021-4F70-A7EF-FF39A7B0A5F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2411F9-3C2A-4B30-B66D-978EA6DC273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E97581-F346-4784-829D-3F8FA2F2A5C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3B504E-52D6-4ADB-91BF-689FC0716D7D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733-4693-434E-9180-F58A6381D956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84F-08CF-48D2-88F0-5435431D5A81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A8D8F-381E-43B0-B101-7E6D979A4261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0248D-AB81-4A83-A71B-4EC0D8EEB24B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E34BC-149D-4EAB-98C2-306E19033A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7EB-262B-4920-86B9-7246319AB004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FB8B9-139F-49A6-9CB6-C1C945F1E456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E3550-EA61-47F5-8807-D3F555335265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A3594-37E0-4926-9688-DBC8216E0CB3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13748-468B-41EA-8F71-B918DE281586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6C55C-B0BC-489E-A7A7-DF0830E1DABA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54944-0E12-4262-AD51-9CC584600463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FC9BF-4D41-4DCE-A9EE-FA4A52C2FF4B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E2752-B838-4873-9433-55C0C234108F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68243-E401-4181-85B5-E583CF476565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86B700-D758-49B3-B929-28CB37AE6E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70F-3542-41EB-8ED4-FAF895B18E9C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255F3C-97C2-4AE1-9140-F431514251E3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7C47B9-E06E-49C3-8699-8F7ABABDE3D7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945661-807C-4CFE-A1BE-99D0A9C71780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AAD1A2-8303-45F0-970E-AFBAB5D0C34A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26FD84-25A3-4033-B9E9-1EE6F1FC54F3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EA4FAE-1FFE-4D8A-A39B-2A88AE18D8A2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EB22CE-62B8-45AB-AEA4-A3D89264A09A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BFF48F-EEDB-4263-BB5F-8AB8DA3619E7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1694AF-BAA0-47B9-A232-457C91D8B784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173086-B6F9-4E1F-9499-A9C404C9AF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B304-FDC8-4F4A-BD3B-4F7E56788A74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C041B0-965F-487E-8B39-89E9EA9D665B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2D6B3E-A592-41F7-9C42-B235D1F561D4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BAA654-1248-4268-9F01-B00339FF20A0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6BA6E7-4119-484B-A3CE-568417ADF02C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2EF87F-135F-463E-98FB-BFDB79CFAC01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60E9CA-2B23-40B4-A8D7-1F2D90780412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336B6F-FE35-4370-BF30-F07FF3900CD1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6D20E8-4DE7-431C-B2A8-AD45CAD0D093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5D8B1A-47D7-4AC5-AC30-9B8525B5D375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D678E9-21D2-49B4-AC3B-6DA5E0A134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FC432-5FB7-40E3-A80C-40F21DAE5B92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3159AD-0235-49D3-B467-6F8D0912BFC6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B44582-E89A-4A5C-A930-4C2F08AC84D9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880F44-33A7-4B6C-BE90-03532AD44B2A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19546-6455-4159-A8E7-62AB7FEE0573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93890-1214-4A15-92A6-9CBCCA8BD18D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9F715-A93C-44EC-B901-3AEDC3D8DECF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C6D42-848E-457A-81B7-DBDB05C56E5C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FBFC9-C7A1-476B-993F-E66E4D7E2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64B7-54C0-4BC0-AAA1-36D6A7F1E4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D0A56-A0F5-418F-BD73-A823D62ACBB4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0B02A-B4FF-4BCE-9EDC-7B9C3AE1EF59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5CE8D-872E-4284-A69B-8583E463F922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C7D8C-6A4D-4F5B-AC53-7D0D2A37A452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1936D-327A-4869-8EA1-2E0BBE0E42FD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1090B-B28E-474D-902C-142C1AD69B9B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A97F0-CF60-437B-9E95-60593652AF51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D8BFE-3458-4975-9AA3-D63955874EEC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34B42-5DC9-49E3-97A3-2D957275D373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B7FEA-5BC4-4FD0-8844-077F9B1CF5AA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8B6C6-779F-4FBE-99AF-0E1109FA5D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0139D-704D-4D87-9FF5-ADAFEFC20359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92384-F180-45A1-8F80-5AA7C27D417D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73F84-3159-4808-B0C8-A77BD66C4422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9DE574-47A3-4B6C-97FC-1011B895EBF7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A8813-074E-4EC1-A737-CBEEA556ADCF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B05FA-9EAA-48FD-AE62-3100DCE03EF9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2BB74-2BBB-4789-A8FE-846AF42EE62A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EDF82-ABF2-4AC2-B724-E90369DD5ECA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7448C0-EBCF-4C9D-AEEB-B4546C3A1030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E2F9E-AED8-44F2-B48A-515A44BEC667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127B0-CAFB-43D0-9382-A092435930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7731A-F08D-49A1-BADE-A15756E25A34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7A0EF-5F4F-437B-AC6D-B9DE2F0A855E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444802-5FED-46F9-845F-08E7C0E99D53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64D8E8-7D2E-4B94-8B27-F2738A0E6E03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65D54B-E249-472A-B7F1-79D7E4CD9BAF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41D4FF-AB3E-4718-A6CD-43D5EEA17245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C94BE2-239F-4793-B9A2-D4B7958FF6F8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FEAFC9-03FE-4050-825E-599695C01278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1B2707-FEFB-4E70-8D23-5F3B952F3492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24C14D-E651-4C76-BD5F-7BC9B35C179B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303B24-B3D1-421E-A1B4-A604A8E942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9A470-5455-434A-A73B-04E52A659578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777AB3-2DF2-4385-9B12-2709E45C6251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63244C-C5FD-488D-BF84-CEE479BAACE6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CB0483-41A7-4C2B-9B04-B0B428413C4B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02C7F-ABF0-4EE3-AA88-06E08473FB89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982DA-A925-4471-BFC3-C60706D74BD8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5D920-C6B7-45C8-9B5E-76199943054F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FA942-8D54-48A0-B8EC-A01430F4BEE9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BB32B-8E6A-483D-8794-D2B48E1255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23D3F-5E5F-4BD6-B1A2-A22E19E94CFA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A8D08-6925-450F-A75E-E732DC997B2A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259DA-B025-4114-81D4-833F24A24125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82031-0C9F-423A-9940-D2B82639C397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4C9F8-F0C5-444B-9C63-5AFC46BE15C5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D720F-88F9-4563-94D8-8D24D1D4B2F2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15926-1DE0-462C-87DE-84A044B136EA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35F55-EE0B-4F4F-8422-20FE9120892F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40758-7CA7-4283-B738-A42945A9126B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89E59-ED89-4592-BC02-4E0B9581F055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5BD112-A3D9-4DE8-AAE5-2B145ABD58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30EBA-C709-47EB-89DE-B264EAEA7C7C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516BE-F36D-4713-BAB6-27DB2A7DA35B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1B35A-B08F-4365-A3BD-914C1D01262D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76D2FF-6275-4863-BE68-979C4820B986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CC24F-8F87-4318-984F-46F07EC411E7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B66235-BA57-486F-88C8-1CF03B58855E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8EB1F3-19E4-45B3-BF78-0908377816D7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C477A6-60A5-4A41-AE96-38EA092184B0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6079B-0B7E-4A0F-8864-1BEB2ED194A2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F9F80-44C7-4E10-AA63-3A1ECEF2EF73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6A1D5-52FE-467C-B0C2-95A7761FAB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10E5E-0F71-419E-898C-5B3121888A48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3B738-B2E2-4C91-BDFE-89A9EFBC4047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14F549-6B91-4474-9A5D-97EDBB9F2FD5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056A57-6541-49C8-9A1C-B00EDA335701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467974-3AD7-466A-8278-D84DF5FE0D1F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BE378E-3672-4E7A-826A-5E98BC062B83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B3596A-7813-4E9C-8CBC-4FF3B92C99CC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17AAEA-02B3-44F8-8441-C4568025D538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AF2963-7064-4D26-B453-59A658BE908D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11765B-DD14-4FAA-AD4C-BC36B7B82B7B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14C605-7F0C-4919-A7F7-EE2A2A49BEB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6C6CC-026B-4E2A-8587-D63166668477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ABA320-7E3E-4401-A27E-5232F60A4BC7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2F90D3-4E13-4CB0-B19C-41E7155B04E1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D36206-4661-4346-A1F7-3D349184BD9E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6F13-D49B-4A05-9F83-D0DC5F796B2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F395F-F724-4D22-ADD1-C650684B54CB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803B9-AD14-48B0-8A14-B1E8494C411B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F2E5E-C0ED-4A7E-A34D-7423FBF1531D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E7261-82EA-4744-9EF6-FAFD5708E9E3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BFA26-DC31-456F-B972-AF14CE7BF4F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4A50B-0E58-44BD-9DFD-49E31FF45A32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481DF-DF5A-4A30-A8D2-358AC4494649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0B5CF-6B71-446C-AE3E-33A4E1B5749D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2CF8B-75ED-4084-A371-525D38C2F74D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04BFA-B3CA-4B6A-AF4D-166332CA7DA2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C12C7-3A96-46C0-83A7-B56E93AF56B2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4C09A-BCD0-473E-843A-02B6828E7E74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EAE90-C6B9-47F9-B4E5-132644094E61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E7D72-E74E-42EF-A985-DBA71D2FDEC0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0405A-D091-4E27-8425-989348F0F8D9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12AE92-EB1C-488D-A4D0-A2D78A6A0D6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4EFF4-AF9F-4C93-9B5A-E6C16DF190F6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E7E761-9A88-4EFC-8DFE-99BD01258A75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488393-EBCE-4E99-8ED3-97C65C665893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11F9D7-C976-4F1A-8454-4B46B7094CD0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0885B2-66D6-4673-90E5-30FF4F62A890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47666D-3714-4744-A5E5-F1B25C6D32BF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A71046-041F-441A-9305-0D5746BC59BC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DF556B-B4EC-4661-8633-ADE86EACC967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B6BBAD-B577-465E-BD33-0AF9BA121E9C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053C7E-E37E-4D93-8B87-8C8AC8B7DEE5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415140-480E-43A3-92B2-06CBA5E2D37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C3456-AEF9-4BC2-863D-9742AA286DF2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210907-18FB-4CE8-A870-7BDD26ACF8A4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F7D083-6456-4D43-9F87-ED87026BDAF2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B640FE-4306-41D8-B7FF-C2E58CEB71D4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6EB741-398D-4DC9-9392-C60CCA30DC50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88EAE0-CD17-41E6-82F4-FCFFFF5E3BC0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ECA4BC-600D-4261-9371-233A139112EF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3F78E9-AFC2-493D-9ED1-DF98A0DB5233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3AD110-3719-4010-B32A-DA1999325AC8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CAFF83-B488-4B00-B26C-EC3774D39C5B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566280-09C7-4DA2-8B1E-2179E0EF96D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B19DC-0059-44F3-ADDF-B175293A2089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AADC05-B6DE-4640-821C-DE80B10E96B8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1882E0-B6C4-4B60-8949-8987B6EADFA2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8D2867-1FA1-44A1-8509-7C7B0920ABAA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B4F02-0E80-4746-81A0-9123A10A28E3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D54FF-F6EB-4BBC-B6D5-03F0D4284893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D927A-632F-4D37-9D47-0C2E04FD9D3B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0C806-45F1-4FAA-A3C2-A2A56DAED1E9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07711-8540-4127-8784-5E7D63320A3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A595B-8C5E-4037-9904-4821F54DEF47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7B425-7F54-4FED-B42D-D92FC2D26BE0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95966-14B5-4DED-89B1-DCAB2E2D440A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A0593-5FCE-46B4-8680-AF557ED1843C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E75B5-4B7A-494D-A7DE-6DDC38A0947C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5F4FE-31D2-4FC1-BFFF-F28D43C7F993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B4E72-49DA-4DC5-94D7-96BB2840841D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43018-97F3-4714-AF97-A68B4C496487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C31DB-024A-4C23-B26C-027A23D42066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F0AFA-E12A-4E7F-A03B-08EB023B2ED3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FA9D0-1CB9-4770-9D68-E8A064C7C5A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FED78-2314-4A32-B385-95EDBA06CDC5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D5C442-8B85-4EA3-884D-AE7650DC388D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6980D1-F6A6-414E-B35E-408D0FBA4B45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FA9B9-645D-4DCD-8A16-D3FCD3B8C439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B149BD-9D12-4BD3-87BC-3D78849DF451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0F9F66-D44E-4277-8B53-BE262FD9AD7F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63294-5898-4FAD-92DF-E15C25A5C05A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AA56D5-F354-4896-8499-13AA8C7B6732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C41AA-BBDF-425E-87C7-F480A387B929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F23181-8E25-43B1-A5E3-9935E66204C2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49C1A-B8B2-40B1-A1F9-342E67E44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7E14-A1A5-4E04-A2F2-55377B115EA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4F18A-EC22-4139-A174-7C00C2AAFBCE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E1462-4D6E-465F-873E-C89AB4569828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B531EB-312D-4690-8301-467D8D487CB4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AA6AE5-92E3-4FF0-AD83-27BD021E63C3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77EFF0-34B2-467F-8ED0-90F1011A074E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C82449-E3AB-42E3-A1FF-C753CB5D2CEC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53DF16-4F1E-4656-ADEC-650B922E0269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8825D8-A2E7-448C-8D08-EFC99EDAA6F5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B2B724-B2C7-471A-9AFE-A2A87B427F6C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09B8FC-D052-4388-AD63-8D8184FD5615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7DEEA3-F4DD-42D1-A527-77A27CA13CB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2326-7FBF-462E-949E-838A4A2E2BF8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487AA1-6D7D-4C52-8FB2-A46353C5115D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DD6E0E-543D-4AB0-BD58-CDA0CF6E6A83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1768C3-7418-4E09-BCA0-451EB38EC5CE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18C6-532A-4966-907E-F2558D96A8FA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3384-8E53-4648-ACCB-430ED0BB4C75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2BB23-AEA0-499D-B2D9-50E59A7BC546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21A27-879B-4A85-A486-C80D1A81330B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A0D1E-999F-419E-9139-955C92788B5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C173-5140-4BC4-8B25-95279EDD63E2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0B1C4-973C-4C6B-9C9B-5F40E620871D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8A845-19CC-478C-9F43-3774FC5C431B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4E54C-0732-44A0-95F4-19AF3EB25593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F8B60-C11E-4E7F-B936-0BE331D04955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83B4E-A8FB-45FC-A6DB-25E4EE0403A2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E95D7-5DB7-460D-A0F9-12D5D85A4B29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F7210-FB23-4321-9E1F-26ED35362B7B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BE7DC-8715-4ACD-930A-94FE0E5015B3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68F35-0A82-4AEC-9FFC-815A4E7DB55E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22BF28-42FA-4CA2-928F-85EE339102D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B8CE-BF90-4CFF-83AC-0A4A3A547A36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6574EB-6BC9-4EF4-B3A0-19C216E8E432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682560-78FB-4ED6-A5E2-C8B623B63AEA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EA556C-FBCA-432C-A5F7-5CB68DBF92FC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B53C3A-A0D6-407C-8226-7C7D19C38C2B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0DBCF6-F47B-4325-BF44-B6CF72D6AD5E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F3BA16-BB64-40F8-8726-0D8E13AAAD06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FEDFCA-C323-4971-BC61-5B17E06F56C1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8E2030-AF70-44B5-9E5F-9E07F0211738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398F63-1112-45EA-96C6-A630CFCDDDB1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70C4C8-3D9B-4C48-A06D-80B7D3E74D2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94DB-6349-4D5C-A5CF-02FF6262678F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A287EA-0FCB-4C17-B6C0-D6D29CE0C1A0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29D3D9-435A-4274-B350-2992B3D8DDD3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62491E-82CD-495E-A3DF-5A36B1CBAE01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DC48DD-B5EC-44FC-A109-680834B20D1F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BA5153-D50B-4CDC-B217-270514EF5D6B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CC9172-4A06-4A46-AF67-54B0C5B5994F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924CEF-6282-4C77-A57C-A18BEB75BB36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B41765-41DF-4E1F-84E7-2A91843DFC5A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EED5CA-AB12-4DB2-93BB-0F402307FED4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A83893-8B06-4527-8DA4-5D901D65F48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23A8-109C-4264-AB44-DCB8935F12C4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119306-83FA-41BF-BDE6-B923B8493194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238556-0139-4B32-BD25-E83BD2F65AB9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E0A231-4141-4548-A99A-A97B81BC9B77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CCC0-B1E4-438D-B5AF-83EF2914DD7B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0A7A-DC69-4FF6-9CB9-BF7AC248C756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F3FD2-F351-4AF8-A116-0A1BB3BE1EF7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E4077-B2D9-4635-89DB-216E4479D7EB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FE790-FA78-4D39-A91F-83BD1D033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260B-5848-409B-AB4C-4C976412615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E5CC-DB2F-44B1-97FC-A15A50419A0D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2D77BC-D10F-4E01-AEA2-93B1E35C03B6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45A07-F8AD-4B53-9173-E7C8CBB0057F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5D2EF8-5618-404B-954C-8D66383CC95C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18058-62E6-479C-BBA6-4D2213DC12F6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92673-FA65-4004-A6B8-486062661030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E32697-DCC0-4DCD-B9A2-2E1B6582DAA5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E5A89-5A12-4228-B14D-9005C22A21CE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CC9AA-6EE1-474E-BFC4-FBF79275E220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E9290-0D4E-4416-9777-0394EA4D2EC7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EB97C5D-2311-445C-BCF0-A84D9BE2E85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B5F2-C8F9-417A-8326-C1C680A6E32D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D1A2716-9A1A-496C-9B10-3F1C7FF17DD9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3822075-0435-4D17-8EC7-124D123EE177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972C78-E11C-4E8D-91AB-BD0E44BACE60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381665C-0C8E-48BB-9014-0CD808D34DB9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0A547EC-154D-439A-9826-13A4A7E3EF6E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7E674F-94AA-4763-A979-1714CD5F85B1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2F18758-2F2B-4935-8E68-E511408FE9B1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347644-9A13-451B-AABE-259D11F07F77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46DF5A7-E28F-4554-B47A-FD75527E1F7F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BC2A61-30BD-4252-B76C-E311B7A3FE1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10E7-B167-440C-881E-418DB08A08B9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5ED46AB-9C07-4025-B558-C636926DEF2C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5B002B-BCCD-4BE3-85FC-896F7427FB3B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31E696-9814-4350-896D-4FB4B0173A75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90E901-C7D2-4C1D-B243-3BAEB2D8EB4A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5B984E-11F1-4DAA-8ABD-D7B3F4BE6D3B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646B2B3-3415-4DDB-8A92-929F0F24F542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0979FE-D53E-4874-A15B-3218E443CFA2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92E2BB-2B9C-436C-8989-02452C7490B5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28E503-C9F3-49DD-9CF3-44164C8D5ABE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15B4BC5-5B72-44D8-BE6A-76BA265BF6F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F8C0AC-8BB2-4DFA-8518-6FDF53D6938E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DE1AB6E-0519-4CA5-9709-5796B428F23A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CBC1E0-90C2-49A0-B421-60285666E58F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8F63F3-8BF5-48E9-AE84-1788923E635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16ACE6-F0AC-4633-A9E3-F47CDDB4387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64B8ED-B0C4-4CCC-BC65-B30E37A85CB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D3A821-69F0-4D54-977D-278364D3C64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B96C9E-18EE-4BD3-8439-9B13CFF9F5F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388AD0-538F-453C-9158-085EA2C68B2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C68089-076A-4791-8B1F-9DA468003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1BB8-A4EE-4508-A898-259953DDD87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443D41-C65D-41A0-AC51-01D5EF7783F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B30F7-0D55-4F1E-8D3A-631848B30BE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E43084-6540-4DC2-9805-1CEF49735DB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A62932-DB63-44D3-9507-82F656AE811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3B6042-77A6-430D-B6D1-9D2828CA6AC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5C8B7-5693-49F5-8BE0-F505FD174E1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2FC4A-413E-40BD-B04D-88AB5177123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86FF0-3912-468E-8227-3F02B41E846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B89D3-E088-4FA2-89F4-74D287B7C8F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6A2B7-3A8F-4D4E-9103-2746BFDC4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4DB7-CEA4-43FE-A933-5295BB1E29B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2022E-EE8F-45A4-A103-EAB1F945EF4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60E3F-07F6-402A-867D-B6BD2F97F1B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CE000-321B-4049-8EB2-A6C70FE4F68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C7C3C-73E3-4617-9B2E-371349BB308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BA2F0-5205-4018-9C99-15296093E06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BDBC2-448F-466B-A4A8-F1FF70B2BC4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30E61-4879-4B7B-9136-1D24BA8098C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53907-7B40-49FD-B88F-D76B8C254E4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FF981-4942-4FED-B1FF-1732357C53A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034EF-6C74-43EF-9220-7E7FF5238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592B6-DD7B-42F9-AFF5-B45808CD91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Num" idx="1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8210A-7671-405F-A735-8E1D8DA1CA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sldNum" idx="11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A9D01-8016-4C95-A070-076A7C33C8D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sldNum" idx="12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D32F5-E57D-48ED-9254-991548F1DF4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ldNum" idx="13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8DDBB-11C5-4464-8B5E-914FD023478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2"/>
          <a:stretch/>
        </p:blipFill>
        <p:spPr>
          <a:xfrm>
            <a:off x="228600" y="4286160"/>
            <a:ext cx="613728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2"/>
          <a:stretch/>
        </p:blipFill>
        <p:spPr>
          <a:xfrm>
            <a:off x="76320" y="255600"/>
            <a:ext cx="6137280" cy="67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Picture 6" descr=""/>
          <p:cNvPicPr/>
          <p:nvPr/>
        </p:nvPicPr>
        <p:blipFill>
          <a:blip r:embed="rId2"/>
          <a:stretch/>
        </p:blipFill>
        <p:spPr>
          <a:xfrm>
            <a:off x="4645080" y="4659480"/>
            <a:ext cx="4422600" cy="4842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sldNum" idx="14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5F14A-4C55-47BD-81F2-2E13A40E8A5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6" descr=""/>
          <p:cNvPicPr/>
          <p:nvPr/>
        </p:nvPicPr>
        <p:blipFill>
          <a:blip r:embed="rId2"/>
          <a:stretch/>
        </p:blipFill>
        <p:spPr>
          <a:xfrm>
            <a:off x="4645080" y="4659480"/>
            <a:ext cx="4422600" cy="4842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sldNum" idx="15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E262E-DB00-4457-82DD-64357967434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ldNum" idx="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0A844-3EE6-4D6B-A73B-E14F130A55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2"/>
          <a:stretch/>
        </p:blipFill>
        <p:spPr>
          <a:xfrm>
            <a:off x="4645080" y="4665600"/>
            <a:ext cx="4422600" cy="48600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sldNum" idx="16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1154C-AAFE-4ECD-92D6-7D26E4C2CA5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Num" idx="1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D196D-0CA7-46FA-8C65-1045631D700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8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7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sldNum" idx="18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7E6E9-8888-47EC-BB94-E90CC3CC3BE1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8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929" name="PlaceHolder 1"/>
          <p:cNvSpPr>
            <a:spLocks noGrp="1"/>
          </p:cNvSpPr>
          <p:nvPr>
            <p:ph type="sldNum" idx="19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CA8C4-1471-42EA-8893-54A5414CF9B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8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sldNum" idx="20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792B1-652D-461F-96C8-3FE2683E54C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7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6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6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087" name="PlaceHolder 1"/>
          <p:cNvSpPr>
            <a:spLocks noGrp="1"/>
          </p:cNvSpPr>
          <p:nvPr>
            <p:ph type="sldNum" idx="21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C4B09-07F1-4543-A8CD-5910C1CC2D2E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65699-C9EE-4AEC-93DD-7F208AA164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128" name="PlaceHolder 1"/>
          <p:cNvSpPr>
            <a:spLocks noGrp="1"/>
          </p:cNvSpPr>
          <p:nvPr>
            <p:ph type="sldNum" idx="22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B70F7-BB5C-44A1-BBFA-B3C8585125D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7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sldNum" idx="23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57FC1-81CB-4965-84B9-9A008748676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6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5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286" name="PlaceHolder 1"/>
          <p:cNvSpPr>
            <a:spLocks noGrp="1"/>
          </p:cNvSpPr>
          <p:nvPr>
            <p:ph type="sldNum" idx="24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382E7-2DE0-4265-953B-EAA5000A8F0E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327" name="PlaceHolder 1"/>
          <p:cNvSpPr>
            <a:spLocks noGrp="1"/>
          </p:cNvSpPr>
          <p:nvPr>
            <p:ph type="sldNum" idx="25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42B21-1135-4349-854C-4FB7298F4F0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367" name="PlaceHolder 1"/>
          <p:cNvSpPr>
            <a:spLocks noGrp="1"/>
          </p:cNvSpPr>
          <p:nvPr>
            <p:ph type="sldNum" idx="26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9D33D-BBAD-450D-8820-AC20B42E1FF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5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4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4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485" name="PlaceHolder 1"/>
          <p:cNvSpPr>
            <a:spLocks noGrp="1"/>
          </p:cNvSpPr>
          <p:nvPr>
            <p:ph type="sldNum" idx="27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62DC5-E0C3-4481-83A2-3D22A4A497E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Num" idx="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3842E-92D6-4E45-BB48-517D5D1382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5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526" name="PlaceHolder 1"/>
          <p:cNvSpPr>
            <a:spLocks noGrp="1"/>
          </p:cNvSpPr>
          <p:nvPr>
            <p:ph type="sldNum" idx="28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8F74F-090F-492C-A4E3-E57613770C0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5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566" name="PlaceHolder 1"/>
          <p:cNvSpPr>
            <a:spLocks noGrp="1"/>
          </p:cNvSpPr>
          <p:nvPr>
            <p:ph type="sldNum" idx="29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4F311-A686-450D-A44C-7F677056EB7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4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3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3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684" name="PlaceHolder 1"/>
          <p:cNvSpPr>
            <a:spLocks noGrp="1"/>
          </p:cNvSpPr>
          <p:nvPr>
            <p:ph type="sldNum" idx="30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C31B8-0BBC-4309-9A13-4CE44F04C86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4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725" name="PlaceHolder 1"/>
          <p:cNvSpPr>
            <a:spLocks noGrp="1"/>
          </p:cNvSpPr>
          <p:nvPr>
            <p:ph type="sldNum" idx="31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C0215-9465-4B86-882B-E2F9A7522E2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4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765" name="PlaceHolder 1"/>
          <p:cNvSpPr>
            <a:spLocks noGrp="1"/>
          </p:cNvSpPr>
          <p:nvPr>
            <p:ph type="sldNum" idx="32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904C8-1D9A-4484-8724-BEB0E24BAA1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3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2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2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883" name="PlaceHolder 1"/>
          <p:cNvSpPr>
            <a:spLocks noGrp="1"/>
          </p:cNvSpPr>
          <p:nvPr>
            <p:ph type="sldNum" idx="33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36803-4E66-4F89-88B7-3E5AA9F4BF9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Num" idx="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BDDF0-D712-42ED-892E-611E754447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3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924" name="PlaceHolder 1"/>
          <p:cNvSpPr>
            <a:spLocks noGrp="1"/>
          </p:cNvSpPr>
          <p:nvPr>
            <p:ph type="sldNum" idx="34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390FF-8DEF-4638-9D0B-B0E4E4BBE0E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3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sldNum" idx="35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040D6-E7B8-4A89-8C3B-6B49E7D1599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2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1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1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2082" name="PlaceHolder 1"/>
          <p:cNvSpPr>
            <a:spLocks noGrp="1"/>
          </p:cNvSpPr>
          <p:nvPr>
            <p:ph type="sldNum" idx="36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2081A-9A5A-45F7-BA74-FD7942F4A16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2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2123" name="PlaceHolder 1"/>
          <p:cNvSpPr>
            <a:spLocks noGrp="1"/>
          </p:cNvSpPr>
          <p:nvPr>
            <p:ph type="sldNum" idx="37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1777B-383A-42F9-AF3C-9057BE63F5D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2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2163" name="PlaceHolder 1"/>
          <p:cNvSpPr>
            <a:spLocks noGrp="1"/>
          </p:cNvSpPr>
          <p:nvPr>
            <p:ph type="sldNum" idx="38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32CB4-9CE1-4FA5-AA9D-0D7ED254CBD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1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0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0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2281" name="PlaceHolder 1"/>
          <p:cNvSpPr>
            <a:spLocks noGrp="1"/>
          </p:cNvSpPr>
          <p:nvPr>
            <p:ph type="sldNum" idx="39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8DEE8-B06D-478F-AB82-4CA4C1BFA49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2AD0B-E684-43E0-8541-461D7EA44D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1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2322" name="PlaceHolder 1"/>
          <p:cNvSpPr>
            <a:spLocks noGrp="1"/>
          </p:cNvSpPr>
          <p:nvPr>
            <p:ph type="sldNum" idx="40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952FF-353B-457B-9A90-7601045C082B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1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2362" name="PlaceHolder 1"/>
          <p:cNvSpPr>
            <a:spLocks noGrp="1"/>
          </p:cNvSpPr>
          <p:nvPr>
            <p:ph type="sldNum" idx="41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49E54-F5EA-47FF-A611-FEA2B51B6E5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Num" idx="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B3094-90D6-4665-ADC0-620882DBB9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Num" idx="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700B5-31BF-4DE0-9D0C-E0F89E634E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F2E25-12CB-49D3-AEEC-80CCF2A391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5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8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5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5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5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5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sadownload.ed.gov/" TargetMode="External"/><Relationship Id="rId2" Type="http://schemas.openxmlformats.org/officeDocument/2006/relationships/hyperlink" Target="http://www.fsadownload.ed.gov/" TargetMode="External"/><Relationship Id="rId3" Type="http://schemas.openxmlformats.org/officeDocument/2006/relationships/slideLayout" Target="../slideLayouts/slideLayout27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fap.ed.gov/eannouncements/031115LoanRecordDetailReportLRDRImportTool.html" TargetMode="External"/><Relationship Id="rId2" Type="http://schemas.openxmlformats.org/officeDocument/2006/relationships/hyperlink" Target="http://ifap.ed.gov/eannouncements/062215SchoolPortfolioReportImportTool.html" TargetMode="External"/><Relationship Id="rId3" Type="http://schemas.openxmlformats.org/officeDocument/2006/relationships/slideLayout" Target="../slideLayouts/slideLayout277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7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77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77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77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77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ifap.ed.gov/ifap/byNSLDSType.jsp?type=NSLDS" TargetMode="External"/><Relationship Id="rId3" Type="http://schemas.openxmlformats.org/officeDocument/2006/relationships/slideLayout" Target="../slideLayouts/slideLayout277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9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697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9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7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17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17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17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nsldsfap.ed.gov/" TargetMode="External"/><Relationship Id="rId2" Type="http://schemas.openxmlformats.org/officeDocument/2006/relationships/hyperlink" Target="mailto:nslds@ed.gov" TargetMode="External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"/>
          <p:cNvSpPr txBox="1"/>
          <p:nvPr/>
        </p:nvSpPr>
        <p:spPr>
          <a:xfrm>
            <a:off x="456840" y="2857680"/>
            <a:ext cx="84582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Eric Hardy and Bessie Sipple-Asher | Dec.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U.S. Department of 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2015 FSA Training Conference for Financial Aid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228600" y="1503360"/>
            <a:ext cx="86104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NSLDS UPDATE 2015</a:t>
            </a:r>
            <a:br>
              <a:rPr sz="4400"/>
            </a:b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Title 3"/>
          <p:cNvSpPr/>
          <p:nvPr/>
        </p:nvSpPr>
        <p:spPr>
          <a:xfrm>
            <a:off x="152280" y="228600"/>
            <a:ext cx="35053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Session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Reaffi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"/>
          <p:cNvSpPr txBox="1"/>
          <p:nvPr/>
        </p:nvSpPr>
        <p:spPr>
          <a:xfrm>
            <a:off x="476280" y="819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7520" indent="-227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n “R” reaffirmation icon displays next to the Loan Detail button on the Loan History page for a reaffirmed lo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licking on the “R” icon takes the user to the Reaffirmation History page for the corresponding lo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B6652-8BCF-44EF-BC37-839D6E9E3AC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8" name="Picture 5" descr=""/>
          <p:cNvPicPr/>
          <p:nvPr/>
        </p:nvPicPr>
        <p:blipFill>
          <a:blip r:embed="rId1"/>
          <a:stretch/>
        </p:blipFill>
        <p:spPr>
          <a:xfrm>
            <a:off x="1836720" y="1657440"/>
            <a:ext cx="5489640" cy="1912680"/>
          </a:xfrm>
          <a:prstGeom prst="rect">
            <a:avLst/>
          </a:prstGeom>
          <a:ln w="0">
            <a:noFill/>
          </a:ln>
        </p:spPr>
      </p:pic>
      <p:pic>
        <p:nvPicPr>
          <p:cNvPr id="2439" name="Picture 6" descr=""/>
          <p:cNvPicPr/>
          <p:nvPr/>
        </p:nvPicPr>
        <p:blipFill>
          <a:blip r:embed="rId2"/>
          <a:stretch/>
        </p:blipFill>
        <p:spPr>
          <a:xfrm>
            <a:off x="4419720" y="4213080"/>
            <a:ext cx="3819240" cy="40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40" name="Oval 2"/>
          <p:cNvSpPr/>
          <p:nvPr/>
        </p:nvSpPr>
        <p:spPr>
          <a:xfrm>
            <a:off x="4562640" y="1787400"/>
            <a:ext cx="27540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41" name="Curved Connector 9"/>
          <p:cNvCxnSpPr/>
          <p:nvPr/>
        </p:nvCxnSpPr>
        <p:spPr>
          <a:xfrm rot="10800000">
            <a:off x="7286040" y="2067840"/>
            <a:ext cx="87840" cy="13320"/>
          </a:xfrm>
          <a:prstGeom prst="curvedConnector5">
            <a:avLst>
              <a:gd name="adj1" fmla="val 13580"/>
              <a:gd name="adj2" fmla="val 50000"/>
              <a:gd name="adj3" fmla="val 1358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2" name="Elbow Connector 11"/>
          <p:cNvCxnSpPr/>
          <p:nvPr/>
        </p:nvCxnSpPr>
        <p:spPr>
          <a:xfrm flipH="1" rot="16200000">
            <a:off x="6741720" y="2716560"/>
            <a:ext cx="2127960" cy="865800"/>
          </a:xfrm>
          <a:prstGeom prst="bentConnector3">
            <a:avLst>
              <a:gd name="adj1" fmla="val -473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Reaffi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"/>
          <p:cNvSpPr txBox="1"/>
          <p:nvPr/>
        </p:nvSpPr>
        <p:spPr>
          <a:xfrm>
            <a:off x="380880" y="3714480"/>
            <a:ext cx="87631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186120" indent="-18612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Reaffirmation records display in descending order by Reaffirmation Begi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6120" indent="-18612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Newsletter #48 details how to use Reaffirmation data on NSLDS Professional Access along with Prescreening and Postscreening codes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70C5B-B8DA-4049-960E-A1AD99C7A4B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6" name="Picture 5" descr=""/>
          <p:cNvPicPr/>
          <p:nvPr/>
        </p:nvPicPr>
        <p:blipFill>
          <a:blip r:embed="rId1"/>
          <a:srcRect l="0" t="11411" r="1706" b="10324"/>
          <a:stretch/>
        </p:blipFill>
        <p:spPr>
          <a:xfrm>
            <a:off x="954000" y="895320"/>
            <a:ext cx="63277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Reporting Statis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"/>
          <p:cNvSpPr txBox="1"/>
          <p:nvPr/>
        </p:nvSpPr>
        <p:spPr>
          <a:xfrm>
            <a:off x="0" y="895320"/>
            <a:ext cx="91440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n March 2015, FSA began an outreach campaign (e-mails and phone calls) to schools that had not yet reported Program-level Enroll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n July 2015, NSLDS released the Enrollment Reporting Statistics web 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9280" indent="-23004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Available to all school-users associated to that sch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449280" indent="-23004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Generated on the third Wednesday of each mon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449280" indent="-23004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Designed to emphasize the “completeness” of reporting not just the timeli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44928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9280" indent="-2300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A3CB5-66E6-4313-8FB8-D77970B324E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Title 1"/>
          <p:cNvSpPr/>
          <p:nvPr/>
        </p:nvSpPr>
        <p:spPr>
          <a:xfrm>
            <a:off x="304920" y="438120"/>
            <a:ext cx="2668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nrollment Reporting Statistic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1" name="Picture 2" descr=""/>
          <p:cNvPicPr/>
          <p:nvPr/>
        </p:nvPicPr>
        <p:blipFill>
          <a:blip r:embed="rId1"/>
          <a:stretch/>
        </p:blipFill>
        <p:spPr>
          <a:xfrm>
            <a:off x="3327480" y="285840"/>
            <a:ext cx="581652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52" name="Picture 3" descr=""/>
          <p:cNvPicPr/>
          <p:nvPr/>
        </p:nvPicPr>
        <p:blipFill>
          <a:blip r:embed="rId2"/>
          <a:stretch/>
        </p:blipFill>
        <p:spPr>
          <a:xfrm>
            <a:off x="0" y="2266920"/>
            <a:ext cx="9144000" cy="238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53" name="Slide Number Placeholder 1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7E9D0-77CF-4B9A-A086-597E4409DF0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Reporting Statis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5" name="Picture 2" descr=""/>
          <p:cNvPicPr/>
          <p:nvPr/>
        </p:nvPicPr>
        <p:blipFill>
          <a:blip r:embed="rId1"/>
          <a:srcRect l="0" t="65460" r="0" b="0"/>
          <a:stretch/>
        </p:blipFill>
        <p:spPr>
          <a:xfrm>
            <a:off x="447840" y="836640"/>
            <a:ext cx="8364240" cy="91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56" name="Left Brace 4"/>
          <p:cNvSpPr/>
          <p:nvPr/>
        </p:nvSpPr>
        <p:spPr>
          <a:xfrm rot="16200000">
            <a:off x="3179520" y="-811440"/>
            <a:ext cx="381240" cy="5788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5788080"/>
              <a:gd name="textAreaBottom" fmla="*/ 5778360 h 578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8"/>
                </a:cubicBezTo>
                <a:lnTo>
                  <a:pt x="10800" y="10682"/>
                </a:lnTo>
                <a:cubicBezTo>
                  <a:pt x="10800" y="10741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8"/>
                </a:cubicBezTo>
                <a:lnTo>
                  <a:pt x="10800" y="21482"/>
                </a:lnTo>
                <a:cubicBezTo>
                  <a:pt x="10800" y="2154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7" name=""/>
          <p:cNvGraphicFramePr/>
          <p:nvPr/>
        </p:nvGraphicFramePr>
        <p:xfrm>
          <a:off x="409680" y="2333520"/>
          <a:ext cx="8440560" cy="2286000"/>
        </p:xfrm>
        <a:graphic>
          <a:graphicData uri="http://schemas.openxmlformats.org/drawingml/2006/table">
            <a:tbl>
              <a:tblPr/>
              <a:tblGrid>
                <a:gridCol w="3166920"/>
                <a:gridCol w="5273640"/>
              </a:tblGrid>
              <a:tr h="2764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of the evaluation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of the evaluation period and date the evaluation is perform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in Portfol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udents on the school’s roster as of the star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Cert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udents on a roster as of the start date which were certified at least once on or before the evaluation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Certified with Program Enroll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udents on a roster as of the start date that was certified with a program at least once on or before the evaluation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Cert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Certified divided by Students in Portfol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Certified with Program Enroll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Certified with Program Enrollment divided by Students in Portfol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8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52242-B408-4068-A123-67611B084C0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Reporting Statis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0" name="Picture 2" descr=""/>
          <p:cNvPicPr/>
          <p:nvPr/>
        </p:nvPicPr>
        <p:blipFill>
          <a:blip r:embed="rId1"/>
          <a:srcRect l="0" t="65460" r="0" b="0"/>
          <a:stretch/>
        </p:blipFill>
        <p:spPr>
          <a:xfrm>
            <a:off x="460440" y="971640"/>
            <a:ext cx="8364600" cy="91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61" name="Left Brace 2"/>
          <p:cNvSpPr/>
          <p:nvPr/>
        </p:nvSpPr>
        <p:spPr>
          <a:xfrm rot="16200000">
            <a:off x="7429320" y="856800"/>
            <a:ext cx="381240" cy="2590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2590920"/>
              <a:gd name="textAreaBottom" fmla="*/ 2581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3"/>
                  <a:pt x="10800" y="265"/>
                </a:cubicBezTo>
                <a:lnTo>
                  <a:pt x="10800" y="10535"/>
                </a:lnTo>
                <a:cubicBezTo>
                  <a:pt x="10800" y="10668"/>
                  <a:pt x="5400" y="10800"/>
                  <a:pt x="0" y="10800"/>
                </a:cubicBezTo>
                <a:cubicBezTo>
                  <a:pt x="5400" y="10800"/>
                  <a:pt x="10800" y="10933"/>
                  <a:pt x="10800" y="11065"/>
                </a:cubicBezTo>
                <a:lnTo>
                  <a:pt x="10800" y="21335"/>
                </a:lnTo>
                <a:cubicBezTo>
                  <a:pt x="10800" y="2146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Left Brace 5"/>
          <p:cNvSpPr/>
          <p:nvPr/>
        </p:nvSpPr>
        <p:spPr>
          <a:xfrm rot="16200000">
            <a:off x="828360" y="1494720"/>
            <a:ext cx="381240" cy="131472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1314720"/>
              <a:gd name="textAreaBottom" fmla="*/ 1305000 h 131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1"/>
                  <a:pt x="10800" y="522"/>
                </a:cubicBezTo>
                <a:lnTo>
                  <a:pt x="10800" y="10278"/>
                </a:lnTo>
                <a:cubicBezTo>
                  <a:pt x="10800" y="10539"/>
                  <a:pt x="5400" y="10800"/>
                  <a:pt x="0" y="10800"/>
                </a:cubicBezTo>
                <a:cubicBezTo>
                  <a:pt x="5400" y="10800"/>
                  <a:pt x="10800" y="11061"/>
                  <a:pt x="10800" y="11322"/>
                </a:cubicBezTo>
                <a:lnTo>
                  <a:pt x="10800" y="21078"/>
                </a:lnTo>
                <a:cubicBezTo>
                  <a:pt x="10800" y="2133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3" name=""/>
          <p:cNvGraphicFramePr/>
          <p:nvPr/>
        </p:nvGraphicFramePr>
        <p:xfrm>
          <a:off x="474840" y="2693880"/>
          <a:ext cx="8278560" cy="1871640"/>
        </p:xfrm>
        <a:graphic>
          <a:graphicData uri="http://schemas.openxmlformats.org/drawingml/2006/table">
            <a:tbl>
              <a:tblPr/>
              <a:tblGrid>
                <a:gridCol w="2944800"/>
                <a:gridCol w="5333760"/>
              </a:tblGrid>
              <a:tr h="274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of the evaluation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of the evaluation period and date the evaluation is perform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ter Records Retur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umber of records the school submitted between the Start Date and Evaluation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ter Records in Error Retur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umber of records returned to the school for an error between the Start Date and Evaluation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ter Error Perc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ter Record in Error Returned divided by Roster Record Retur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4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13C31-65E3-48C6-9DFC-296BBE568B81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Reporting Statistic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85BA8-8C1A-410C-90DA-1066EBE7AC6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"/>
          <p:cNvSpPr txBox="1"/>
          <p:nvPr/>
        </p:nvSpPr>
        <p:spPr>
          <a:xfrm>
            <a:off x="152280" y="97164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Warning icons will display under the following 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The school location has, as of the most recent calculation</a:t>
            </a:r>
            <a:r>
              <a:rPr b="1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 failed to achieve the minimum threshold for certifying students in its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The school location is currently late in responding to a roster sent by NSLDS. A late letter has been sent and no roster has been received after the late letter was s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The school location has failed to achieve the minimum threshold for certification and is currently late responding to a ro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8" name="Picture 8" descr=""/>
          <p:cNvPicPr/>
          <p:nvPr/>
        </p:nvPicPr>
        <p:blipFill>
          <a:blip r:embed="rId1"/>
          <a:stretch/>
        </p:blipFill>
        <p:spPr>
          <a:xfrm>
            <a:off x="8381880" y="1193760"/>
            <a:ext cx="49536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69" name="Picture 8" descr=""/>
          <p:cNvPicPr/>
          <p:nvPr/>
        </p:nvPicPr>
        <p:blipFill>
          <a:blip r:embed="rId2"/>
          <a:stretch/>
        </p:blipFill>
        <p:spPr>
          <a:xfrm>
            <a:off x="8381880" y="2536920"/>
            <a:ext cx="49536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70" name="Picture 8" descr=""/>
          <p:cNvPicPr/>
          <p:nvPr/>
        </p:nvPicPr>
        <p:blipFill>
          <a:blip r:embed="rId3"/>
          <a:stretch/>
        </p:blipFill>
        <p:spPr>
          <a:xfrm>
            <a:off x="8381880" y="3908520"/>
            <a:ext cx="49536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Statistics Repor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2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8170D-2E02-471E-A0DC-72CAEC43EDE1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"/>
          <p:cNvSpPr txBox="1"/>
          <p:nvPr/>
        </p:nvSpPr>
        <p:spPr>
          <a:xfrm>
            <a:off x="460080" y="1047240"/>
            <a:ext cx="37335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he Enrollment Statistics Report (</a:t>
            </a:r>
            <a:r>
              <a:rPr b="0" i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ENLST1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) includes information about completeness and quality of the enrollment reporting provided by schools participating in federal student a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4" name="Picture 2" descr=""/>
          <p:cNvPicPr/>
          <p:nvPr/>
        </p:nvPicPr>
        <p:blipFill>
          <a:blip r:embed="rId1"/>
          <a:stretch/>
        </p:blipFill>
        <p:spPr>
          <a:xfrm>
            <a:off x="4448160" y="819000"/>
            <a:ext cx="4440240" cy="432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Loss of Interest Subsidy (150%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6" name="Diagram 7" descr=""/>
          <p:cNvPicPr/>
          <p:nvPr/>
        </p:nvPicPr>
        <p:blipFill>
          <a:blip r:embed="rId1"/>
          <a:stretch/>
        </p:blipFill>
        <p:spPr>
          <a:xfrm>
            <a:off x="573120" y="895320"/>
            <a:ext cx="8016840" cy="3427560"/>
          </a:xfrm>
          <a:prstGeom prst="rect">
            <a:avLst/>
          </a:prstGeom>
          <a:ln w="0">
            <a:noFill/>
          </a:ln>
        </p:spPr>
      </p:pic>
      <p:sp>
        <p:nvSpPr>
          <p:cNvPr id="2477" name=""/>
          <p:cNvSpPr txBox="1"/>
          <p:nvPr/>
        </p:nvSpPr>
        <p:spPr>
          <a:xfrm>
            <a:off x="228240" y="3714480"/>
            <a:ext cx="8785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535353"/>
                </a:solidFill>
                <a:latin typeface="Arial"/>
                <a:ea typeface="Arial"/>
              </a:rPr>
              <a:t>LOS is based on </a:t>
            </a:r>
            <a:r>
              <a:rPr b="1" lang="en-US" sz="2300" spc="-1" strike="noStrike">
                <a:solidFill>
                  <a:srgbClr val="535353"/>
                </a:solidFill>
                <a:latin typeface="Arial"/>
                <a:ea typeface="Arial"/>
              </a:rPr>
              <a:t>Enrollment Reporting by schools </a:t>
            </a:r>
            <a:r>
              <a:rPr b="0" lang="en-US" sz="2300" spc="-1" strike="noStrike">
                <a:solidFill>
                  <a:srgbClr val="535353"/>
                </a:solidFill>
                <a:latin typeface="Arial"/>
                <a:ea typeface="Arial"/>
              </a:rPr>
              <a:t>to NSLD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99113-BB54-443B-BA3E-A5B04E99E62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Loss of Interest Subsidy (150%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0D24E-798B-4163-8C67-3D2A37CE4FD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Content Placeholder 10"/>
          <p:cNvSpPr/>
          <p:nvPr/>
        </p:nvSpPr>
        <p:spPr>
          <a:xfrm>
            <a:off x="266760" y="895320"/>
            <a:ext cx="861048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Times New Roman"/>
              </a:rPr>
              <a:t>In July 2015, NSLDS implemented functionality to identify borrowers who lost eligibility for interest subsidy on their Direct Subsidized Lo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2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Times New Roman"/>
              </a:rPr>
              <a:t>Inquiries should be submitted online via COD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2" name=""/>
          <p:cNvGraphicFramePr/>
          <p:nvPr/>
        </p:nvGraphicFramePr>
        <p:xfrm>
          <a:off x="1447920" y="1809720"/>
          <a:ext cx="6095880" cy="18334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of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ns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at have Lost Interest Subsi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of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rowers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at have Lost Interest Subsi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of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s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at have a loan that has Lost Interest Subsi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7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3" name=""/>
          <p:cNvGraphicFramePr/>
          <p:nvPr/>
        </p:nvGraphicFramePr>
        <p:xfrm>
          <a:off x="1447920" y="3643200"/>
          <a:ext cx="6095880" cy="3715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* As of 2015-11-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"/>
          <p:cNvSpPr txBox="1"/>
          <p:nvPr/>
        </p:nvSpPr>
        <p:spPr>
          <a:xfrm>
            <a:off x="533520" y="114300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What is in NSLD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Changes Made in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NSLDS Planned Enhanc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86A2F-C0C6-4E3B-9F6B-923AC2BB33B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erkins Reconciliation Rep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"/>
          <p:cNvSpPr txBox="1"/>
          <p:nvPr/>
        </p:nvSpPr>
        <p:spPr>
          <a:xfrm>
            <a:off x="152280" y="819000"/>
            <a:ext cx="87631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Released in July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Perkins Reconciliation Report (REC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rovides school users with an extract file containing information on campus-based loans they currently ser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Ad-Hoc Report – one time report delivered to the SAIG mailbox (TG Number) associated with the User ID requesting this re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Scheduled Report – automatically distributed on a monthly basis to a designated SAIG mailbo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Message Class: SCHREC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56980-5AD4-42F5-BA81-7146E47955D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xit Counseling Spreadsheet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n October 2015, the </a:t>
            </a:r>
            <a:r>
              <a:rPr b="1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xit Counseling Spreadsheet 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ubmittal template was updated to accept both .xls or .xlsx form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Allows users to upload and submit to 2,500 records/rows of data at a time, with a maximum file size of 1,000 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With the new template the NSLDSFAP website allows users to validate data within their Exit Counseling Spreadsheet before submitting to NSL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The submittal template is available on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fsadownload.ed.go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350BB-ECB9-4A46-8076-8C821FBB61EE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ublic Service Loan Forgiven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02532-2BC2-4378-994C-A904B63538D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"/>
          <p:cNvSpPr txBox="1"/>
          <p:nvPr/>
        </p:nvSpPr>
        <p:spPr>
          <a:xfrm>
            <a:off x="241200" y="930240"/>
            <a:ext cx="8686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3" name="Picture 2" descr="C:\Users\Eric.Hardy\AppData\Local\Microsoft\Windows\Temporary Internet Files\Content.Outlook\JVD3DE4A\pslf zoom.PNG"/>
          <p:cNvPicPr/>
          <p:nvPr/>
        </p:nvPicPr>
        <p:blipFill>
          <a:blip r:embed="rId1"/>
          <a:stretch/>
        </p:blipFill>
        <p:spPr>
          <a:xfrm>
            <a:off x="1828800" y="1008000"/>
            <a:ext cx="4641840" cy="146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94" name="Content Placeholder 2"/>
          <p:cNvSpPr/>
          <p:nvPr/>
        </p:nvSpPr>
        <p:spPr>
          <a:xfrm>
            <a:off x="533520" y="930240"/>
            <a:ext cx="82296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575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535353"/>
                </a:solidFill>
                <a:latin typeface="Arial"/>
              </a:rPr>
              <a:t>NSLDS began displaying the cumulative number of matched months in October 201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575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575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535353"/>
                </a:solidFill>
                <a:latin typeface="Arial"/>
              </a:rPr>
              <a:t>The PSLF Servicer will begin updating this value weekly in December 201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LRDR and SPR Import Too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C0E7C9-6526-41E3-9948-5CD1E6FCB9A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"/>
          <p:cNvSpPr txBox="1"/>
          <p:nvPr/>
        </p:nvSpPr>
        <p:spPr>
          <a:xfrm>
            <a:off x="228600" y="930240"/>
            <a:ext cx="8686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Content Placeholder 2"/>
          <p:cNvSpPr/>
          <p:nvPr/>
        </p:nvSpPr>
        <p:spPr>
          <a:xfrm>
            <a:off x="76320" y="1143000"/>
            <a:ext cx="883908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</a:rPr>
              <a:t>NSLDS released an import tool that allows schools to easily import a fixed-width version of reports into Microsoft Exc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</a:rPr>
              <a:t>March 2015—Loan Record Detail Report (LRDR)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fap.ed.gov/eannouncements/031115LoanRecordDetailReportLRDRImportTool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</a:rPr>
              <a:t>June 2015—School Portfolio Report (SCHPR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fap.ed.gov/eannouncements/062215SchoolPortfolioReportImportTool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SA I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"/>
          <p:cNvSpPr txBox="1"/>
          <p:nvPr/>
        </p:nvSpPr>
        <p:spPr>
          <a:xfrm>
            <a:off x="533520" y="8953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n May 2015, a Username and Password replaced the Personal Identification Number (PIN) for students, parents, and borrowers to log into NSL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1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9F4A2-A571-4A6F-9812-B50438A00DC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2" name="Picture 3" descr=""/>
          <p:cNvPicPr/>
          <p:nvPr/>
        </p:nvPicPr>
        <p:blipFill>
          <a:blip r:embed="rId1"/>
          <a:srcRect l="9094" t="4102" r="8168" b="9358"/>
          <a:stretch/>
        </p:blipFill>
        <p:spPr>
          <a:xfrm>
            <a:off x="1828800" y="2011320"/>
            <a:ext cx="5410080" cy="26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GE Program Trac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"/>
          <p:cNvSpPr txBox="1"/>
          <p:nvPr/>
        </p:nvSpPr>
        <p:spPr>
          <a:xfrm>
            <a:off x="304560" y="895320"/>
            <a:ext cx="4267080" cy="38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n July 2015, NSLDS released the GE Program Tracking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Displays a unique list of GE programs and their sources, for an instit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nstitutions are required to update the program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837F0-B768-46F9-B84A-2227B6EA85B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6" name="Picture 14" descr="C:\Users\MEGANG~1.AD\AppData\Local\Temp\1\SNAGHTML100fa602.PNG"/>
          <p:cNvPicPr/>
          <p:nvPr/>
        </p:nvPicPr>
        <p:blipFill>
          <a:blip r:embed="rId1"/>
          <a:srcRect l="0" t="0" r="0" b="13728"/>
          <a:stretch/>
        </p:blipFill>
        <p:spPr>
          <a:xfrm>
            <a:off x="4540320" y="895320"/>
            <a:ext cx="4575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GE Program Track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0401B-B33E-48B5-9356-8A81F427363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9" name="Picture 4" descr=""/>
          <p:cNvPicPr/>
          <p:nvPr/>
        </p:nvPicPr>
        <p:blipFill>
          <a:blip r:embed="rId1"/>
          <a:srcRect l="0" t="25782" r="-496" b="14452"/>
          <a:stretch/>
        </p:blipFill>
        <p:spPr>
          <a:xfrm>
            <a:off x="588960" y="1886040"/>
            <a:ext cx="7881840" cy="2666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10" name=""/>
          <p:cNvSpPr txBox="1"/>
          <p:nvPr/>
        </p:nvSpPr>
        <p:spPr>
          <a:xfrm>
            <a:off x="460080" y="895320"/>
            <a:ext cx="82263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NSLDS also released a companion report to GE Program Tracking function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Content Placeholder 2"/>
          <p:cNvSpPr/>
          <p:nvPr/>
        </p:nvSpPr>
        <p:spPr>
          <a:xfrm>
            <a:off x="314280" y="192420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</a:rPr>
              <a:t>NSLDS Planned Enhanc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F2A09-AC83-4F6B-85E5-CE622D97B6B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GE Completers Li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"/>
          <p:cNvSpPr txBox="1"/>
          <p:nvPr/>
        </p:nvSpPr>
        <p:spPr>
          <a:xfrm>
            <a:off x="151920" y="819000"/>
            <a:ext cx="8861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2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NSLDS will release the GE Completer’s List very s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ontains students who have completed a GE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Draft and Final GE Completers Lis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Students and GE Programs as reported to NSLDS by a scho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Final GE Completers Lis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Updates made by DCAS based on a school’s approved challen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43B89-198C-4431-8E1B-CAF22D24E2B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GE Completers Li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"/>
          <p:cNvSpPr txBox="1"/>
          <p:nvPr/>
        </p:nvSpPr>
        <p:spPr>
          <a:xfrm>
            <a:off x="6324480" y="971640"/>
            <a:ext cx="2743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GE Completers List (GEPDC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ontains students who have completed a GE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29528-287D-4114-A84D-E39357C959C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9" name="Picture 5" descr=""/>
          <p:cNvPicPr/>
          <p:nvPr/>
        </p:nvPicPr>
        <p:blipFill>
          <a:blip r:embed="rId1"/>
          <a:srcRect l="0" t="22419" r="0" b="0"/>
          <a:stretch/>
        </p:blipFill>
        <p:spPr>
          <a:xfrm>
            <a:off x="304920" y="1200240"/>
            <a:ext cx="5957640" cy="336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What is in NSLDS for School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3" name="Diagram 3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613720" cy="3943080"/>
          </a:xfrm>
          <a:prstGeom prst="rect">
            <a:avLst/>
          </a:prstGeom>
          <a:ln w="0">
            <a:noFill/>
          </a:ln>
        </p:spPr>
      </p:pic>
      <p:sp>
        <p:nvSpPr>
          <p:cNvPr id="2414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D29E0-31DE-41BA-A82E-A409DE63F9C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Year-End Acknowled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"/>
          <p:cNvSpPr txBox="1"/>
          <p:nvPr/>
        </p:nvSpPr>
        <p:spPr>
          <a:xfrm>
            <a:off x="75960" y="930240"/>
            <a:ext cx="88390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3840" indent="-2138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DP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 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ctive SAIG mailboxes annually or all users in their organization risk losing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3840" indent="-2138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ccess to these accounts will be removed if not validated within specified peri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76200" indent="-16236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Affects access to NSLDS &amp; Title IV aid report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79960" indent="-15192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All Online capabil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579960" indent="-15192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NSLDS Batch Servi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579960" indent="-15192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Enrollment Repor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579960" indent="-15192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Perkins Repor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579960" indent="-15192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TSM/FAH Repor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579960" indent="-15192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eCD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76200" indent="-162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Deadline to validate is DECEMBER 11,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3840" indent="-213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3840" indent="-213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F5FD6-08C4-4C2D-8106-CA861982B4C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tudent Eligibility 2016-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SIR and S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o new field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o new codes added to existing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ransfer Student Monitoring/Financial Aid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Updated guide published on November 22,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dded Reaffirmation Cod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AF7F2-61DA-4B42-9B6F-4491A3CA592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Unusual Enrollment History (UEH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7" name=""/>
          <p:cNvSpPr txBox="1"/>
          <p:nvPr/>
        </p:nvSpPr>
        <p:spPr>
          <a:xfrm>
            <a:off x="151920" y="1143000"/>
            <a:ext cx="8861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Updating the logic used to flag students with Unusual Enrollment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-2318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dding logic to account for students that move from undergraduate studies to graduate stu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-2318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Better account for schools that merge from one school code to a new school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-2318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pplicable for 2015-16 and 2016-17 in January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-2318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o new codes or fields added to the IS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-231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E4E98-9FD7-4123-8051-B6BF692866EB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Website Enhanc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7BCB2-E93E-4932-9B85-4D0095DE6E8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"/>
          <p:cNvSpPr txBox="1"/>
          <p:nvPr/>
        </p:nvSpPr>
        <p:spPr>
          <a:xfrm>
            <a:off x="76320" y="930240"/>
            <a:ext cx="90676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n December 2015, NSLDS will make several enhancements to the Loan information displayed on NSLDSF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hanges are applicable to federally-serviced loans on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hanges will be phased in starting in December 2015 through January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Website Enhanc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04C0D-A5B0-4E40-A177-16C7AD2FEF3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4" name="Picture 8" descr=""/>
          <p:cNvPicPr/>
          <p:nvPr/>
        </p:nvPicPr>
        <p:blipFill>
          <a:blip r:embed="rId1"/>
          <a:stretch/>
        </p:blipFill>
        <p:spPr>
          <a:xfrm>
            <a:off x="1276200" y="1800360"/>
            <a:ext cx="6589800" cy="3000240"/>
          </a:xfrm>
          <a:prstGeom prst="rect">
            <a:avLst/>
          </a:prstGeom>
          <a:ln w="0">
            <a:noFill/>
          </a:ln>
        </p:spPr>
      </p:pic>
      <p:sp>
        <p:nvSpPr>
          <p:cNvPr id="2535" name=""/>
          <p:cNvSpPr txBox="1"/>
          <p:nvPr/>
        </p:nvSpPr>
        <p:spPr>
          <a:xfrm>
            <a:off x="228600" y="930240"/>
            <a:ext cx="8686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Last Payment Date 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will be replaced with </a:t>
            </a:r>
            <a:r>
              <a:rPr b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Next Payment Due Date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 in the </a:t>
            </a:r>
            <a:r>
              <a:rPr b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Details for Loan 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460080" y="18072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Website Enhanc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TextBox 4"/>
          <p:cNvSpPr/>
          <p:nvPr/>
        </p:nvSpPr>
        <p:spPr>
          <a:xfrm>
            <a:off x="304920" y="914400"/>
            <a:ext cx="3886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Repayment Plan will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isclosure Date 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date which the servicer distributed the disclosure of repayment terms to the borrower for the lo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8" name="Picture 5" descr=""/>
          <p:cNvPicPr/>
          <p:nvPr/>
        </p:nvPicPr>
        <p:blipFill>
          <a:blip r:embed="rId1"/>
          <a:stretch/>
        </p:blipFill>
        <p:spPr>
          <a:xfrm>
            <a:off x="4191120" y="1047600"/>
            <a:ext cx="4562280" cy="3289320"/>
          </a:xfrm>
          <a:prstGeom prst="rect">
            <a:avLst/>
          </a:prstGeom>
          <a:ln w="0">
            <a:noFill/>
          </a:ln>
        </p:spPr>
      </p:pic>
      <p:pic>
        <p:nvPicPr>
          <p:cNvPr id="2539" name="Picture 5" descr=""/>
          <p:cNvPicPr/>
          <p:nvPr/>
        </p:nvPicPr>
        <p:blipFill>
          <a:blip r:embed="rId2"/>
          <a:stretch/>
        </p:blipFill>
        <p:spPr>
          <a:xfrm>
            <a:off x="2924280" y="2324160"/>
            <a:ext cx="6219720" cy="1190520"/>
          </a:xfrm>
          <a:prstGeom prst="rect">
            <a:avLst/>
          </a:prstGeom>
          <a:ln w="0">
            <a:noFill/>
          </a:ln>
        </p:spPr>
      </p:pic>
      <p:sp>
        <p:nvSpPr>
          <p:cNvPr id="2540" name="Rectangle 3"/>
          <p:cNvSpPr/>
          <p:nvPr/>
        </p:nvSpPr>
        <p:spPr>
          <a:xfrm>
            <a:off x="304920" y="2327400"/>
            <a:ext cx="26668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595959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 Payment Due Date 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–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rst payment due following the disclosure d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Rectangle 6"/>
          <p:cNvSpPr/>
          <p:nvPr/>
        </p:nvSpPr>
        <p:spPr>
          <a:xfrm>
            <a:off x="304920" y="3465360"/>
            <a:ext cx="36576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IDR Plan Anniv. Date 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– 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date a borrower will be reevaluated for IDR based on the date when the borrower entered the current IDR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7E0CD-9831-4D8A-8D06-77FAF324CA9B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295200" y="209160"/>
            <a:ext cx="8553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595959"/>
                </a:solidFill>
                <a:latin typeface="Arial"/>
                <a:ea typeface="Arial"/>
              </a:rPr>
              <a:t>Website Enhancements</a:t>
            </a: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"/>
          <p:cNvSpPr txBox="1"/>
          <p:nvPr/>
        </p:nvSpPr>
        <p:spPr>
          <a:xfrm>
            <a:off x="533520" y="10065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NSLDS will begin to collect and display summarized paymen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3575D-9676-4914-BC19-11722982A64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6" name="Picture 6" descr=""/>
          <p:cNvPicPr/>
          <p:nvPr/>
        </p:nvPicPr>
        <p:blipFill>
          <a:blip r:embed="rId1"/>
          <a:stretch/>
        </p:blipFill>
        <p:spPr>
          <a:xfrm>
            <a:off x="1676520" y="2190600"/>
            <a:ext cx="5771880" cy="14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Website Enhanc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5791320" y="905040"/>
            <a:ext cx="320328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Discharge Partial/Full Indicator – </a:t>
            </a: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indicates if the discharge record reported is a partial or a full discharge of the lo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Forgiveness Partial/Full Indicator – </a:t>
            </a: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indicates if the forgiveness record reported is a partial or a full discharge of the lo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9" name="Picture 7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465800" cy="3219120"/>
          </a:xfrm>
          <a:prstGeom prst="rect">
            <a:avLst/>
          </a:prstGeom>
          <a:ln w="0">
            <a:noFill/>
          </a:ln>
        </p:spPr>
      </p:pic>
      <p:pic>
        <p:nvPicPr>
          <p:cNvPr id="2550" name="Picture 7" descr=""/>
          <p:cNvPicPr/>
          <p:nvPr/>
        </p:nvPicPr>
        <p:blipFill>
          <a:blip r:embed="rId2"/>
          <a:stretch/>
        </p:blipFill>
        <p:spPr>
          <a:xfrm>
            <a:off x="228600" y="1886040"/>
            <a:ext cx="5451480" cy="1782720"/>
          </a:xfrm>
          <a:prstGeom prst="rect">
            <a:avLst/>
          </a:prstGeom>
          <a:ln w="0">
            <a:noFill/>
          </a:ln>
        </p:spPr>
      </p:pic>
      <p:sp>
        <p:nvSpPr>
          <p:cNvPr id="2551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648FD-1F4C-4693-8E85-4D587DBAE28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New Income-Driven Repayment Pl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"/>
          <p:cNvSpPr txBox="1"/>
          <p:nvPr/>
        </p:nvSpPr>
        <p:spPr>
          <a:xfrm>
            <a:off x="151920" y="1143000"/>
            <a:ext cx="86108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Revised Pay As You Earn (REPAYE)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vailable to Direct Loan borro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xcludes Parent PLUS and consolidation loans containing a Parent PLUS lo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ayment based on 10% of discretionary inc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Forgivene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20 Years - Borrowers with undergraduate loans on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25 Years - Borrowers with undergraduate and graduate loans or just graduate lo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4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8849B-E7EC-4077-8924-B13CB055F98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NSLDSFAP Website Enhanc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Rectangle 5"/>
          <p:cNvSpPr/>
          <p:nvPr/>
        </p:nvSpPr>
        <p:spPr>
          <a:xfrm>
            <a:off x="4724280" y="2770200"/>
            <a:ext cx="4419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Repayment Plan Typ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I5 - Borrowers in REPAY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J5 - Borrowers that have been removed from REPAYE and currently under a Post-REPAYE-Alternative-Fixed repaym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7" name="Picture 5" descr=""/>
          <p:cNvPicPr/>
          <p:nvPr/>
        </p:nvPicPr>
        <p:blipFill>
          <a:blip r:embed="rId1"/>
          <a:stretch/>
        </p:blipFill>
        <p:spPr>
          <a:xfrm>
            <a:off x="152280" y="958680"/>
            <a:ext cx="4878360" cy="3517920"/>
          </a:xfrm>
          <a:prstGeom prst="rect">
            <a:avLst/>
          </a:prstGeom>
          <a:ln w="0">
            <a:noFill/>
          </a:ln>
        </p:spPr>
      </p:pic>
      <p:pic>
        <p:nvPicPr>
          <p:cNvPr id="2558" name="Picture 7" descr=""/>
          <p:cNvPicPr/>
          <p:nvPr/>
        </p:nvPicPr>
        <p:blipFill>
          <a:blip r:embed="rId2"/>
          <a:stretch/>
        </p:blipFill>
        <p:spPr>
          <a:xfrm>
            <a:off x="152280" y="1504800"/>
            <a:ext cx="6708960" cy="1265400"/>
          </a:xfrm>
          <a:prstGeom prst="rect">
            <a:avLst/>
          </a:prstGeom>
          <a:ln w="0">
            <a:noFill/>
          </a:ln>
        </p:spPr>
      </p:pic>
      <p:sp>
        <p:nvSpPr>
          <p:cNvPr id="2559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480E1-654A-4811-8277-5637075E806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Timeliness of Repor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2C898-8EB4-4E01-9F06-5DF849F548F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17" name=""/>
          <p:cNvGraphicFramePr/>
          <p:nvPr/>
        </p:nvGraphicFramePr>
        <p:xfrm>
          <a:off x="304920" y="895320"/>
          <a:ext cx="8610480" cy="3140280"/>
        </p:xfrm>
        <a:graphic>
          <a:graphicData uri="http://schemas.openxmlformats.org/drawingml/2006/table">
            <a:tbl>
              <a:tblPr/>
              <a:tblGrid>
                <a:gridCol w="3314520"/>
                <a:gridCol w="1657440"/>
                <a:gridCol w="1843200"/>
                <a:gridCol w="179532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rrower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an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Loans Updated in Last 30 Day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 NS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0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.5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deral (TIVAS and NFP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3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1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.8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 (GA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0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.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pus-B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8" name=""/>
          <p:cNvGraphicFramePr/>
          <p:nvPr/>
        </p:nvGraphicFramePr>
        <p:xfrm>
          <a:off x="304920" y="4095720"/>
          <a:ext cx="6095880" cy="3715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* As of 201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NSLDSFAP Website Enhanc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Rectangle 5"/>
          <p:cNvSpPr/>
          <p:nvPr/>
        </p:nvSpPr>
        <p:spPr>
          <a:xfrm>
            <a:off x="4495680" y="933480"/>
            <a:ext cx="44197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rgiveness Type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R8 - Borrowers eligible for forgiveness under REPAYE for undergrad loans after 20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R9 - Borrowers eligible for forgiveness under REPAYE for undergrad and graduate loans, or just graduate loans after 25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2" name="Picture 5" descr=""/>
          <p:cNvPicPr/>
          <p:nvPr/>
        </p:nvPicPr>
        <p:blipFill>
          <a:blip r:embed="rId1"/>
          <a:stretch/>
        </p:blipFill>
        <p:spPr>
          <a:xfrm>
            <a:off x="152280" y="958680"/>
            <a:ext cx="4562640" cy="3289320"/>
          </a:xfrm>
          <a:prstGeom prst="rect">
            <a:avLst/>
          </a:prstGeom>
          <a:ln w="0">
            <a:noFill/>
          </a:ln>
        </p:spPr>
      </p:pic>
      <p:pic>
        <p:nvPicPr>
          <p:cNvPr id="2563" name="Picture 8" descr=""/>
          <p:cNvPicPr/>
          <p:nvPr/>
        </p:nvPicPr>
        <p:blipFill>
          <a:blip r:embed="rId2"/>
          <a:stretch/>
        </p:blipFill>
        <p:spPr>
          <a:xfrm>
            <a:off x="190440" y="3271680"/>
            <a:ext cx="7485120" cy="990720"/>
          </a:xfrm>
          <a:prstGeom prst="rect">
            <a:avLst/>
          </a:prstGeom>
          <a:ln w="0">
            <a:noFill/>
          </a:ln>
        </p:spPr>
      </p:pic>
      <p:sp>
        <p:nvSpPr>
          <p:cNvPr id="2564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80AC6-3F2B-4D68-818B-CFA1D50527D1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Borrower Defen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Borrower Def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Borrowers may be eligible for a Direct Loan discharge if a school commits fraud or violates state law related to their loans or the educational service paid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New discharge types coming so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0E4EC-7906-4C84-90CC-46E0FA08ED01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chool Portfolio Report Updates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9" name="Diagram 4" descr=""/>
          <p:cNvPicPr/>
          <p:nvPr/>
        </p:nvPicPr>
        <p:blipFill>
          <a:blip r:embed="rId1"/>
          <a:stretch/>
        </p:blipFill>
        <p:spPr>
          <a:xfrm>
            <a:off x="2414520" y="2176560"/>
            <a:ext cx="4230720" cy="2200320"/>
          </a:xfrm>
          <a:prstGeom prst="rect">
            <a:avLst/>
          </a:prstGeom>
          <a:ln w="0">
            <a:noFill/>
          </a:ln>
        </p:spPr>
      </p:pic>
      <p:sp>
        <p:nvSpPr>
          <p:cNvPr id="2570" name="Rectangle 5"/>
          <p:cNvSpPr/>
          <p:nvPr/>
        </p:nvSpPr>
        <p:spPr>
          <a:xfrm>
            <a:off x="333360" y="971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hanges to be released in December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Updated record layout will be availab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ifap.ed.gov/ifap/byNSLDSType.jsp?type=NS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1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F8A75-FA14-4844-82DB-CD4CCCF2976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228600" y="209160"/>
            <a:ext cx="8553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tudent Access (SA) Enhancements</a:t>
            </a:r>
            <a:r>
              <a:rPr b="0" lang="en-US" sz="3200" spc="-1" strike="noStrike">
                <a:solidFill>
                  <a:srgbClr val="595959"/>
                </a:solidFill>
                <a:latin typeface="Arial"/>
                <a:ea typeface="Arial"/>
              </a:rPr>
              <a:t>	</a:t>
            </a:r>
            <a:br>
              <a:rPr sz="3200"/>
            </a:b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6B21A-5651-401A-8ED6-DB8AEABA3E8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4" name="Picture 2" descr=""/>
          <p:cNvPicPr/>
          <p:nvPr/>
        </p:nvPicPr>
        <p:blipFill>
          <a:blip r:embed="rId1"/>
          <a:srcRect l="0" t="13519" r="0" b="19549"/>
          <a:stretch/>
        </p:blipFill>
        <p:spPr>
          <a:xfrm>
            <a:off x="457200" y="888840"/>
            <a:ext cx="4876920" cy="375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75" name="Rectangle 3"/>
          <p:cNvSpPr/>
          <p:nvPr/>
        </p:nvSpPr>
        <p:spPr>
          <a:xfrm>
            <a:off x="533520" y="3703680"/>
            <a:ext cx="4724280" cy="457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Rectangle 6"/>
          <p:cNvSpPr/>
          <p:nvPr/>
        </p:nvSpPr>
        <p:spPr>
          <a:xfrm>
            <a:off x="457200" y="2038320"/>
            <a:ext cx="2286000" cy="152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TextBox 4"/>
          <p:cNvSpPr/>
          <p:nvPr/>
        </p:nvSpPr>
        <p:spPr>
          <a:xfrm>
            <a:off x="5562720" y="1047600"/>
            <a:ext cx="34290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elds to be added to Student Acces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DR Plan Anniversa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Most Recent Payment Effective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umulative Payment Am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urrent Repaym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PSLF Cumulative Matched Month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Reporting Monito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"/>
          <p:cNvSpPr txBox="1"/>
          <p:nvPr/>
        </p:nvSpPr>
        <p:spPr>
          <a:xfrm>
            <a:off x="533520" y="9716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Enrollment Reporting Stat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Focus on roster completion, specifically Percent Certified with Program Enroll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tatistics are updated the 3</a:t>
            </a:r>
            <a:r>
              <a:rPr b="0" lang="en-US" sz="2000" spc="-1" strike="noStrike" baseline="30000">
                <a:solidFill>
                  <a:srgbClr val="535353"/>
                </a:solidFill>
                <a:latin typeface="Arial"/>
                <a:ea typeface="Arial"/>
              </a:rPr>
              <a:t>rd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 Wednesday of each mon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vailable to all school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0CD06-FA49-4CD5-A22E-CA5AF6AC58B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1" name="Picture 4" descr=""/>
          <p:cNvPicPr/>
          <p:nvPr/>
        </p:nvPicPr>
        <p:blipFill>
          <a:blip r:embed="rId1"/>
          <a:srcRect l="0" t="58502" r="0" b="-1711"/>
          <a:stretch/>
        </p:blipFill>
        <p:spPr>
          <a:xfrm>
            <a:off x="147600" y="3200400"/>
            <a:ext cx="8920080" cy="127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Reporting Monito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3" name=""/>
          <p:cNvSpPr txBox="1"/>
          <p:nvPr/>
        </p:nvSpPr>
        <p:spPr>
          <a:xfrm>
            <a:off x="152280" y="971640"/>
            <a:ext cx="86155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Compliance Lett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Escalating letters will be sent for non-compliant schools in early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Schools who fall below 90% of the portfolio certified with a program will be notified for non-compli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The 90% threshold is considered minimal and may be increased in the fu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Schools who do not improve their performance will be referred to FSA Program Compliance for action after receiving two not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4BEF4-4DCF-4439-9A52-A3B3B4427CA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Reporting Monito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6" name=""/>
          <p:cNvGraphicFramePr/>
          <p:nvPr/>
        </p:nvGraphicFramePr>
        <p:xfrm>
          <a:off x="609480" y="1581120"/>
          <a:ext cx="7696440" cy="2990880"/>
        </p:xfrm>
        <a:graphic>
          <a:graphicData uri="http://schemas.openxmlformats.org/drawingml/2006/table">
            <a:tbl>
              <a:tblPr/>
              <a:tblGrid>
                <a:gridCol w="1752840"/>
                <a:gridCol w="1066680"/>
                <a:gridCol w="1295280"/>
                <a:gridCol w="1295640"/>
                <a:gridCol w="1295280"/>
                <a:gridCol w="990720"/>
              </a:tblGrid>
              <a:tr h="156204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ools with a Portfolio of Stu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of Stu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of Students Certi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of Students Certified with a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Certified with a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584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y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57,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72,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16,5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5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584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ust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28,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302,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99,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5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er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345,5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72,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93,0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3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548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458,5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470,3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646,5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379,0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471,6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382,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587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61670-2780-4201-BF56-432FCEEB276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"/>
          <p:cNvSpPr txBox="1"/>
          <p:nvPr/>
        </p:nvSpPr>
        <p:spPr>
          <a:xfrm>
            <a:off x="209160" y="968400"/>
            <a:ext cx="870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SLDS strongly encourages schools to review their enrollment stat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Submittal File Trac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0" name=""/>
          <p:cNvSpPr txBox="1"/>
          <p:nvPr/>
        </p:nvSpPr>
        <p:spPr>
          <a:xfrm>
            <a:off x="533520" y="9716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NSLDS will be releasing the Enrollment Submittal File Tracking page in Spring 2016 to help schools track their Enrollment 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Will include inbound Enrollment Files and outbound Roster F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129C5-65D1-4894-8E0B-1F233E00A29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2" name="Picture 5" descr="C:\Users\megan.goates.AD\AppData\Local\Microsoft\Windows\Temporary Internet Files\Content.Outlook\QMCQ6V6I\Enrollment Submittal Tracking - ED - School.png"/>
          <p:cNvPicPr/>
          <p:nvPr/>
        </p:nvPicPr>
        <p:blipFill>
          <a:blip r:embed="rId1"/>
          <a:srcRect l="7987" t="55266" r="8726" b="11135"/>
          <a:stretch/>
        </p:blipFill>
        <p:spPr>
          <a:xfrm>
            <a:off x="1066680" y="2571840"/>
            <a:ext cx="67248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rogram-Level Enrollment His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"/>
          <p:cNvSpPr txBox="1"/>
          <p:nvPr/>
        </p:nvSpPr>
        <p:spPr>
          <a:xfrm>
            <a:off x="533520" y="9716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oday, schools can only see the most recent status for each program reported for a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5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40931-8DA9-4AB9-AC73-9B3DC9D2C8B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6" name="Picture 2" descr=""/>
          <p:cNvPicPr/>
          <p:nvPr/>
        </p:nvPicPr>
        <p:blipFill>
          <a:blip r:embed="rId1"/>
          <a:stretch/>
        </p:blipFill>
        <p:spPr>
          <a:xfrm>
            <a:off x="376200" y="1809720"/>
            <a:ext cx="4973760" cy="2227320"/>
          </a:xfrm>
          <a:prstGeom prst="rect">
            <a:avLst/>
          </a:prstGeom>
          <a:ln w="0">
            <a:noFill/>
          </a:ln>
        </p:spPr>
      </p:pic>
      <p:pic>
        <p:nvPicPr>
          <p:cNvPr id="2597" name="Picture 6" descr=""/>
          <p:cNvPicPr/>
          <p:nvPr/>
        </p:nvPicPr>
        <p:blipFill>
          <a:blip r:embed="rId2"/>
          <a:stretch/>
        </p:blipFill>
        <p:spPr>
          <a:xfrm>
            <a:off x="3770280" y="2724120"/>
            <a:ext cx="4960800" cy="1795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rogram-Level Enrollment His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"/>
          <p:cNvSpPr txBox="1"/>
          <p:nvPr/>
        </p:nvSpPr>
        <p:spPr>
          <a:xfrm>
            <a:off x="533520" y="9716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n Spring 2016, NSLDS will create the ability for schools to view all program history reported for a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3C510-141B-426B-87B9-C6B217FA8F8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1" name="Picture 3" descr=""/>
          <p:cNvPicPr/>
          <p:nvPr/>
        </p:nvPicPr>
        <p:blipFill>
          <a:blip r:embed="rId1"/>
          <a:srcRect l="3142" t="41116" r="1467" b="0"/>
          <a:stretch/>
        </p:blipFill>
        <p:spPr>
          <a:xfrm>
            <a:off x="0" y="1800360"/>
            <a:ext cx="91440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requency of Repor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89EB7-4E9D-41B2-B60D-4554B448C6A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1" name=""/>
          <p:cNvGraphicFramePr/>
          <p:nvPr/>
        </p:nvGraphicFramePr>
        <p:xfrm>
          <a:off x="304920" y="971640"/>
          <a:ext cx="8610480" cy="3708360"/>
        </p:xfrm>
        <a:graphic>
          <a:graphicData uri="http://schemas.openxmlformats.org/drawingml/2006/table">
            <a:tbl>
              <a:tblPr/>
              <a:tblGrid>
                <a:gridCol w="3827520"/>
                <a:gridCol w="4782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 Provi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 and SL.g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SA Web Enr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deral Loan Servic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CS and T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ranty A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ly, Bi-Weekly or Month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kins Schools and School Servic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Enroll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ly or Every 60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inful Emplo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rogram-Level Enrollment His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"/>
          <p:cNvSpPr txBox="1"/>
          <p:nvPr/>
        </p:nvSpPr>
        <p:spPr>
          <a:xfrm>
            <a:off x="533520" y="9716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chools will be able to drill down to individual school certifications for each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FC659-E3C9-4272-88E0-3403939F172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5" name="Picture 4" descr=""/>
          <p:cNvPicPr/>
          <p:nvPr/>
        </p:nvPicPr>
        <p:blipFill>
          <a:blip r:embed="rId1"/>
          <a:srcRect l="8824" t="41320" r="9241" b="10260"/>
          <a:stretch/>
        </p:blipFill>
        <p:spPr>
          <a:xfrm>
            <a:off x="380880" y="1809720"/>
            <a:ext cx="8140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D5633-E208-49FC-AC97-F338A8AD80A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75960" y="1047240"/>
            <a:ext cx="22064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Arial"/>
                <a:ea typeface="Arial"/>
              </a:rPr>
              <a:t>Enrollment Submittal Trac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8" name="Picture 5" descr="C:\Users\eric.hardy\AppData\Local\Microsoft\Windows\Temporary Internet Files\Content.Outlook\HAFYF7VQ\Enrollment Submittal Tracking - School - Location.png"/>
          <p:cNvPicPr/>
          <p:nvPr/>
        </p:nvPicPr>
        <p:blipFill>
          <a:blip r:embed="rId1"/>
          <a:srcRect l="0" t="6738" r="0" b="12935"/>
          <a:stretch/>
        </p:blipFill>
        <p:spPr>
          <a:xfrm>
            <a:off x="2133720" y="285840"/>
            <a:ext cx="693396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"/>
          <p:cNvSpPr txBox="1"/>
          <p:nvPr/>
        </p:nvSpPr>
        <p:spPr>
          <a:xfrm>
            <a:off x="151920" y="971640"/>
            <a:ext cx="8861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7520" indent="-22752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Expected to be released Summer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Mass Push to Ro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0320" indent="-1728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Online users will be able to push all students with previous participation on the enrollment roster to the most current roster for a school location. This functionality will assist schools in correcting erroneously reported data to NSL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Late Enrollment Certifications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00320" indent="-1728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The new Urgent/Late Ad-Hoc Report will assist schools in making sure enrollment data is reported for students in a timely manner. Online users will be able to request the Urgent/Late Ad-Hoc Report on the NSLDSFAP web site and retrieve it from their SAIG mailbox. The report will use the same layout as the Enrollment Ros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03DF7-0931-4055-9D49-FFF45DD2C48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"/>
          <p:cNvSpPr txBox="1"/>
          <p:nvPr/>
        </p:nvSpPr>
        <p:spPr>
          <a:xfrm>
            <a:off x="76320" y="1143000"/>
            <a:ext cx="89373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xpected to be released in Summer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Upcoming changes to Enrollment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Update selection criteria to display students “with programs” or “without programs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Create a sort that displays oldest Certification Dates fir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Add a warning icon next to students that have not been certified in more than 65 da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Add an icon to indicate if a row if sourced from COD or a scho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ew Ed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Create reasonability edits between Credential Level and Published Program Leng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Create reasonability edits on Program Begin Date to ensure the date is not more than 20 years in the pa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5F7E3-5E99-4571-9C51-03526C1EDC9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New Scheduled School Repor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NSLDS will be adding four additional reports to list of reports that can be schedul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360" indent="-17100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Borrower Demographic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6360" indent="-17100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Date Entered Repayment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6360" indent="-17100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36 Month Repayment Info Loan Det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6360" indent="-17100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Borrower Default Summary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Will also be available in CSV for both ad-hoc and scheduled in unique message cla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Expected to be available in Summer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E26B7-8B88-4536-A4AA-139135D5F36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‘</a:t>
            </a: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Org’ Tab – Current 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9" name="Picture 2" descr=""/>
          <p:cNvPicPr/>
          <p:nvPr/>
        </p:nvPicPr>
        <p:blipFill>
          <a:blip r:embed="rId1"/>
          <a:stretch/>
        </p:blipFill>
        <p:spPr>
          <a:xfrm>
            <a:off x="457200" y="895320"/>
            <a:ext cx="8229600" cy="1911240"/>
          </a:xfrm>
          <a:prstGeom prst="rect">
            <a:avLst/>
          </a:prstGeom>
          <a:ln w="0">
            <a:noFill/>
          </a:ln>
        </p:spPr>
      </p:pic>
      <p:pic>
        <p:nvPicPr>
          <p:cNvPr id="2620" name="Picture 3" descr=""/>
          <p:cNvPicPr/>
          <p:nvPr/>
        </p:nvPicPr>
        <p:blipFill>
          <a:blip r:embed="rId2"/>
          <a:stretch/>
        </p:blipFill>
        <p:spPr>
          <a:xfrm>
            <a:off x="0" y="2905200"/>
            <a:ext cx="9086760" cy="1724040"/>
          </a:xfrm>
          <a:prstGeom prst="rect">
            <a:avLst/>
          </a:prstGeom>
          <a:ln w="0">
            <a:noFill/>
          </a:ln>
        </p:spPr>
      </p:pic>
      <p:sp>
        <p:nvSpPr>
          <p:cNvPr id="2621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65601-39DA-498A-A061-62887394591E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Organization Setup P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"/>
          <p:cNvSpPr txBox="1"/>
          <p:nvPr/>
        </p:nvSpPr>
        <p:spPr>
          <a:xfrm>
            <a:off x="304560" y="1143000"/>
            <a:ext cx="8708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NSLDS will be creating a new “one stop shop” Organization Profile Setup page Schools will be able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49280" indent="-230040">
              <a:lnSpc>
                <a:spcPct val="15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View and establish scheduled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928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Update their Organization Profile (i.e. TSM setu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928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View fsawebenroll.ed.gov batch servi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928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040" indent="-2300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xpected to be available in Summer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4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1D520-785E-4A97-A420-6AC8FDFAF19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Institutional Cohort Default R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"/>
          <p:cNvSpPr txBox="1"/>
          <p:nvPr/>
        </p:nvSpPr>
        <p:spPr>
          <a:xfrm>
            <a:off x="151920" y="1143000"/>
            <a:ext cx="8861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hanges for Cohort Year 2013 (draft release in February 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7680" indent="-1764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CDR Notification Letter will be available on NSLDSF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7680" indent="-1764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Loan Record Detail Reports will be available in .CSV on an ad-hoc ba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7680" indent="-1764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Removal of loans from numerator where the effective date of a bankruptcy, ID theft, disability or veteran's disability discharge is earlier than the date of defau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hanges for Cohort Year 2013 (official release in September 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7680" indent="-1764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NSLDS will push the .CSV version of the LRDR out with the CDR Rate Notification l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0FF26-B31A-44FC-A91F-CBAC1B90BA9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rogram Cohort Default Rat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NSLDS will begin to calculate a </a:t>
            </a:r>
            <a:r>
              <a:rPr b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rogram Cohort Default Rate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or GE Progra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irst calculation in early 2017 for Cohort Year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chools will be sent Program CDR Notification Letters and backup detail to their GE TG mail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80FA0-00BE-4D52-8DA2-1B26344D6DD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LUS Cohort Default Rat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NSLDS will begin to calculate a Cohort Default Rate for </a:t>
            </a:r>
            <a:r>
              <a:rPr b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arent PLUS 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Graduate PLUS 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borrow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irst calculation in early 2017 for Cohort Year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3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56267-B361-44AD-83B5-662928AC821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Content Placeholder 2"/>
          <p:cNvSpPr/>
          <p:nvPr/>
        </p:nvSpPr>
        <p:spPr>
          <a:xfrm>
            <a:off x="314280" y="192420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</a:rPr>
              <a:t>NSLDS Changes Made in 201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F56AF-2E7A-459A-861A-009DDE4CE03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4100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Adding Organization Conta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CD155-6387-4876-A11C-8872F6A6A99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6" name="Picture 3" descr=""/>
          <p:cNvPicPr/>
          <p:nvPr/>
        </p:nvPicPr>
        <p:blipFill>
          <a:blip r:embed="rId1"/>
          <a:stretch/>
        </p:blipFill>
        <p:spPr>
          <a:xfrm>
            <a:off x="762120" y="836640"/>
            <a:ext cx="7772400" cy="3868560"/>
          </a:xfrm>
          <a:prstGeom prst="rect">
            <a:avLst/>
          </a:prstGeom>
          <a:ln w="0">
            <a:noFill/>
          </a:ln>
        </p:spPr>
      </p:pic>
      <p:sp>
        <p:nvSpPr>
          <p:cNvPr id="2637" name="Right Arrow 4"/>
          <p:cNvSpPr/>
          <p:nvPr/>
        </p:nvSpPr>
        <p:spPr>
          <a:xfrm rot="927600">
            <a:off x="2490840" y="2755800"/>
            <a:ext cx="1523880" cy="381240"/>
          </a:xfrm>
          <a:prstGeom prst="rightArrow">
            <a:avLst>
              <a:gd name="adj1" fmla="val 50000"/>
              <a:gd name="adj2" fmla="val 98782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540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Adding Organization Conta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533AC-4765-4073-A287-755A6815C61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0" name="Picture 7" descr="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3684600"/>
          </a:xfrm>
          <a:prstGeom prst="rect">
            <a:avLst/>
          </a:prstGeom>
          <a:ln w="0">
            <a:noFill/>
          </a:ln>
        </p:spPr>
      </p:pic>
      <p:sp>
        <p:nvSpPr>
          <p:cNvPr id="2641" name="Right Arrow 8"/>
          <p:cNvSpPr/>
          <p:nvPr/>
        </p:nvSpPr>
        <p:spPr>
          <a:xfrm rot="10800000">
            <a:off x="5638680" y="3409920"/>
            <a:ext cx="1524240" cy="380880"/>
          </a:xfrm>
          <a:prstGeom prst="rightArrow">
            <a:avLst>
              <a:gd name="adj1" fmla="val 50000"/>
              <a:gd name="adj2" fmla="val 98899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Adding Organization Conta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8CC35-80A0-45B6-9144-1ACF13F9060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4" name="Picture 4" descr=""/>
          <p:cNvPicPr/>
          <p:nvPr/>
        </p:nvPicPr>
        <p:blipFill>
          <a:blip r:embed="rId1"/>
          <a:srcRect l="0" t="0" r="1424" b="1037"/>
          <a:stretch/>
        </p:blipFill>
        <p:spPr>
          <a:xfrm>
            <a:off x="638280" y="868320"/>
            <a:ext cx="7696080" cy="3846600"/>
          </a:xfrm>
          <a:prstGeom prst="rect">
            <a:avLst/>
          </a:prstGeom>
          <a:ln w="0">
            <a:noFill/>
          </a:ln>
        </p:spPr>
      </p:pic>
      <p:sp>
        <p:nvSpPr>
          <p:cNvPr id="2645" name="Right Arrow 5"/>
          <p:cNvSpPr/>
          <p:nvPr/>
        </p:nvSpPr>
        <p:spPr>
          <a:xfrm rot="927600">
            <a:off x="709560" y="3378240"/>
            <a:ext cx="1523880" cy="380880"/>
          </a:xfrm>
          <a:prstGeom prst="rightArrow">
            <a:avLst>
              <a:gd name="adj1" fmla="val 50000"/>
              <a:gd name="adj2" fmla="val 98875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C10E1-0BD8-4B07-8C8B-9290B04ED0C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9" name="Picture 2" descr="C:\Users\Joe.Aiello\Desktop\Question-and-Answer.png"/>
          <p:cNvPicPr/>
          <p:nvPr/>
        </p:nvPicPr>
        <p:blipFill>
          <a:blip r:embed="rId1"/>
          <a:stretch/>
        </p:blipFill>
        <p:spPr>
          <a:xfrm>
            <a:off x="3143160" y="1465200"/>
            <a:ext cx="28576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NSLDS Contact 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27AC1-6FCA-4F02-86A4-33720D6605D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Content Placeholder 2"/>
          <p:cNvSpPr/>
          <p:nvPr/>
        </p:nvSpPr>
        <p:spPr>
          <a:xfrm>
            <a:off x="457200" y="1170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ustomer Support Cen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Phone: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1-800-999-82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Toll: 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785-838-214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Fax: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785-838-21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Web: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nsldsfap.ed.gov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E-mail: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nslds@ed.gov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NSLDS Changes 2015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304920" y="819000"/>
            <a:ext cx="8610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Reaffirmation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Enrollment Reporting Stat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Loss of Subs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New Reports/Templates (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erkins, Enrollment, Exit Counsel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Software Upgrades and Impor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Public Service Loan Forgiv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FSA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GE Program Tracker and Completers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4CF91-4F65-4771-BAB2-C0E2417681F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Reaffi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"/>
          <p:cNvSpPr txBox="1"/>
          <p:nvPr/>
        </p:nvSpPr>
        <p:spPr>
          <a:xfrm>
            <a:off x="304920" y="8190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Reaffirmation is the process by which a student who inadvertently over-borrows may regain eligibility for Title IV aid by making satisfactory repayment arrangements in writing with their loan hold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rocessing Reaffirmation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Before: School </a:t>
            </a:r>
            <a:r>
              <a:rPr b="0" lang="en-US" sz="16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 Student </a:t>
            </a:r>
            <a:r>
              <a:rPr b="0" lang="en-US" sz="16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 Loan Holder </a:t>
            </a:r>
            <a:r>
              <a:rPr b="0" lang="en-US" sz="16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 Student </a:t>
            </a:r>
            <a:r>
              <a:rPr b="0" lang="en-US" sz="16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 Scho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After:    School </a:t>
            </a:r>
            <a:r>
              <a:rPr b="0" lang="en-US" sz="16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 Student </a:t>
            </a:r>
            <a:r>
              <a:rPr b="0" lang="en-US" sz="16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 Loan Holder </a:t>
            </a:r>
            <a:r>
              <a:rPr b="0" lang="en-US" sz="16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NSLD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pril 2015: NSLDS began collecting Reaffirmation dat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A6882-B6A9-4F7F-88C0-CDEABFD4C95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30" name=""/>
          <p:cNvGraphicFramePr/>
          <p:nvPr/>
        </p:nvGraphicFramePr>
        <p:xfrm>
          <a:off x="2133720" y="3105000"/>
          <a:ext cx="4647960" cy="1584360"/>
        </p:xfrm>
        <a:graphic>
          <a:graphicData uri="http://schemas.openxmlformats.org/drawingml/2006/table">
            <a:tbl>
              <a:tblPr/>
              <a:tblGrid>
                <a:gridCol w="2324160"/>
                <a:gridCol w="23238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Reaffirme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row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n NSLD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 Reaffirmed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n NSLD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As of 2015-11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60440" y="209160"/>
            <a:ext cx="56354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Reaffi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"/>
          <p:cNvSpPr txBox="1"/>
          <p:nvPr/>
        </p:nvSpPr>
        <p:spPr>
          <a:xfrm>
            <a:off x="-76320" y="895320"/>
            <a:ext cx="2743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1188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NSLDS alerts users to the presence of reaffirmation data with the use of  ic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0040" indent="-1188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0040" indent="-1188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The “Reaffirmation(s)” informational icon displays for a borrower when an active reaffirmation is reported on one or more lo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3ECC9-25FD-425A-80D9-EC6EEBBF05E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4" name="Picture 6" descr=""/>
          <p:cNvPicPr/>
          <p:nvPr/>
        </p:nvPicPr>
        <p:blipFill>
          <a:blip r:embed="rId1"/>
          <a:srcRect l="0" t="10672" r="-79" b="6354"/>
          <a:stretch/>
        </p:blipFill>
        <p:spPr>
          <a:xfrm>
            <a:off x="2666880" y="895320"/>
            <a:ext cx="6194520" cy="368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19:08:42Z</dcterms:created>
  <dc:creator>user ce</dc:creator>
  <dc:description/>
  <dc:language>en-US</dc:language>
  <cp:lastModifiedBy>psavuser</cp:lastModifiedBy>
  <cp:lastPrinted>2015-11-30T22:35:25Z</cp:lastPrinted>
  <dcterms:modified xsi:type="dcterms:W3CDTF">2015-11-30T22:43:18Z</dcterms:modified>
  <cp:revision>2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mpleted">
    <vt:lpwstr>0</vt:lpwstr>
  </property>
  <property fmtid="{D5CDD505-2E9C-101B-9397-08002B2CF9AE}" pid="3" name="ContentTypeId">
    <vt:lpwstr>0x010100337D63EE5034904FBE124CE4C93FC8B0</vt:lpwstr>
  </property>
  <property fmtid="{D5CDD505-2E9C-101B-9397-08002B2CF9AE}" pid="4" name="_dlc_DocId">
    <vt:lpwstr>ZQHRFS737ZVJ-956-283</vt:lpwstr>
  </property>
  <property fmtid="{D5CDD505-2E9C-101B-9397-08002B2CF9AE}" pid="5" name="_dlc_DocIdItemGuid">
    <vt:lpwstr>6aa86774-cb62-4803-a638-36d07215dce5</vt:lpwstr>
  </property>
  <property fmtid="{D5CDD505-2E9C-101B-9397-08002B2CF9AE}" pid="6" name="_dlc_DocIdUrl">
    <vt:lpwstr>https://fsa.share.ed.gov/bo/soadms/si/NSLDS/NSLDSProjectTeamHome/_layouts/DocIdRedir.aspx?ID=ZQHRFS737ZVJ-956-283, ZQHRFS737ZVJ-956-283</vt:lpwstr>
  </property>
</Properties>
</file>