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5145088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5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399600" y="692280"/>
            <a:ext cx="61470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6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7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0BA59-90A7-425A-8DA7-6710ABC28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FA38C-C524-4010-BC5E-51040BAD6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CE535-2204-432F-B990-1C45BA7D2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B8FD8-5CFE-4AE5-8C2E-1FD144726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69A39-49E9-4FD4-B8AD-9688E92D2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98677-88BF-4242-9518-85DCF5DB8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58367-7054-4739-A227-C5339611F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07DFC-AE0C-4F00-936E-AD66389F7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B0D45-78F8-4940-B113-1EE402DFF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44CA9-0D4F-476E-8B4C-2FB7ADCB2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55ABD-3AF4-4809-A9F0-45ACFA31F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10F76-E5A2-4770-A5B2-A4B4D0696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25BF4-B868-4D63-96CD-0117E328F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89ACC-40D5-4620-9CC6-31209A859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90C85-662D-4612-83A7-731BA9D87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200A2-F83B-4681-8A65-7892265B4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3137B-36C4-4BB5-8F6D-08851C0EC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E3B26-B728-4283-91CC-5FCC70050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81498-8C39-4D67-9A29-FFC46922F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EB0DA-0F45-4E8C-BF58-5939E560A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CF879-0BE8-4CA6-AA16-EB7F769FA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95E35-0ACB-4A3F-8E22-A12A5A01D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97416-5F6D-45E0-9794-F94BBE959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64001-2443-457A-AABA-9F3570F814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94C1B-95BE-488C-8D3B-4F694A81E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E8818-0576-418E-AFAA-5DEE97144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3B5D6-C738-46D9-BDB5-2FF86056C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E52FD-08C9-4871-B23E-5010D76DB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183AE-F9F1-4726-B0C4-8978240E3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3367E-F48C-49FF-B671-6E471B53C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8444C-3C38-4244-BA06-C9C4DD675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ED521-E131-4877-8C86-C7B9969F5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F422F-41F6-4279-B198-7228B8673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B24E2-0D80-4171-92F7-FCAAF0B37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6367D-087E-4999-817E-5D33E9160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AFAD-372B-484C-8DE6-76D9A64FA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E6CA-BB7F-4793-88C0-DA8CA35E2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DB26-BF25-4B13-BEA2-DFADE6B15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6474-9016-45AE-A2F7-1B9D7F3E8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EF56-5C75-4D6C-9CFC-6C76B9FE5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F135-959E-4476-94F1-628CF9EEB0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53F1-8359-4B36-A160-A9F3F7EC56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FF93-1502-4280-81BC-B4DAA3764D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DC4E-2D52-4ED7-8EF5-B536D84CC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FA7E-290A-400F-95D5-3C2395AAF1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16D8-DFB8-4E19-BDEF-BF7DE19550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971A-5751-4F7E-A038-0B9B609CCB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F1CD-9D03-4698-9A89-561D02DFD4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15B1-0B27-429D-9356-CEA03809F8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9C21-6929-4751-B4EA-2ABE6C0F37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D48B-46A0-4A4A-9F4A-5AA01B85B5E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5802-499F-4DA5-B1C0-29CBF99416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99EF-87DD-49BE-8F58-52723D7248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2A5F-1345-439E-A60E-6AAC195A9B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914-BE5B-4440-8446-D8AA8A778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187A-063A-4A8D-96D6-90FDAF8BB4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662-376B-472F-AF00-2D114BCD99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590-4865-4155-8C65-D0BFEF12C1B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2B8-282F-4187-BC05-628E15B5133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B22-5479-42D6-8555-DFF4432F1D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0A4-B5B9-4495-9DFE-03CAE12F26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245-7FD0-4696-A2BA-C92898225A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E1F-2850-4EB8-8D30-9EA6B688C6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DAF-50AA-429B-ACCB-B11DF2FF19D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8D9-A884-42EE-B581-54FC06E3D1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83A-8EF0-44CD-ACE3-A4335D107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D358-D7B2-402C-A625-38A42F5DF1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F00-B5DF-4FAC-BCEE-E33DF5ED46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A3875-2899-4C57-A841-FE5B3330D8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DF1C5-B560-4530-B6AC-5CEFD7F9BF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B1FD5-4E61-411E-B42D-D8D7695EF2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638FA-F799-4478-B8C5-E064AE8FE4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BB536-E78A-4E70-8CD2-239A4CC453F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FB589-E4C4-42E6-B7DC-1FDB9FE424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27041-2AEC-42BB-BE16-DBC1F0EF26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75B46-E4FA-4AEA-9FEE-8CFDE72609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3A99E-4F78-41AB-932D-18B9960B8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8348-54B8-432C-BE6C-2DBB0334FF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BB5B5-B803-455E-83F1-C333FD20B2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B7031-CD37-4249-8AA1-29D27F8C20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72D5C-CEFD-4890-9817-887EF786B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498C-BF7C-4C32-A89C-F33DF17B0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0646-A9BA-4F61-B704-CC46F8ACD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B5FBA-23D3-448A-B80B-1874141F2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ldNum" idx="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28B9D-CBDB-405F-A63D-F909CD4C19B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sldNum" idx="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C3DBE-DD50-47DF-9C04-3BC093C1C86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ldNum" idx="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24285-B3C8-43EB-9410-1659CADE7F0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fap.ed.gov/eannouncements/102615GEEA67SAIGEnrollmentAvailDCASOnlineService.html" TargetMode="External"/><Relationship Id="rId2" Type="http://schemas.openxmlformats.org/officeDocument/2006/relationships/hyperlink" Target="http://ifap.ed.gov/ForeignSchoolInfo/attachments/FSSAIGEnrollForm.pdf" TargetMode="External"/><Relationship Id="rId3" Type="http://schemas.openxmlformats.org/officeDocument/2006/relationships/hyperlink" Target="http://ifap.ed.gov/ForeignSchoolInfo/attachments/FSSAIGEnrollForm.pdf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6840" y="2857680"/>
            <a:ext cx="84582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argaret Ayanian and Cynthia Hammond| Dec.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015 FSA Training Conference for Financial Aid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123920"/>
            <a:ext cx="8915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f2f2f2"/>
                </a:solidFill>
                <a:latin typeface="Arial"/>
                <a:ea typeface="Arial"/>
              </a:rPr>
              <a:t>Gainful Employment – </a:t>
            </a:r>
            <a:br>
              <a:rPr sz="4300"/>
            </a:br>
            <a:r>
              <a:rPr b="0" lang="en-US" sz="4300" spc="-1" strike="noStrike">
                <a:solidFill>
                  <a:srgbClr val="f2f2f2"/>
                </a:solidFill>
                <a:latin typeface="Arial"/>
                <a:ea typeface="Arial"/>
              </a:rPr>
              <a:t>The Challenge System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tle 3"/>
          <p:cNvSpPr/>
          <p:nvPr/>
        </p:nvSpPr>
        <p:spPr>
          <a:xfrm>
            <a:off x="152280" y="228600"/>
            <a:ext cx="3353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</a:rPr>
              <a:t>Session 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228600" y="819000"/>
            <a:ext cx="82296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Program Student and Program GE Records fo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itle IV Programs not in NS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rson Data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r Credential Level Compl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IP/C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dd a GE Record (to correct an omi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68840" y="187200"/>
            <a:ext cx="56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tudent Adju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0600" y="209160"/>
            <a:ext cx="8555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hange Student Adju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20600" y="895320"/>
            <a:ext cx="88711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nge Exclusion Flag on GE Completers List fo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udent is D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udent in Total and Permanent Disability, Pending or Gran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udent in Military-Related Deferment Status During Earnings 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udent Enrolled in Another Title IV Program During Earnings 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udent Completed Higher Credential GE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 Data Confli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ta Correction Adju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42800" y="97128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35353"/>
                </a:solidFill>
                <a:latin typeface="Arial"/>
                <a:ea typeface="Arial"/>
              </a:rPr>
              <a:t>Submit Corrections to Program GE Rec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ward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gram Attendance Begin 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gram Attendance Begin Date for Award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gram Attendance Status 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gram Attendance Status Date during Award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Loans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titutional De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uition and F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ngth of GE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ngth of GE Program Measur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rollment Status as of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Day of Enrollment i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owance for Books, Supplies and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35353"/>
                </a:solidFill>
                <a:latin typeface="Arial"/>
                <a:ea typeface="Arial"/>
              </a:rPr>
              <a:t>Data Correction – Delete GE Rec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you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st ch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for this D/E calculation to correct data that your institution repo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217440"/>
            <a:ext cx="8553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a c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52280" y="743040"/>
            <a:ext cx="89154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 order to challenge the GE completers list data, institutions will have to create a case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 case is defined as collection of student record(s) to be submitted for challenge and is maintained at an OPEID+CIP/CL level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a C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se ID is a combination of the type of challenge, Challenge Year, OPEID (6 digit), CIP, CL, and a 3-digit unique identifier e.g. DCL-2015-001047-030103-08-0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justments to the draft GE completers list can be classified into three typ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 Stud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nge Stud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ata Corre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272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CAS Case Processing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971640"/>
            <a:ext cx="8915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8520" indent="-21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wo primary roles exist for the school user – School Case Preparer and School Case Mana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: Certain actions can only be performed by School Case Manag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gin to DCAS (Authentication of the user is performed by AIM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 Perspective (i.e., user ro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 a C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adjustments to the c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SN 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/Create Reco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/update data ele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attachments and/or com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ve Reco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CAS Case Processing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320" y="971640"/>
            <a:ext cx="90676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 created c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C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ertify Case/Decertify a Case (School Case Manager onl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formed when a  case is ready to be submitted to FSA for processing (Certify); 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a case previously certified, but not yet submitted, needs to be updated. (Decertif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fer Case (School Case Manager only) -  Performed if case needs to transferred to a different preparer. This can happen only if the case is not yet certified and submitt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mit Case (School Case Manager only) Once a case is submitted, school user can no longer edit the ca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304920" y="48578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og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3" descr="cid:image001.png@01D117E2.ADB3E230"/>
          <p:cNvPicPr/>
          <p:nvPr/>
        </p:nvPicPr>
        <p:blipFill>
          <a:blip r:embed="rId1"/>
          <a:stretch/>
        </p:blipFill>
        <p:spPr>
          <a:xfrm>
            <a:off x="762120" y="971640"/>
            <a:ext cx="6248160" cy="358128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280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lect Persp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304920" y="1276200"/>
            <a:ext cx="7608600" cy="209556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reate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img822475" descr="cid:c447541a-146e-4872-b766-47af5fd3879e"/>
          <p:cNvPicPr/>
          <p:nvPr/>
        </p:nvPicPr>
        <p:blipFill>
          <a:blip r:embed="rId1"/>
          <a:stretch/>
        </p:blipFill>
        <p:spPr>
          <a:xfrm>
            <a:off x="452520" y="1401840"/>
            <a:ext cx="7010280" cy="3151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376200" y="755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part of creating a case, the school user who has logged in should enter a valid CIP and CL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88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Overview of Gainful Employment (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Debt-to-Earnings metric time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Introduction to D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Challenges to Draft Completers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Types of Adju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What is a Ca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Overview of Case 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Draft Completers List Challenges – Important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DCAS Reference Materi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0" y="4835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5D33B-20C2-4C59-B01B-E07EE816227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ng Adjustment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80880" y="819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a case has been created, the school user has to add one or more adjust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case that has been cre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img500991" descr="cid:b703c03e-34f3-48f6-bedd-a8e67328abd3"/>
          <p:cNvPicPr/>
          <p:nvPr/>
        </p:nvPicPr>
        <p:blipFill>
          <a:blip r:embed="rId1"/>
          <a:stretch/>
        </p:blipFill>
        <p:spPr>
          <a:xfrm>
            <a:off x="582480" y="1504800"/>
            <a:ext cx="696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62120" y="18093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Add Student Adju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2"/>
          <p:cNvSpPr/>
          <p:nvPr/>
        </p:nvSpPr>
        <p:spPr>
          <a:xfrm>
            <a:off x="19836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91440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Adding Student who exists in GE Backup File</a:t>
            </a:r>
            <a:br>
              <a:rPr sz="40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2"/>
          <p:cNvSpPr/>
          <p:nvPr/>
        </p:nvSpPr>
        <p:spPr>
          <a:xfrm>
            <a:off x="19836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img372674" descr="cid:98032001-a45d-4ce9-a81a-84e9e5689ec5"/>
          <p:cNvPicPr/>
          <p:nvPr/>
        </p:nvPicPr>
        <p:blipFill>
          <a:blip r:embed="rId1"/>
          <a:stretch/>
        </p:blipFill>
        <p:spPr>
          <a:xfrm>
            <a:off x="203040" y="895320"/>
            <a:ext cx="8788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Adding Student who exists in GE Backup Fil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6EFA4-78C1-4847-BC99-5A1FE99E06F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8"/>
          <p:cNvSpPr/>
          <p:nvPr/>
        </p:nvSpPr>
        <p:spPr>
          <a:xfrm>
            <a:off x="2803320" y="131112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ol user adds Program Student and Program GE Reco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2"/>
          <p:cNvGrpSpPr/>
          <p:nvPr/>
        </p:nvGrpSpPr>
        <p:grpSpPr>
          <a:xfrm>
            <a:off x="571680" y="1644480"/>
            <a:ext cx="8115120" cy="2857680"/>
            <a:chOff x="571680" y="1644480"/>
            <a:chExt cx="8115120" cy="2857680"/>
          </a:xfrm>
        </p:grpSpPr>
        <p:pic>
          <p:nvPicPr>
            <p:cNvPr id="335" name="Picture 3" descr=""/>
            <p:cNvPicPr/>
            <p:nvPr/>
          </p:nvPicPr>
          <p:blipFill>
            <a:blip r:embed="rId1"/>
            <a:stretch/>
          </p:blipFill>
          <p:spPr>
            <a:xfrm>
              <a:off x="571680" y="1644480"/>
              <a:ext cx="810756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4" descr=""/>
            <p:cNvPicPr/>
            <p:nvPr/>
          </p:nvPicPr>
          <p:blipFill>
            <a:blip r:embed="rId2"/>
            <a:stretch/>
          </p:blipFill>
          <p:spPr>
            <a:xfrm>
              <a:off x="571680" y="2839680"/>
              <a:ext cx="810756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5" descr=""/>
            <p:cNvPicPr/>
            <p:nvPr/>
          </p:nvPicPr>
          <p:blipFill>
            <a:blip r:embed="rId3"/>
            <a:stretch/>
          </p:blipFill>
          <p:spPr>
            <a:xfrm>
              <a:off x="571680" y="3854880"/>
              <a:ext cx="8115120" cy="6472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38" name="Straight Arrow Connector 23"/>
          <p:cNvCxnSpPr/>
          <p:nvPr/>
        </p:nvCxnSpPr>
        <p:spPr>
          <a:xfrm flipV="1">
            <a:off x="4952880" y="3615840"/>
            <a:ext cx="610560" cy="84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39" name="Straight Arrow Connector 24"/>
          <p:cNvCxnSpPr/>
          <p:nvPr/>
        </p:nvCxnSpPr>
        <p:spPr>
          <a:xfrm flipH="1" flipV="1">
            <a:off x="7467120" y="3432960"/>
            <a:ext cx="534240" cy="500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0" name="TextBox 25"/>
          <p:cNvSpPr/>
          <p:nvPr/>
        </p:nvSpPr>
        <p:spPr>
          <a:xfrm>
            <a:off x="3657600" y="41068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in 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rs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7791120" y="385596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enter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the 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1143000" y="2076480"/>
            <a:ext cx="43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must then select one of the options. The options a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 Data Confl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er Credential GE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P/CL Cor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GE Records (to correct an omis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Straight Arrow Connector 28"/>
          <p:cNvCxnSpPr/>
          <p:nvPr/>
        </p:nvCxnSpPr>
        <p:spPr>
          <a:xfrm flipH="1" flipV="1">
            <a:off x="913680" y="1904760"/>
            <a:ext cx="305640" cy="429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4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91440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dding Student not already on GE Backup Fi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img162666" descr="cid:56a1a31d-9f8a-4a84-981b-44ea7d0967ee"/>
          <p:cNvPicPr/>
          <p:nvPr/>
        </p:nvPicPr>
        <p:blipFill>
          <a:blip r:embed="rId1"/>
          <a:stretch/>
        </p:blipFill>
        <p:spPr>
          <a:xfrm>
            <a:off x="490680" y="1886040"/>
            <a:ext cx="7629480" cy="2666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380880" y="1428840"/>
            <a:ext cx="74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enario 2 – School user performs SSN search and no results are return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4284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8640" y="157320"/>
            <a:ext cx="80312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ng Student not already on GE Backup F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160" y="4857840"/>
            <a:ext cx="20034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img239005" descr="cid:2e26e756-bdf6-481a-83f2-420e22fa7809"/>
          <p:cNvPicPr/>
          <p:nvPr/>
        </p:nvPicPr>
        <p:blipFill>
          <a:blip r:embed="rId1"/>
          <a:stretch/>
        </p:blipFill>
        <p:spPr>
          <a:xfrm>
            <a:off x="30240" y="1428840"/>
            <a:ext cx="8205840" cy="305748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6"/>
          <p:cNvCxnSpPr>
            <a:stCxn id="353" idx="1"/>
          </p:cNvCxnSpPr>
          <p:nvPr/>
        </p:nvCxnSpPr>
        <p:spPr>
          <a:xfrm flipH="1">
            <a:off x="2361960" y="3949560"/>
            <a:ext cx="915120" cy="7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3" name="TextBox 7"/>
          <p:cNvSpPr/>
          <p:nvPr/>
        </p:nvSpPr>
        <p:spPr>
          <a:xfrm>
            <a:off x="3276720" y="3257640"/>
            <a:ext cx="4991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ser selects one or more reasons to proceed to add a stud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ho does not exist in GE completers lis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e reasons ar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udent received aid in one of the listed federal aid programs; 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ere is a Person Data Confl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 algn="ctr">
              <a:lnSpc>
                <a:spcPct val="100000"/>
              </a:lnSpc>
              <a:spcBef>
                <a:spcPts val="10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Change Student Adju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2"/>
          <p:cNvSpPr/>
          <p:nvPr/>
        </p:nvSpPr>
        <p:spPr>
          <a:xfrm>
            <a:off x="14400" y="48117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13741-BA12-4AE0-A04B-F1E38EB8463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000" y="201240"/>
            <a:ext cx="8788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hange Student Adjust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206280" y="99864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ol User may change the exclusion flags on the draft GE completers l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asons for changing the exclusion flags are listed bel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206280" y="1581120"/>
            <a:ext cx="7782120" cy="297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360" name="Straight Arrow Connector 7"/>
          <p:cNvCxnSpPr/>
          <p:nvPr/>
        </p:nvCxnSpPr>
        <p:spPr>
          <a:xfrm flipH="1" flipV="1">
            <a:off x="1122120" y="2199600"/>
            <a:ext cx="838800" cy="15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1" name="TextBox 8"/>
          <p:cNvSpPr/>
          <p:nvPr/>
        </p:nvSpPr>
        <p:spPr>
          <a:xfrm>
            <a:off x="2009880" y="2295360"/>
            <a:ext cx="490536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CAS will allow change student adjustment to be performe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nly if the SSN already exists on the draft GE completers lis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2"/>
          <p:cNvSpPr/>
          <p:nvPr/>
        </p:nvSpPr>
        <p:spPr>
          <a:xfrm>
            <a:off x="55440" y="4824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Data Correction Adju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120" y="209160"/>
            <a:ext cx="8554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ta Correction Rec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190440" y="10144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ol User may correct data on the Program GE records. The correction ca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y existing data for the G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e existing G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8" descr=""/>
          <p:cNvPicPr/>
          <p:nvPr/>
        </p:nvPicPr>
        <p:blipFill>
          <a:blip r:embed="rId1"/>
          <a:stretch/>
        </p:blipFill>
        <p:spPr>
          <a:xfrm>
            <a:off x="266760" y="2233440"/>
            <a:ext cx="5943600" cy="2146320"/>
          </a:xfrm>
          <a:prstGeom prst="rect">
            <a:avLst/>
          </a:prstGeom>
          <a:ln w="0">
            <a:noFill/>
          </a:ln>
        </p:spPr>
      </p:pic>
      <p:sp>
        <p:nvSpPr>
          <p:cNvPr id="368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ntent Placeholder 2"/>
          <p:cNvSpPr/>
          <p:nvPr/>
        </p:nvSpPr>
        <p:spPr>
          <a:xfrm>
            <a:off x="460440" y="1123920"/>
            <a:ext cx="4559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HEA provides that to be Title IV-eligible an educational program must be offered 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1699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 public or non-profit postsecondary educational institution, if the program leads to a degree;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1699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ny institution, if the program prepares students for “gainful employment in a recognized occupa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1699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1699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209520"/>
            <a:ext cx="8785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Which Programs are GE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6320" y="4800600"/>
            <a:ext cx="259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019840" y="1542960"/>
            <a:ext cx="3832200" cy="29718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5173560" y="174456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enerally, all non-degree programs must lea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ainful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5173560" y="2743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30360" indent="-630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30360" indent="-630360"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ly, most programs at for-profit institutions must lea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inful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" y="142560"/>
            <a:ext cx="8553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leting a GE Rec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304920" y="9525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GE Record is marked for deletion, the record will be excluded and will no longer be associated with the Program Student reco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6" descr="cid:image004.png@01D117E3.7151B410"/>
          <p:cNvPicPr/>
          <p:nvPr/>
        </p:nvPicPr>
        <p:blipFill>
          <a:blip r:embed="rId1"/>
          <a:stretch/>
        </p:blipFill>
        <p:spPr>
          <a:xfrm>
            <a:off x="1143000" y="1730520"/>
            <a:ext cx="4267080" cy="1123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id:image003.png@01D117E3.2FB2B130"/>
          <p:cNvPicPr/>
          <p:nvPr/>
        </p:nvPicPr>
        <p:blipFill>
          <a:blip r:embed="rId2"/>
          <a:stretch/>
        </p:blipFill>
        <p:spPr>
          <a:xfrm>
            <a:off x="1143000" y="2989440"/>
            <a:ext cx="3581280" cy="156348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10515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Case Certification, Transfer, &amp; Submiss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304920" y="971640"/>
            <a:ext cx="7848360" cy="3523680"/>
            <a:chOff x="304920" y="971640"/>
            <a:chExt cx="7848360" cy="3523680"/>
          </a:xfrm>
        </p:grpSpPr>
        <p:pic>
          <p:nvPicPr>
            <p:cNvPr id="376" name="Picture 3" descr=""/>
            <p:cNvPicPr/>
            <p:nvPr/>
          </p:nvPicPr>
          <p:blipFill>
            <a:blip r:embed="rId1"/>
            <a:stretch/>
          </p:blipFill>
          <p:spPr>
            <a:xfrm>
              <a:off x="304920" y="971640"/>
              <a:ext cx="7848360" cy="24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4" descr=""/>
            <p:cNvPicPr/>
            <p:nvPr/>
          </p:nvPicPr>
          <p:blipFill>
            <a:blip r:embed="rId2"/>
            <a:stretch/>
          </p:blipFill>
          <p:spPr>
            <a:xfrm>
              <a:off x="304920" y="3425400"/>
              <a:ext cx="7848360" cy="106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Slide Number Placeholder 2"/>
          <p:cNvSpPr/>
          <p:nvPr/>
        </p:nvSpPr>
        <p:spPr>
          <a:xfrm>
            <a:off x="3240" y="48387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952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CAS things to reme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320" y="971640"/>
            <a:ext cx="8991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15000"/>
              </a:lnSpc>
              <a:spcBef>
                <a:spcPts val="349"/>
              </a:spcBef>
              <a:buClr>
                <a:srgbClr val="535353"/>
              </a:buClr>
              <a:buSzPct val="75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Arial"/>
                <a:ea typeface="Arial"/>
              </a:rPr>
              <a:t>A new program cannot be added to your Draft Completer List using the DCAS Challenge Proc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15000"/>
              </a:lnSpc>
              <a:spcBef>
                <a:spcPts val="349"/>
              </a:spcBef>
              <a:buClr>
                <a:srgbClr val="535353"/>
              </a:buClr>
              <a:buSzPct val="75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Arial"/>
                <a:ea typeface="Arial"/>
              </a:rPr>
              <a:t>For Person Data Conflicts, if the incorrect record for the Student is on the GE Backup File, the incorrect record must be excluded from the file using a Change Student Adjustment.  The new “corrected” Student record can be added using the Add Student Adjustm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15000"/>
              </a:lnSpc>
              <a:spcBef>
                <a:spcPts val="349"/>
              </a:spcBef>
              <a:buClr>
                <a:srgbClr val="535353"/>
              </a:buClr>
              <a:buSzPct val="75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Arial"/>
                <a:ea typeface="Arial"/>
              </a:rPr>
              <a:t>For students identified as completing a Higher Credentialed GE program, the existing record on the GE Backup file will require a Change Student adjustment to exclude the record from the Completer List.  The Higher Credentialed GE program student will need to be added using the Add Student Adjustm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15000"/>
              </a:lnSpc>
              <a:spcBef>
                <a:spcPts val="349"/>
              </a:spcBef>
              <a:buClr>
                <a:srgbClr val="535353"/>
              </a:buClr>
              <a:buSzPct val="75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Arial"/>
                <a:ea typeface="Arial"/>
              </a:rPr>
              <a:t>For a CIP/CL change, both a Change Student and Add Student Adjustment will be requir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15000"/>
              </a:lnSpc>
              <a:spcBef>
                <a:spcPts val="349"/>
              </a:spcBef>
              <a:buClr>
                <a:srgbClr val="535353"/>
              </a:buClr>
              <a:buSzPct val="75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Arial"/>
                <a:ea typeface="Arial"/>
              </a:rPr>
              <a:t>When submitting challenges to Draft Completers List and data corrections, you also need to remember to correct the GE data on NSLDS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15000"/>
              </a:lnSpc>
              <a:spcBef>
                <a:spcPts val="349"/>
              </a:spcBef>
              <a:buClr>
                <a:srgbClr val="535353"/>
              </a:buClr>
              <a:buSzPct val="75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35353"/>
                </a:solidFill>
                <a:latin typeface="Arial"/>
                <a:ea typeface="Arial"/>
              </a:rPr>
              <a:t>Data Corrections submitted through DCAS are your last chance to correct data on the Completers Lis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34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76320" y="48387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1080" y="209160"/>
            <a:ext cx="8555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320" y="1143000"/>
            <a:ext cx="90676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E Operations M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CAS User M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CAS Training Mater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Gainful Employment User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ll materials are on the IFAP Gainful Employment Page: https://www.ifap.ed.gov/GainfulEmploymentInfo/indexV2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23760" y="4846680"/>
            <a:ext cx="2133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E8CB4-8ED4-4DF8-A21F-D3DE461AA3E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C:\Users\Joe.Aiello\Desktop\Question-and-Answer.png"/>
          <p:cNvPicPr/>
          <p:nvPr/>
        </p:nvPicPr>
        <p:blipFill>
          <a:blip r:embed="rId1"/>
          <a:stretch/>
        </p:blipFill>
        <p:spPr>
          <a:xfrm>
            <a:off x="3143160" y="146520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ainful Employ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89000" y="819000"/>
            <a:ext cx="834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 Rule published October 31,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Date is July 1,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Y 08/09 – AY 13/14 due from schools by July 31,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Y 14/15 due from schools by October 1,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Y 15/16 due from schools by October 1,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ountability metr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bt-to-Earnings Ann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bt-to-Earnings Discretion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ition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losures (possible for January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CD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ther possibilities include Repayment Rates, Completion and Withdrawal Rates, and Median Loan Deb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ainful Employ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7128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leads to Gainful Employment i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bt to earnings ratio is no more than 8% of average annual income or 20% of average discretionary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2014-15 calculation ye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wo-year cohort is comprised of students graduating in 2010-11 and 2011-12 award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our-year cohort is comprised of students graduating in 2008-09, 2009-10, 2010-11, and 2011-12 award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levels: passing, zone, and fai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ineligible if it fails two of three consecutive years or if it fails or is in the zone for four consecutiv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bt-To-Earnings Time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638280" y="1422360"/>
            <a:ext cx="2286000" cy="1346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6080040" y="1393920"/>
            <a:ext cx="2362320" cy="1390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3313080" y="1433520"/>
            <a:ext cx="2301840" cy="11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7"/>
          <p:cNvSpPr/>
          <p:nvPr/>
        </p:nvSpPr>
        <p:spPr>
          <a:xfrm>
            <a:off x="6134040" y="3249720"/>
            <a:ext cx="2324160" cy="12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ounded Rectangle 8"/>
          <p:cNvSpPr/>
          <p:nvPr/>
        </p:nvSpPr>
        <p:spPr>
          <a:xfrm>
            <a:off x="3259080" y="3222720"/>
            <a:ext cx="2409840" cy="138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ounded Rectangle 9"/>
          <p:cNvSpPr/>
          <p:nvPr/>
        </p:nvSpPr>
        <p:spPr>
          <a:xfrm>
            <a:off x="676440" y="3157560"/>
            <a:ext cx="2209680" cy="1514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1017360" y="1568520"/>
            <a:ext cx="135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 31,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or 2008-09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3-14 Dat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 01,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or 2014-15 Dat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1"/>
          <p:cNvSpPr/>
          <p:nvPr/>
        </p:nvSpPr>
        <p:spPr>
          <a:xfrm>
            <a:off x="3476520" y="1584360"/>
            <a:ext cx="2138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RS LI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2"/>
          <p:cNvSpPr/>
          <p:nvPr/>
        </p:nvSpPr>
        <p:spPr>
          <a:xfrm>
            <a:off x="6026040" y="1606680"/>
            <a:ext cx="2508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RS LI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LLENGES D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 calendar days after list s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869040" y="3373560"/>
            <a:ext cx="1499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FT DEBT-TO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NINGS RATE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3498840" y="3222720"/>
            <a:ext cx="218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FT DEBT-TO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NINGS RATE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LLENGES DUE FRO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5 Day Challenge Peri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6428520" y="3427560"/>
            <a:ext cx="1735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EASE FINAL DEBT-TO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NINGS RATE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Straight Arrow Connector 16"/>
          <p:cNvCxnSpPr>
            <a:endCxn id="267" idx="1"/>
          </p:cNvCxnSpPr>
          <p:nvPr/>
        </p:nvCxnSpPr>
        <p:spPr>
          <a:xfrm>
            <a:off x="2924280" y="2026800"/>
            <a:ext cx="3895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78" name="Straight Arrow Connector 17"/>
          <p:cNvCxnSpPr/>
          <p:nvPr/>
        </p:nvCxnSpPr>
        <p:spPr>
          <a:xfrm>
            <a:off x="5614920" y="2020680"/>
            <a:ext cx="4658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79" name="Straight Arrow Connector 32"/>
          <p:cNvCxnSpPr>
            <a:stCxn id="266" idx="2"/>
            <a:endCxn id="270" idx="0"/>
          </p:cNvCxnSpPr>
          <p:nvPr/>
        </p:nvCxnSpPr>
        <p:spPr>
          <a:xfrm rot="5400000">
            <a:off x="4334040" y="231120"/>
            <a:ext cx="373680" cy="5480640"/>
          </a:xfrm>
          <a:prstGeom prst="bentConnector3">
            <a:avLst>
              <a:gd name="adj1" fmla="val 49951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80" name="Straight Arrow Connector 19"/>
          <p:cNvCxnSpPr>
            <a:stCxn id="270" idx="3"/>
            <a:endCxn id="269" idx="1"/>
          </p:cNvCxnSpPr>
          <p:nvPr/>
        </p:nvCxnSpPr>
        <p:spPr>
          <a:xfrm>
            <a:off x="2886120" y="3914280"/>
            <a:ext cx="37368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81" name="Straight Arrow Connector 20"/>
          <p:cNvCxnSpPr/>
          <p:nvPr/>
        </p:nvCxnSpPr>
        <p:spPr>
          <a:xfrm>
            <a:off x="5707080" y="3916080"/>
            <a:ext cx="465840" cy="5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44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28600" y="97164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Challenges and Appeals Solution (DCAS) is a new system that will allow institutions to challenge their self-reported data as well as Department-calculated met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first release, DCAS will allow institutions to submit data challenges and corrections to the draft GE completers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CAS provides institutions with ability to subm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ata corrections to the draft GE completers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hanges to the draft GE completers list to either add or remove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133200"/>
            <a:ext cx="8708760" cy="6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articipation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796680"/>
            <a:ext cx="914400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or access to DCAS, you will need to sign up through SAIG Enrollment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uthorized users may be enrolled in the DCAS Service by a School’s (or organization’s) Primary Destination Point Administrator (D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nrollment via the Student Aid Internet Gateway (SAIG) Enrollment Websi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etailed instructions can be found on IFAP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Gainful Employment Electronic Announcement #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te for Foreign School Users:  Need to complete an updated paper SAIG Enrollment form to enroll for DCAS Online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ifap.ed.gov/ForeignSchoolInfo/attachments/FSSAIGEnrollForm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533520" y="104760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justmen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Add Stud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hange Stud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Data Cor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1332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s to Draft Completers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2"/>
          <p:cNvSpPr/>
          <p:nvPr/>
        </p:nvSpPr>
        <p:spPr>
          <a:xfrm>
            <a:off x="0" y="4838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9:08:42Z</dcterms:created>
  <dc:creator>user ce</dc:creator>
  <dc:description/>
  <dc:language>en-US</dc:language>
  <cp:lastModifiedBy>psavuser</cp:lastModifiedBy>
  <cp:lastPrinted>2012-09-05T16:31:24Z</cp:lastPrinted>
  <dcterms:modified xsi:type="dcterms:W3CDTF">2015-12-01T02:31:44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37D63EE5034904FBE124CE4C93FC8B0</vt:lpwstr>
  </property>
  <property fmtid="{D5CDD505-2E9C-101B-9397-08002B2CF9AE}" pid="3" name="_dlc_DocId">
    <vt:lpwstr>ZQHRFS737ZVJ-391-3</vt:lpwstr>
  </property>
  <property fmtid="{D5CDD505-2E9C-101B-9397-08002B2CF9AE}" pid="4" name="_dlc_DocIdItemGuid">
    <vt:lpwstr>8f810f7d-8a11-484d-ad7f-0aeb8d6ca03d</vt:lpwstr>
  </property>
  <property fmtid="{D5CDD505-2E9C-101B-9397-08002B2CF9AE}" pid="5" name="_dlc_DocIdUrl">
    <vt:lpwstr>https://fsa.share.ed.gov/as/comm/_layouts/DocIdRedir.aspx?ID=ZQHRFS737ZVJ-391-3, ZQHRFS737ZVJ-391-3</vt:lpwstr>
  </property>
</Properties>
</file>