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0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6"/>
          </p:nvPr>
        </p:nvSpPr>
        <p:spPr>
          <a:xfrm>
            <a:off x="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7"/>
          </p:nvPr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D6115-A505-49A4-BED7-5B541F30C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A554A-0C76-42DD-8704-B8958C8D1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F4A1D-5557-4177-A6B1-FD30433A1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FF152-C9C5-4367-A5D3-3954A6C1B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1038F-C598-4062-9D8D-EE003C29E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0C347-46A6-42F8-81F6-EF9BFFA8E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73478-FD51-440D-B987-B9C0EFF71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BFCE8-D812-4D5E-A34B-32F5BD919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CB324-602D-4720-8C84-25EA0D046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953BD-7337-4367-8E95-664150C95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C7B4C-5025-4786-8375-BBD52E910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B9B87-232C-46B3-A333-19B8875A8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D5868-0653-4522-BC6D-C51EC5612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A978A-61E8-423A-97BD-BC23D4DDA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2EF7B-3F26-45CD-927E-AA21DCC4B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95CBD-133F-40D3-9944-A3610EC01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872E0-993B-47C6-BE79-21762B8E5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31B0B9-6741-4B62-92CA-4F8C7C604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A3D9A4-2D5F-4C5D-A26D-0A66F08B49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33EBD-5767-451F-A8C5-B110121BF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D5539-0871-49FE-8A2E-5586772F4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AE3C2-185A-4B43-90D3-869363D548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2B702-BA2A-4065-8314-E9B26F5B7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2AE1E-79E9-4383-84E9-8E6E39737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097A8-D935-4686-A4A2-0C44BC2B4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D5D1B-EA3A-4E5A-89AD-6E159860A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6B069-C7DB-4448-ADDF-0CD6D165E3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086BE-5397-4007-8FF5-EA45455A8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4C90F-30C1-4679-9FEB-91C4CD7FD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A95F1-6C5C-494E-8A54-E95E89DEB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F19DA-814B-46DC-A29C-6BC5C6CD7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79509-A95D-43CC-BD11-5012ABDCC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F7DD3-E40D-485E-99D4-18381411F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06724-3DD0-4C95-83A3-2A3051141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BDAAA-E633-4115-AC16-5F19F53F5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5D2A30-1FAE-46B9-9F26-6C8DA8C08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95B2EF-1E39-47CE-A65C-E7B319206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AF36A-83C1-4E8A-9023-6D4966C3F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66C06-FD70-40DE-BE07-F552F8932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03ABA-DFD8-4FEE-9BA8-4CA5E4E1F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F4AEAE-D095-47BD-BA62-9FC0F34A3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DE240-651D-4CCE-8BC0-387959A9BC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E31E8-05B8-4CAB-A14B-B63E8AAE4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26556-D934-4098-940C-161B55382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D264C-28B7-45B8-ADC5-38CBA6BA0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C5124-667C-4046-8FD6-A2BD809B9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866F3-D78B-40F3-8B2E-656B9C3DE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03EAD-6B54-4BDF-95D7-3C2D8E5BC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32A83-AE86-47D0-AE6A-F00105DB7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B163-0581-43BF-B644-8C350D6CD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B6451-E5B9-45F6-8357-2618A2EEA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49E92-B39A-41F6-A2FA-3C0EA3A29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7A39-0BDE-4342-9B64-D04384053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5A98-E214-46B5-BD64-E1FC5BAAB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948E-D4B0-4FF8-9183-C3C3A72771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CEAEF-49CA-44D7-AE76-AEBAD98A37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A8825-3665-4793-8811-623BE8D085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851CB-C499-4514-8C7C-E79D9C758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DD38-4D07-4181-8F4D-7529A2928A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9CEEE-14B5-4359-A15B-D3F3DA779E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4FAB4-7DBF-4EF6-9ABD-513CD0768BB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ABC67-A500-4AAA-9A5D-6839C2154BA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18FA1-74C7-4548-98D5-C91CEBEE7B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06175-8CF7-4728-A422-770B5E56B8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0E9A-B386-478E-A109-BD9A79794E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8CC42-5866-4283-AE6F-25B641A37A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991D8-675B-4A32-926B-95344C4FF6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DAFC9-D2D1-456A-AE42-AA4392AA4E4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0106-6D81-4505-9964-8767B9EEC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0D617-58BF-42FA-9CA6-46A546D20FC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EB0-80BA-4827-9E24-F162D1D9C00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EAE4-1BEE-45CC-8E86-38DBAA776E7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183-9EA3-4F67-AEE8-AFC745E17AA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60CD-5542-46E8-8723-CA166F9A2FF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835-96F5-42BD-A267-9FF8E35AC9A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53BE-74C3-4D46-AD32-A0D8BE8D131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84AA-DA4B-43D2-BCA9-2FE7F55C22B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5AB-CB95-40D8-84F4-44DD357FDC5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876-7CFB-4309-9399-B4FE0E8BD14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FB1C-46D5-4876-8AB3-5F70EDA1A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5476-4B43-499C-B478-FEA83F92F8E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0310-C44D-4403-BB8D-93913C321A8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45B14-D574-42DB-9997-607FB280357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5A7FE-AC6D-4395-B354-DA5573A032B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51C09-747E-49C1-9AC4-14EF08D285A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B4489-3195-4695-B3DA-0FDB6A488DB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0A314-56E7-41D7-881D-52739941DE5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0AE93-104A-4622-A381-B7E0F4F7B67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4285E-8A69-49BE-9156-20A29CBF28E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70753-C9A6-4158-9CA3-CCD4B46FA8A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7F59F-DC3B-457E-8DD4-E9764BE3F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5D5C-7C92-4195-98C8-EA542A7DBAC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60C19-BC78-4944-9AE8-79CDCAB74B6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57A62-F7F8-4FA0-898A-BF3588D613F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2790E-5B73-49FB-BDDD-8AFB3C624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2D1AB-75BB-4D09-B400-72E1E4475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D387D-57FB-4B4F-8E02-95516BCFE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4C631-7BD0-46AF-964D-2A37B435B2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1"/>
          <p:cNvSpPr/>
          <p:nvPr/>
        </p:nvSpPr>
        <p:spPr>
          <a:xfrm>
            <a:off x="0" y="0"/>
            <a:ext cx="9147240" cy="54864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" name="Picture 3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6137280" cy="89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-14400" y="0"/>
            <a:ext cx="9167760" cy="322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0" y="6535800"/>
            <a:ext cx="9167760" cy="322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76320" y="341280"/>
            <a:ext cx="6137280" cy="89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0" y="6329520"/>
            <a:ext cx="4495680" cy="53784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-14400" y="0"/>
            <a:ext cx="9167760" cy="322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traight Connector 4"/>
          <p:cNvSpPr/>
          <p:nvPr/>
        </p:nvSpPr>
        <p:spPr>
          <a:xfrm>
            <a:off x="241200" y="106200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2"/>
          <a:stretch/>
        </p:blipFill>
        <p:spPr>
          <a:xfrm>
            <a:off x="4645080" y="6211800"/>
            <a:ext cx="4422600" cy="646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sldNum" idx="2"/>
          </p:nvPr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07F72-EC66-4730-ACC5-56C9EBB0102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0" y="6329520"/>
            <a:ext cx="4495680" cy="53784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-14400" y="0"/>
            <a:ext cx="9167760" cy="322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traight Connector 4"/>
          <p:cNvSpPr/>
          <p:nvPr/>
        </p:nvSpPr>
        <p:spPr>
          <a:xfrm>
            <a:off x="241200" y="106200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4645080" y="6211800"/>
            <a:ext cx="4422600" cy="646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sldNum" idx="3"/>
          </p:nvPr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AD105-8AF3-4D2C-8C69-A037C3862553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6329520"/>
            <a:ext cx="4495680" cy="53784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"/>
          <p:cNvSpPr/>
          <p:nvPr/>
        </p:nvSpPr>
        <p:spPr>
          <a:xfrm>
            <a:off x="-14400" y="0"/>
            <a:ext cx="9167760" cy="322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4645080" y="6221520"/>
            <a:ext cx="4422600" cy="645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sldNum" idx="4"/>
          </p:nvPr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727DD3-75FD-43AB-A0AF-D45C0BB0D0D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uscis.gov/" TargetMode="External"/><Relationship Id="rId2" Type="http://schemas.openxmlformats.org/officeDocument/2006/relationships/hyperlink" Target="http://www.ice.gov/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Rene.Tiongquico@ed.gov" TargetMode="External"/><Relationship Id="rId2" Type="http://schemas.openxmlformats.org/officeDocument/2006/relationships/hyperlink" Target="mailto:Aaron.Washington@ed.gov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6840" y="3809520"/>
            <a:ext cx="84582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Rene Tiongquico &amp; Aaron Washington | Dec.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U.S. Department of 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2015 FSA Conference for Financial Aid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240" y="556920"/>
            <a:ext cx="5199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Arial"/>
                <a:ea typeface="Arial"/>
              </a:rPr>
              <a:t>Session 26: </a:t>
            </a:r>
            <a:br>
              <a:rPr sz="4800"/>
            </a:br>
            <a:r>
              <a:rPr b="0" lang="en-US" sz="4800" spc="-1" strike="noStrike">
                <a:solidFill>
                  <a:srgbClr val="f2f2f2"/>
                </a:solidFill>
                <a:latin typeface="Arial"/>
                <a:ea typeface="Arial"/>
              </a:rPr>
              <a:t>Resolving Citizen and Eligible Noncitizen Issu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6" descr="http://www.norwich.edu/about/news/2009/img/032709-modelUN.jpg"/>
          <p:cNvPicPr/>
          <p:nvPr/>
        </p:nvPicPr>
        <p:blipFill>
          <a:blip r:embed="rId1"/>
          <a:stretch/>
        </p:blipFill>
        <p:spPr>
          <a:xfrm>
            <a:off x="5384880" y="736560"/>
            <a:ext cx="3333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Filling out the FAFS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Q14: Are you a U.S. citizen? Mark only 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Yes I am a U.S. citizen (U.S. national)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No, but I am an eligible noncitizen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No, I am not a citizen or eligible noncitizen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Q15: Alien Registration 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_ _ _ _ _ _ _ _ 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76389-A7C8-49FC-82CD-EBB6A23D965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FAFSA 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1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B06F2-85DF-400B-AA0D-686A1ECD427B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1" descr=""/>
          <p:cNvPicPr/>
          <p:nvPr/>
        </p:nvPicPr>
        <p:blipFill>
          <a:blip r:embed="rId1"/>
          <a:srcRect l="4920" t="42921" r="2540" b="24319"/>
          <a:stretch/>
        </p:blipFill>
        <p:spPr>
          <a:xfrm>
            <a:off x="533520" y="2282760"/>
            <a:ext cx="761976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838080" y="112536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35353"/>
                </a:solidFill>
                <a:latin typeface="Arial"/>
                <a:ea typeface="Arial"/>
              </a:rPr>
              <a:t>U.S. Citizens or Nation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C86D1-38A4-40FC-B114-B705E3A66D1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http://ajvimmigrationlaw.com/wp-content/uploads/2012/03/us_citizenship_img.jpg"/>
          <p:cNvPicPr/>
          <p:nvPr/>
        </p:nvPicPr>
        <p:blipFill>
          <a:blip r:embed="rId1"/>
          <a:stretch/>
        </p:blipFill>
        <p:spPr>
          <a:xfrm>
            <a:off x="2905200" y="2324160"/>
            <a:ext cx="3333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U.S. Citizens or Nation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51920" y="1219320"/>
            <a:ext cx="88614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7520" indent="-22752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All U.S. citizens are U.S. nationals, but not all nationals are citiz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Individual who w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00320" indent="-17280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Born in the United States or its territ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0320" indent="-17280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Parent is a U.S. citiz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Citizenship through natur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Persons born in American Samoa, CNMI, Swain’s Island, United States Minor Outlying Islands (U.S. nationa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B85BC-C568-4DFC-8C34-76C6436E88B2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U.S. Citizens Docum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51920" y="152388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Copy of birth certificate showing student was born in the United States or its territ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U.S. passport (book or car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Consular Report of Birth Abro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Certificate of Citize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Certificate of Natur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D2736-470E-4FFE-9DA9-BABE24C5E2A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8080" y="1125360"/>
            <a:ext cx="746784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35353"/>
                </a:solidFill>
                <a:latin typeface="Arial"/>
                <a:ea typeface="Arial"/>
              </a:rPr>
              <a:t>Eligible Noncitize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553AA-ADA2-4CC4-A46A-869BC0D43DF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9" descr="C:\Program Files (x86)\Microsoft Office\MEDIA\CAGCAT10\j0297749.wmf"/>
          <p:cNvPicPr/>
          <p:nvPr/>
        </p:nvPicPr>
        <p:blipFill>
          <a:blip r:embed="rId1"/>
          <a:stretch/>
        </p:blipFill>
        <p:spPr>
          <a:xfrm>
            <a:off x="3646440" y="2548080"/>
            <a:ext cx="185112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Categories of Eligible Noncitize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98600" y="1294920"/>
            <a:ext cx="358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Lawful permanent resid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Conditional resid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Refug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575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Asyl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575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Parolees (at least 1 yea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2"/>
          <p:cNvSpPr/>
          <p:nvPr/>
        </p:nvSpPr>
        <p:spPr>
          <a:xfrm>
            <a:off x="4114800" y="1600200"/>
            <a:ext cx="4898880" cy="24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53535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</a:rPr>
              <a:t>Cuban-Haitian Entr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53535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</a:rPr>
              <a:t>T-vi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53535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</a:rPr>
              <a:t>Battered immigrants-qualified aliens (VAW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C31A98-4177-4630-8C70-E82C10B4422C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ligible Noncitizens Docum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Varies by categ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I-94, I-797, I-551, Travel Doc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Look in FSAHB Volume 1, Chapter 2 to determine what documents are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Unexpired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5C527-B3C4-4BD6-93C9-37730E5075E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38080" y="1125360"/>
            <a:ext cx="746784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35353"/>
                </a:solidFill>
                <a:latin typeface="Arial"/>
                <a:ea typeface="Arial"/>
              </a:rPr>
              <a:t>SSA Citizenship Mat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00131-596A-439A-B771-BD6A9862FDD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2" descr="http://th05.deviantart.net/fs71/200H/i/2011/191/d/a/match_found__click_to_see_gif_by_paintshani-d3lkvo2.png"/>
          <p:cNvPicPr/>
          <p:nvPr/>
        </p:nvPicPr>
        <p:blipFill>
          <a:blip r:embed="rId1"/>
          <a:stretch/>
        </p:blipFill>
        <p:spPr>
          <a:xfrm>
            <a:off x="5372280" y="2514600"/>
            <a:ext cx="2857320" cy="1828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http://honda.house.gov/sites/honda.house.gov/files/wysiwyg_uploaded/SSA-logo.jpg"/>
          <p:cNvPicPr/>
          <p:nvPr/>
        </p:nvPicPr>
        <p:blipFill>
          <a:blip r:embed="rId2"/>
          <a:stretch/>
        </p:blipFill>
        <p:spPr>
          <a:xfrm>
            <a:off x="914400" y="2052720"/>
            <a:ext cx="27432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Citizenship Match with SS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28240" y="1523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535353"/>
                </a:solidFill>
                <a:uFillTx/>
                <a:latin typeface="Arial"/>
                <a:ea typeface="Arial"/>
              </a:rPr>
              <a:t>All</a:t>
            </a: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 students go through match with Social Security Administration (SSA) to verify U.S. citizenship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Match flags on C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Successful mat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Data doesn’t mat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Citizenship not confi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412AA-8F41-4DCE-AB29-488BC7AA8C96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044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Legal author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General 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illing out the FAF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U.S. citizens or nation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Eligible noncitiz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ocial Security Administration (SSA) and Department of Homeland Security (DHS) Mat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G-845 paper secondary confirmation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ome things to rem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pecial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833AF-6018-4177-9325-0C24AE8E709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Citizenship Match with SSA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5" descr=""/>
          <p:cNvPicPr/>
          <p:nvPr/>
        </p:nvPicPr>
        <p:blipFill>
          <a:blip r:embed="rId1"/>
          <a:srcRect l="19523" t="22393" r="20794" b="23624"/>
          <a:stretch/>
        </p:blipFill>
        <p:spPr>
          <a:xfrm>
            <a:off x="295200" y="1417680"/>
            <a:ext cx="8543880" cy="4830840"/>
          </a:xfrm>
          <a:prstGeom prst="rect">
            <a:avLst/>
          </a:prstGeom>
          <a:ln w="0">
            <a:noFill/>
          </a:ln>
        </p:spPr>
      </p:pic>
      <p:sp>
        <p:nvSpPr>
          <p:cNvPr id="306" name="Slide Number Placeholder 1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A029B-1EC3-4449-BF1C-7B274A53FD2C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SA Citizenship Match Flag on ISI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1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D1937-D396-4803-983D-F349032E96F1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rcRect l="1127" t="7671" r="1478" b="7026"/>
          <a:stretch/>
        </p:blipFill>
        <p:spPr>
          <a:xfrm>
            <a:off x="1046160" y="1498680"/>
            <a:ext cx="7051680" cy="386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0" name="Donut 7"/>
          <p:cNvSpPr/>
          <p:nvPr/>
        </p:nvSpPr>
        <p:spPr>
          <a:xfrm>
            <a:off x="2379600" y="3505320"/>
            <a:ext cx="1049400" cy="609480"/>
          </a:xfrm>
          <a:custGeom>
            <a:avLst/>
            <a:gdLst/>
            <a:ahLst/>
            <a:rect l="l" t="t" r="r" b="b"/>
            <a:pathLst>
              <a:path w="1049337" h="609600">
                <a:moveTo>
                  <a:pt x="0" y="304800"/>
                </a:moveTo>
                <a:cubicBezTo>
                  <a:pt x="0" y="136464"/>
                  <a:pt x="234902" y="0"/>
                  <a:pt x="524669" y="0"/>
                </a:cubicBezTo>
                <a:cubicBezTo>
                  <a:pt x="814436" y="0"/>
                  <a:pt x="1049338" y="136464"/>
                  <a:pt x="1049338" y="304800"/>
                </a:cubicBezTo>
                <a:cubicBezTo>
                  <a:pt x="1049338" y="473136"/>
                  <a:pt x="814436" y="609600"/>
                  <a:pt x="524669" y="609600"/>
                </a:cubicBezTo>
                <a:cubicBezTo>
                  <a:pt x="234902" y="609600"/>
                  <a:pt x="0" y="473136"/>
                  <a:pt x="0" y="304800"/>
                </a:cubicBezTo>
                <a:close/>
                <a:moveTo>
                  <a:pt x="30510" y="304800"/>
                </a:moveTo>
                <a:cubicBezTo>
                  <a:pt x="30510" y="456286"/>
                  <a:pt x="251752" y="579090"/>
                  <a:pt x="524668" y="579090"/>
                </a:cubicBezTo>
                <a:cubicBezTo>
                  <a:pt x="797584" y="579090"/>
                  <a:pt x="1018826" y="456286"/>
                  <a:pt x="1018826" y="304800"/>
                </a:cubicBezTo>
                <a:cubicBezTo>
                  <a:pt x="1018826" y="153314"/>
                  <a:pt x="797584" y="30510"/>
                  <a:pt x="524668" y="30510"/>
                </a:cubicBezTo>
                <a:cubicBezTo>
                  <a:pt x="251752" y="30510"/>
                  <a:pt x="30510" y="153314"/>
                  <a:pt x="30510" y="304800"/>
                </a:cubicBez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tudent Fails SSA Citizenship Mat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51920" y="152388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 student fails SSA Citizenship Match (comment code 14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sk student for proof of U.S. citizenship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Must provide evidence of U.S. citizen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f not a citizen, they must make corrections to FAFSA and indicate appropriate box in Q14 and if eligible noncitizen answer Q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0E6AA-EC0D-4AD8-A720-74E90F8E56E3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838080" y="1125360"/>
            <a:ext cx="746784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35353"/>
                </a:solidFill>
                <a:latin typeface="Arial"/>
                <a:ea typeface="Arial"/>
              </a:rPr>
              <a:t>DHS Match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35353"/>
                </a:solidFill>
                <a:latin typeface="Arial"/>
                <a:ea typeface="Arial"/>
              </a:rPr>
              <a:t>Primary Verification &amp; Secondary Confi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4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174E9-ED1C-402F-94A2-8AD99656678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2" descr="http://th05.deviantart.net/fs71/200H/i/2011/191/d/a/match_found__click_to_see_gif_by_paintshani-d3lkvo2.png"/>
          <p:cNvPicPr/>
          <p:nvPr/>
        </p:nvPicPr>
        <p:blipFill>
          <a:blip r:embed="rId1"/>
          <a:stretch/>
        </p:blipFill>
        <p:spPr>
          <a:xfrm>
            <a:off x="5334120" y="3657600"/>
            <a:ext cx="2857320" cy="18288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http://upload.wikimedia.org/wikipedia/commons/thumb/8/8a/Seal_of_the_United_States_Department_of_Homeland_Security.svg/2000px-Seal_of_the_United_States_Department_of_Homeland_Security.svg.png"/>
          <p:cNvPicPr/>
          <p:nvPr/>
        </p:nvPicPr>
        <p:blipFill>
          <a:blip r:embed="rId2"/>
          <a:stretch/>
        </p:blipFill>
        <p:spPr>
          <a:xfrm>
            <a:off x="914400" y="3429000"/>
            <a:ext cx="2292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Citizenship Match with DH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6480" y="1295280"/>
            <a:ext cx="893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All noncitizens are provided with an alien registration number (A-Numb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Matched with both SSA and D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Match flags on C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Successful mat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Record was not sent to D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DHS has not yet confirmed the student’s noncitizen status. DHS will continue to check its rec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BB8C6-5E9A-44B3-ACFB-D96A6336458B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DHS Primary Ver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Primary verification ma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Y = Citizenship confi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N = Citizenship not confirm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D2F49-0A08-4E72-A136-E4596F1C57CE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DHS Secondary Confi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Secondary confirmation match fla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P = Pending results of secondary confi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Y = Citizenship status confirmed by D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 = DHS has not yet confirmed eligible noncitizen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N = DHS did not confirm eligible noncitizen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X =DHS did not have enough information to confirm eligible noncitizen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3826A-7640-40A4-B955-AAA9DC8163B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DHS Match Flags on ISI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1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FA08E-D685-4CF2-AF17-CCDA50B1DCE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rcRect l="1127" t="7671" r="1478" b="7026"/>
          <a:stretch/>
        </p:blipFill>
        <p:spPr>
          <a:xfrm>
            <a:off x="1046160" y="1498680"/>
            <a:ext cx="7051680" cy="386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0" name="Donut 7"/>
          <p:cNvSpPr/>
          <p:nvPr/>
        </p:nvSpPr>
        <p:spPr>
          <a:xfrm>
            <a:off x="4495680" y="3467160"/>
            <a:ext cx="1532160" cy="609480"/>
          </a:xfrm>
          <a:custGeom>
            <a:avLst/>
            <a:gdLst/>
            <a:ahLst/>
            <a:rect l="l" t="t" r="r" b="b"/>
            <a:pathLst>
              <a:path w="1531938" h="609600">
                <a:moveTo>
                  <a:pt x="0" y="304800"/>
                </a:moveTo>
                <a:cubicBezTo>
                  <a:pt x="0" y="136464"/>
                  <a:pt x="342936" y="0"/>
                  <a:pt x="765969" y="0"/>
                </a:cubicBezTo>
                <a:cubicBezTo>
                  <a:pt x="1189002" y="0"/>
                  <a:pt x="1531938" y="136464"/>
                  <a:pt x="1531938" y="304800"/>
                </a:cubicBezTo>
                <a:cubicBezTo>
                  <a:pt x="1531938" y="473136"/>
                  <a:pt x="1189002" y="609600"/>
                  <a:pt x="765969" y="609600"/>
                </a:cubicBezTo>
                <a:cubicBezTo>
                  <a:pt x="342936" y="609600"/>
                  <a:pt x="0" y="473136"/>
                  <a:pt x="0" y="304800"/>
                </a:cubicBezTo>
                <a:close/>
                <a:moveTo>
                  <a:pt x="43208" y="304800"/>
                </a:moveTo>
                <a:cubicBezTo>
                  <a:pt x="43208" y="449273"/>
                  <a:pt x="366799" y="566392"/>
                  <a:pt x="765969" y="566392"/>
                </a:cubicBezTo>
                <a:cubicBezTo>
                  <a:pt x="1165139" y="566392"/>
                  <a:pt x="1488730" y="449273"/>
                  <a:pt x="1488730" y="304800"/>
                </a:cubicBezTo>
                <a:cubicBezTo>
                  <a:pt x="1488730" y="160327"/>
                  <a:pt x="1165139" y="43208"/>
                  <a:pt x="765969" y="43208"/>
                </a:cubicBezTo>
                <a:cubicBezTo>
                  <a:pt x="366799" y="43208"/>
                  <a:pt x="43208" y="160327"/>
                  <a:pt x="43208" y="304800"/>
                </a:cubicBez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Donut 5"/>
          <p:cNvSpPr/>
          <p:nvPr/>
        </p:nvSpPr>
        <p:spPr>
          <a:xfrm>
            <a:off x="2725560" y="3467160"/>
            <a:ext cx="1051200" cy="609480"/>
          </a:xfrm>
          <a:custGeom>
            <a:avLst/>
            <a:gdLst/>
            <a:ahLst/>
            <a:rect l="l" t="t" r="r" b="b"/>
            <a:pathLst>
              <a:path w="1050925" h="609600">
                <a:moveTo>
                  <a:pt x="0" y="304800"/>
                </a:moveTo>
                <a:cubicBezTo>
                  <a:pt x="0" y="136464"/>
                  <a:pt x="235258" y="0"/>
                  <a:pt x="525463" y="0"/>
                </a:cubicBezTo>
                <a:cubicBezTo>
                  <a:pt x="815668" y="0"/>
                  <a:pt x="1050926" y="136464"/>
                  <a:pt x="1050926" y="304800"/>
                </a:cubicBezTo>
                <a:cubicBezTo>
                  <a:pt x="1050926" y="473136"/>
                  <a:pt x="815668" y="609600"/>
                  <a:pt x="525463" y="609600"/>
                </a:cubicBezTo>
                <a:cubicBezTo>
                  <a:pt x="235258" y="609600"/>
                  <a:pt x="0" y="473136"/>
                  <a:pt x="0" y="304800"/>
                </a:cubicBezTo>
                <a:close/>
                <a:moveTo>
                  <a:pt x="43208" y="304800"/>
                </a:moveTo>
                <a:cubicBezTo>
                  <a:pt x="43208" y="449273"/>
                  <a:pt x="259120" y="566392"/>
                  <a:pt x="525462" y="566392"/>
                </a:cubicBezTo>
                <a:cubicBezTo>
                  <a:pt x="791804" y="566392"/>
                  <a:pt x="1007716" y="449273"/>
                  <a:pt x="1007716" y="304800"/>
                </a:cubicBezTo>
                <a:cubicBezTo>
                  <a:pt x="1007716" y="160327"/>
                  <a:pt x="791804" y="43208"/>
                  <a:pt x="525462" y="43208"/>
                </a:cubicBezTo>
                <a:cubicBezTo>
                  <a:pt x="259120" y="43208"/>
                  <a:pt x="43208" y="160327"/>
                  <a:pt x="43208" y="304800"/>
                </a:cubicBez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Failed Match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535353"/>
                </a:solidFill>
                <a:latin typeface="Arial"/>
                <a:ea typeface="Arial"/>
              </a:rPr>
              <a:t>If the student fails both DHS Primary Verification and DHS Secondary Confirmation matches then proceed to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3A763-236B-4213-9657-D5CF8E51E898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38080" y="1125360"/>
            <a:ext cx="746784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35353"/>
                </a:solidFill>
                <a:latin typeface="Arial"/>
                <a:ea typeface="Arial"/>
              </a:rPr>
              <a:t>G-845 Paper Secondary Confirmation Pro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041EA-101A-44BD-945C-0BF5CF6D9E13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https://save.uscis.gov/casecheck/images/SAVE-Logo-all-color.gif"/>
          <p:cNvPicPr/>
          <p:nvPr/>
        </p:nvPicPr>
        <p:blipFill>
          <a:blip r:embed="rId1"/>
          <a:stretch/>
        </p:blipFill>
        <p:spPr>
          <a:xfrm>
            <a:off x="3281400" y="2952720"/>
            <a:ext cx="25812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066680" y="286704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35353"/>
                </a:solidFill>
                <a:latin typeface="Arial"/>
                <a:ea typeface="Arial"/>
              </a:rPr>
              <a:t>Legal Author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AEAC3-C0A5-4299-B4D5-FD0420B75A02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https://professionalriskgroup.files.wordpress.com/2013/02/bigstock-legal-gavel-on-a-law-book-24054575.jpg"/>
          <p:cNvPicPr/>
          <p:nvPr/>
        </p:nvPicPr>
        <p:blipFill>
          <a:blip r:embed="rId1"/>
          <a:stretch/>
        </p:blipFill>
        <p:spPr>
          <a:xfrm>
            <a:off x="3200400" y="3706920"/>
            <a:ext cx="27432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G-845 Paper Secondary Confi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The Department provides a list of eligible noncitizens and docu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f the student provides documentation for an ineligible category, do NOT initiate G-84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ill out the G-845, Part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Use the </a:t>
            </a:r>
            <a:r>
              <a:rPr b="0" i="1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SA Handbook </a:t>
            </a: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to interpret the DHS-USCIS respo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8B79D-F106-4012-8790-E117E606626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Filling out the G-84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51920" y="1523880"/>
            <a:ext cx="886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chools are required to fill out Part 1, basic information about the 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ase Verification Number” (field #3 in G-845): The 15-digit DHS verification number is printed in the match flag section of the SAR and IS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Photocopy front and back side of student’s immigration document and attach to G-8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Depending on the institution’s state send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10 Fountain Plaza, 3rd Floor Buffalo, NY 142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300 N. Los Angeles Street, B120 Los Angeles, CA 90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5FC8D2-E59A-4D95-98DF-88816B8EFB46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ample G-84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1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2C4CC-F0AF-4625-9A26-6FB026BC10D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8" descr=""/>
          <p:cNvPicPr/>
          <p:nvPr/>
        </p:nvPicPr>
        <p:blipFill>
          <a:blip r:embed="rId1"/>
          <a:srcRect l="31827" t="15716" r="30238" b="4539"/>
          <a:stretch/>
        </p:blipFill>
        <p:spPr>
          <a:xfrm>
            <a:off x="990720" y="1616040"/>
            <a:ext cx="3200400" cy="4203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"/>
          <p:cNvPicPr/>
          <p:nvPr/>
        </p:nvPicPr>
        <p:blipFill>
          <a:blip r:embed="rId2"/>
          <a:srcRect l="31429" t="15543" r="29879" b="5565"/>
          <a:stretch/>
        </p:blipFill>
        <p:spPr>
          <a:xfrm>
            <a:off x="5029200" y="1677960"/>
            <a:ext cx="32004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Interpreting the G-845 Respon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How to interpret status verifier offices respo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Part 2 of the G-84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Part 3 of the G-84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No response from DHS-USCIS after 15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Questions on interpretations can be sent to FSA, Washington, D.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Rene Tiongquico &amp; Aaron Washing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7FE1C-27BA-4E44-8B11-565866312AEE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Interpreting a G-84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B6F76-8F87-41C3-9871-F27EA60642E0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3" name="Content Placeholder 4"/>
          <p:cNvGraphicFramePr/>
          <p:nvPr/>
        </p:nvGraphicFramePr>
        <p:xfrm>
          <a:off x="5029200" y="1295280"/>
          <a:ext cx="34974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295280"/>
                    <a:ext cx="3497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5" name="Picture 9" descr=""/>
          <p:cNvPicPr/>
          <p:nvPr/>
        </p:nvPicPr>
        <p:blipFill>
          <a:blip r:embed="rId3"/>
          <a:srcRect l="31429" t="15543" r="29879" b="5565"/>
          <a:stretch/>
        </p:blipFill>
        <p:spPr>
          <a:xfrm>
            <a:off x="990720" y="1328760"/>
            <a:ext cx="32004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8080" y="1125360"/>
            <a:ext cx="746784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535353"/>
                </a:solidFill>
                <a:latin typeface="Arial"/>
                <a:ea typeface="Arial"/>
              </a:rPr>
              <a:t>Some Things to Rememb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4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E77FD-35FC-4DCE-A9DC-7F3C488FA63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C:\Program Files (x86)\Microsoft Office\MEDIA\CAGCAT10\j0293236.wmf"/>
          <p:cNvPicPr/>
          <p:nvPr/>
        </p:nvPicPr>
        <p:blipFill>
          <a:blip r:embed="rId1"/>
          <a:stretch/>
        </p:blipFill>
        <p:spPr>
          <a:xfrm>
            <a:off x="3789360" y="2851200"/>
            <a:ext cx="156528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Ineligible Statu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2824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7520" indent="-22752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Persons with nonimmigrant vi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Family unity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Temporary resid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Illegal aliens under the legalization program (amnes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Temporary protected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DA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Withholding of removal 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U-vi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917B6-80A1-4667-AD52-E5829DE7273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Unnecessarily going through G-84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See March 9, 2015 Electronic Announc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Procedures to follow when adding or changing A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Schools must follow procedures when adding or correcting an A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Schools must also use </a:t>
            </a:r>
            <a:r>
              <a:rPr b="0" i="1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SAR Comment Code and Text Guide </a:t>
            </a: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to interpret comment c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83993-6480-4F92-BE7E-0C0A08FC8D2B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1920" y="414000"/>
            <a:ext cx="8861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  <a:ea typeface="Arial"/>
              </a:rPr>
              <a:t>Documenting Immigration Status in Later Award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When documentation is required for each award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Students in certain eligible categories may have been redesign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When documentation is not required for each award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If the document associated with the G-845 has not exp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20C230-E3AC-459C-8739-3A1DF7FBE10B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Keeping Copies of Docum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Required rec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nstitutions must keep copies of all documentation related to the student’s citizenship or immigration status in the student’s financial aid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5A4CD-C7F6-47F6-8E1B-1006A42AF02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6" descr="https://mnscoutmaster.files.wordpress.com/2011/03/paperwork.gif"/>
          <p:cNvPicPr/>
          <p:nvPr/>
        </p:nvPicPr>
        <p:blipFill>
          <a:blip r:embed="rId1"/>
          <a:stretch/>
        </p:blipFill>
        <p:spPr>
          <a:xfrm>
            <a:off x="1287360" y="3429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paperwork.gif"/>
          <p:cNvPicPr/>
          <p:nvPr/>
        </p:nvPicPr>
        <p:blipFill>
          <a:blip r:embed="rId2"/>
          <a:stretch/>
        </p:blipFill>
        <p:spPr>
          <a:xfrm>
            <a:off x="6248520" y="3438360"/>
            <a:ext cx="116208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§484(a)(5): Citizenship Requir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95360" y="1514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U.S. citi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U.S. n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535353"/>
                </a:solidFill>
                <a:uFillTx/>
                <a:latin typeface="Arial"/>
                <a:ea typeface="Arial"/>
              </a:rPr>
              <a:t>Permanent resi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535353"/>
                </a:solidFill>
                <a:uFillTx/>
                <a:latin typeface="Arial"/>
                <a:ea typeface="Arial"/>
              </a:rPr>
              <a:t>Provide evidence from DHS-USCIS that they are in the United States for other than a temporary purpose with the intention of becoming a citizen or permanent resi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1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DDFE2-C070-4EE3-B8AE-2BD85876B15C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838080" y="1125360"/>
            <a:ext cx="746784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35353"/>
                </a:solidFill>
                <a:latin typeface="Arial"/>
                <a:ea typeface="Arial"/>
              </a:rPr>
              <a:t>Special Ca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5BA20-589B-41DE-B95B-F41D15BB6EF2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3" descr="C:\Program Files (x86)\Microsoft Office\MEDIA\CAGCAT10\j0195812.wmf"/>
          <p:cNvPicPr/>
          <p:nvPr/>
        </p:nvPicPr>
        <p:blipFill>
          <a:blip r:embed="rId1"/>
          <a:stretch/>
        </p:blipFill>
        <p:spPr>
          <a:xfrm>
            <a:off x="3686040" y="2516040"/>
            <a:ext cx="177192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Freely Associated St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Federated States of Micronesia, Republic of Marshall Islands, and Pal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Eligible for limited FSA f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Pseudo-SS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For the purposes of calculating Pell Grant lifetime eligibil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Documentation of citizenship is not required if information is consis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8CA3A-61C1-48AD-84A4-19EB83152A40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DACA Stud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28240" y="152388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re undocumented students eligible for Title IV ai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No, undocumented students are ineligible for Title IV ai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an an undocumented student complete the FAFS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Yes, if the student has a valid Social Security number. </a:t>
            </a:r>
            <a:r>
              <a:rPr b="1" lang="en-US" sz="1800" spc="-1" strike="noStrike" u="sng">
                <a:solidFill>
                  <a:srgbClr val="535353"/>
                </a:solidFill>
                <a:uFillTx/>
                <a:latin typeface="Arial"/>
                <a:ea typeface="Arial"/>
              </a:rPr>
              <a:t>More importantly, students should also talk with a school financial aid official</a:t>
            </a: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F248C-A9EE-4475-BEC8-50D5BFCFAE01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384840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U-Vis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6320" y="152388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U-visas are victims of crime (different from T-visa and VAW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These students are not eligible for Title IV 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Three year continuous presence after the date of admission: may be eligible to convert to lawful permanent resident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Lawful permanent resident: eligible noncitizen categ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Once converted to LPR may be eligible for Title IV a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Documentation usually consists of I-7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AB103-C0D6-4F83-9349-BDAC6FF5187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Battered Immigrant-Qualified Alie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lso known as Violence Against Women Act (VAW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Guidance in GEN-10-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-797 form indicating that the case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ppro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Establishment of a “Prima Facie” c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Suspension of depor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ancellation of remo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f school is still unclear, can opt to go through G-845 with special notation in notes box: “VAWA Verificatio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5E8A3-E623-4D97-9BC4-600EA773CE3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Cuban-Haitian Entra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ll Cuban-Haitian Entrants eligible for Title IV 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an be Cuban or Haitian n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uban-Haitian Entrant is a public benefits designation, not an immigration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everal subcategories of Cuban-Haitian Entr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43547-FC0F-4614-9656-98F6C3BCC90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2" descr="Flag of Cuba.svg"/>
          <p:cNvPicPr/>
          <p:nvPr/>
        </p:nvPicPr>
        <p:blipFill>
          <a:blip r:embed="rId1"/>
          <a:stretch/>
        </p:blipFill>
        <p:spPr>
          <a:xfrm>
            <a:off x="533520" y="3886200"/>
            <a:ext cx="3657600" cy="18288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Flag of Haiti.svg"/>
          <p:cNvPicPr/>
          <p:nvPr/>
        </p:nvPicPr>
        <p:blipFill>
          <a:blip r:embed="rId2"/>
          <a:stretch/>
        </p:blipFill>
        <p:spPr>
          <a:xfrm>
            <a:off x="4724280" y="388620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Unable to Appear at Instit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Dear Colleague Letter, GEN-15-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Verification of U.S. citizenship or immigration status when student is unable to appear at instit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onfirmation of eligible noncitizen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onfirmation of U.S. citizen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ccepting photocopies or other 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dditional s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7D55A-2997-4607-880E-3655515557D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Unable to Appear at Institution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665CA-B641-4723-BFA7-B511CAA4269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rcRect l="9717" t="15237" r="10612" b="6090"/>
          <a:stretch/>
        </p:blipFill>
        <p:spPr>
          <a:xfrm>
            <a:off x="981000" y="1523880"/>
            <a:ext cx="7334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ederal Student Aid Handbook</a:t>
            </a: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, Volume 1, Chapter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AR Comment Codes and Text &amp; ISIR Gu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GEN-06-09 (T-visa); GEN-10-07 (VAW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34 CFR 668.32(d); 668.33; subpart I of Part 6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uscis.g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ice.g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ED Office of Inspector 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1-800-MIS-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C3878-7132-4055-9243-062D4B5EEAB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oints of Conta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General Student Eligibility Issu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Rene Tiongquico, F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Rene.Tiongquico@ed.gov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; 202-377-427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aron Washington, 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Aaron.Washington@ed.gov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; 202-502-747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G-845 Processing Issu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DHS Case Resolution 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1-877-469-25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29578-32E8-4DCC-9A8D-2ED49B20575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066680" y="286704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35353"/>
                </a:solidFill>
                <a:latin typeface="Arial"/>
                <a:ea typeface="Arial"/>
              </a:rPr>
              <a:t>General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6C528-6C06-4C14-8618-8AEC30CD8293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4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FDA87-D4D1-4C90-AFD4-94A680A1B93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2" descr="C:\Users\Joe.Aiello\Desktop\Question-and-Answer.png"/>
          <p:cNvPicPr/>
          <p:nvPr/>
        </p:nvPicPr>
        <p:blipFill>
          <a:blip r:embed="rId1"/>
          <a:stretch/>
        </p:blipFill>
        <p:spPr>
          <a:xfrm>
            <a:off x="3143160" y="1952640"/>
            <a:ext cx="28576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Match Agreements: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523880"/>
            <a:ext cx="9013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SA Mat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ll applications are matched with SSA to determine U.S. citizen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DHS Match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Primary verification (DHS); Secondary confirmation (DHS Sec. Conf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 student who provides an A-Number also matched with DHS to check their current immigration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Results shown on ISIR and a failed match with DHS will produce a C-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1CE4B-0863-46D7-8B12-76BAFE964A2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Relevant Match Flags on ISI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1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0C118-3347-49B9-8068-DE703DB6EE5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rcRect l="1127" t="7671" r="1478" b="7026"/>
          <a:stretch/>
        </p:blipFill>
        <p:spPr>
          <a:xfrm>
            <a:off x="1046160" y="1498680"/>
            <a:ext cx="7051680" cy="386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5" name="Donut 7"/>
          <p:cNvSpPr/>
          <p:nvPr/>
        </p:nvSpPr>
        <p:spPr>
          <a:xfrm>
            <a:off x="1371600" y="3505320"/>
            <a:ext cx="1049400" cy="609480"/>
          </a:xfrm>
          <a:custGeom>
            <a:avLst/>
            <a:gdLst/>
            <a:ahLst/>
            <a:rect l="l" t="t" r="r" b="b"/>
            <a:pathLst>
              <a:path w="1049338" h="609600">
                <a:moveTo>
                  <a:pt x="0" y="304800"/>
                </a:moveTo>
                <a:cubicBezTo>
                  <a:pt x="0" y="136464"/>
                  <a:pt x="234902" y="0"/>
                  <a:pt x="524669" y="0"/>
                </a:cubicBezTo>
                <a:cubicBezTo>
                  <a:pt x="814436" y="0"/>
                  <a:pt x="1049338" y="136464"/>
                  <a:pt x="1049338" y="304800"/>
                </a:cubicBezTo>
                <a:cubicBezTo>
                  <a:pt x="1049338" y="473136"/>
                  <a:pt x="814436" y="609600"/>
                  <a:pt x="524669" y="609600"/>
                </a:cubicBezTo>
                <a:cubicBezTo>
                  <a:pt x="234902" y="609600"/>
                  <a:pt x="0" y="473136"/>
                  <a:pt x="0" y="304800"/>
                </a:cubicBezTo>
                <a:close/>
                <a:moveTo>
                  <a:pt x="30510" y="304800"/>
                </a:moveTo>
                <a:cubicBezTo>
                  <a:pt x="30510" y="456286"/>
                  <a:pt x="251753" y="579090"/>
                  <a:pt x="524669" y="579090"/>
                </a:cubicBezTo>
                <a:cubicBezTo>
                  <a:pt x="797585" y="579090"/>
                  <a:pt x="1018828" y="456286"/>
                  <a:pt x="1018828" y="304800"/>
                </a:cubicBezTo>
                <a:cubicBezTo>
                  <a:pt x="1018828" y="153314"/>
                  <a:pt x="797585" y="30510"/>
                  <a:pt x="524669" y="30510"/>
                </a:cubicBezTo>
                <a:cubicBezTo>
                  <a:pt x="251753" y="30510"/>
                  <a:pt x="30510" y="153314"/>
                  <a:pt x="30510" y="304800"/>
                </a:cubicBez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General Eligibility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28240" y="152388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Gaining elig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hecking citizenship status once a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PLUS loans for parents of a dependent undergraduate 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38AA6-8872-41C1-A752-D85F5DE9FD6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"/>
          <p:cNvPicPr/>
          <p:nvPr/>
        </p:nvPicPr>
        <p:blipFill>
          <a:blip r:embed="rId1"/>
          <a:srcRect l="-142" t="1591" r="0" b="7329"/>
          <a:stretch/>
        </p:blipFill>
        <p:spPr>
          <a:xfrm>
            <a:off x="1612800" y="1676520"/>
            <a:ext cx="5918400" cy="3603600"/>
          </a:xfrm>
          <a:prstGeom prst="rect">
            <a:avLst/>
          </a:prstGeom>
          <a:ln w="0">
            <a:noFill/>
          </a:ln>
        </p:spPr>
      </p:pic>
      <p:sp>
        <p:nvSpPr>
          <p:cNvPr id="270" name="Slide Number Placeholder 4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3126C-C29C-42F9-A06E-F57C7E3081B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6176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Filling out the FAFS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1T19:08:42Z</dcterms:created>
  <dc:creator>user ce</dc:creator>
  <dc:description/>
  <dc:language>en-US</dc:language>
  <cp:lastModifiedBy>Authorised User</cp:lastModifiedBy>
  <cp:lastPrinted>2015-10-09T18:11:03Z</cp:lastPrinted>
  <dcterms:modified xsi:type="dcterms:W3CDTF">2015-11-04T18:40:37Z</dcterms:modified>
  <cp:revision>2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337D63EE5034904FBE124CE4C93FC8B0</vt:lpwstr>
  </property>
  <property fmtid="{D5CDD505-2E9C-101B-9397-08002B2CF9AE}" pid="3" name="_dlc_DocId">
    <vt:lpwstr>ZQHRFS737ZVJ-391-3</vt:lpwstr>
  </property>
  <property fmtid="{D5CDD505-2E9C-101B-9397-08002B2CF9AE}" pid="4" name="_dlc_DocIdItemGuid">
    <vt:lpwstr>8f810f7d-8a11-484d-ad7f-0aeb8d6ca03d</vt:lpwstr>
  </property>
  <property fmtid="{D5CDD505-2E9C-101B-9397-08002B2CF9AE}" pid="5" name="_dlc_DocIdUrl">
    <vt:lpwstr>https://fsa.share.ed.gov/as/comm/_layouts/DocIdRedir.aspx?ID=ZQHRFS737ZVJ-391-3, ZQHRFS737ZVJ-391-3</vt:lpwstr>
  </property>
</Properties>
</file>