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8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9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10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23861-57A1-4EE6-8886-7EE78C7E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5292B-8488-47C6-8FB0-F680855AA9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B5E6-ECF3-48A6-935A-E0E3D4C6C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895F-C981-46AE-8443-50A5EDE89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7056-C4C3-4ECF-BC25-304BB9C09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5DCB-C522-4B81-8F25-8BB73E504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293B-FC5B-4CC5-BE38-47008CE6E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BCB7-934D-45E4-8BBD-7F264A7D34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29FA-1391-4047-9B2C-100D668978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8EF7-C13E-4D37-B128-8F95FB97D9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C272-3B50-4EE4-A7E7-00083BAEF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4665-39BE-4765-ABEF-1FB0FDB413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8EF0-82AB-4618-8FA3-45A26E7DA1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734D-8F52-419A-BA38-0634C6CB47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3D2C-3138-4313-8D3E-762C0F7030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861D-255A-44AE-8D9C-AD669B65D6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990B-6931-4117-B0F0-F557A2E0C3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A364-43CC-4127-AB0F-6324390D8A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8DEF-20FA-4090-80AF-54184B3E15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27BF-CF71-49CC-9777-4AE0530E60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0BE1-FD8E-4F95-8989-1A2427871A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81D-9457-4D0E-B0A6-217204F56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3589-9E87-49A2-8D7F-EB2E850664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DBF-3337-44C6-BD86-A49828F3A64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5F4-E2F6-4517-A304-D4EC56CCD4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057-6F9A-4555-A6BD-EC8B2658849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F6F-6FEA-4742-A664-2516C15E9F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43D-6DD9-4051-8980-3FC2E8A4F07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060-0F94-445D-9019-8B1C367DAA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B17-D0A7-4205-9282-F1CFBA8163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7E9-3607-4A84-B3A0-4718B6B8A3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852-59F1-4400-99B4-5C1A2C50F92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B89-3884-4D7E-BC35-7C51BDF73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4A8F-98F8-4838-87D1-20B4078393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7DB-8C9C-4B36-A099-1A3FBB5603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F444C-406E-4677-A43A-3B6F6A4E59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8D1D5-A18F-4250-AFA3-A13EB43BEF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E3B3F-0AC5-4450-9F33-61376E600E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46DBB-1362-4F46-BD45-4B66FB0F8C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5509B-854E-4ECB-ACFD-84CD8C922C8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0899D-F730-461D-8EE1-884157E9B5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B0F38-1BFC-44E6-895B-CA7EA7802E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B97C6-483F-4C60-AF9C-8FE8A86F0F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67C8C-109C-4CA2-889B-93954D002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BEFE-B92F-4D59-A977-BB26A3A7C5C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669FF-5F27-4ED9-B957-5B939BB89B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8FE08-A10B-4D0F-A507-19F3BCF4A7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677F-4CF8-4139-9538-5FF67D112F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7A085-F00E-48C0-974B-F0AAD162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2A7D22-3C88-4FF8-8897-48EEDD5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4CC08-AC66-42E5-8D63-A26F9C1C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CBD28-6CB8-4394-B9FF-19FBE69A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D19D71-0862-427B-9571-A15F6A12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4B35D-977A-4B6A-B1FC-B49082CB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0DBD5-FC5C-4F6B-91CC-F6B3FCE6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78F0-7E62-4EB8-A145-D3F1CB9F50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2610F-F5F9-45AA-9277-A7B8B21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5613CD-6BA4-413C-961C-E0BA3458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278F2-CC42-473C-9E96-20CDCEC9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391BE-5972-4684-90E0-88D0BC16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00494-40AE-4A77-96D8-A5153C69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2DC7-B3F1-4AEF-8116-D96FC6F93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0" y="0"/>
            <a:ext cx="9147240" cy="54864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228600" y="5715000"/>
            <a:ext cx="613728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-14400" y="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653580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6320" y="341280"/>
            <a:ext cx="613728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6329520"/>
            <a:ext cx="4495680" cy="53784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-14400" y="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4"/>
          <p:cNvSpPr/>
          <p:nvPr/>
        </p:nvSpPr>
        <p:spPr>
          <a:xfrm>
            <a:off x="241200" y="106200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4645080" y="6211800"/>
            <a:ext cx="4422600" cy="646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ldNum" idx="2"/>
          </p:nvPr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85576-F5FF-46AB-BEEF-D0AB97A1746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6329520"/>
            <a:ext cx="4495680" cy="53784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-14400" y="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traight Connector 4"/>
          <p:cNvSpPr/>
          <p:nvPr/>
        </p:nvSpPr>
        <p:spPr>
          <a:xfrm>
            <a:off x="241200" y="106200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645080" y="6211800"/>
            <a:ext cx="4422600" cy="646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sldNum" idx="3"/>
          </p:nvPr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CCEBF-EC84-4ACE-9E9E-74F0B4111E3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6329520"/>
            <a:ext cx="4495680" cy="53784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-14400" y="0"/>
            <a:ext cx="9167760" cy="322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4645080" y="6221520"/>
            <a:ext cx="4422600" cy="645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ldNum" idx="4"/>
          </p:nvPr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26C4B-225A-4573-8D79-37C255BEAFF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3809520"/>
            <a:ext cx="84582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arney McCullough and Greg Martin | Dec.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014 FSA Training Conference for Financial Aid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2004840"/>
            <a:ext cx="86104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  <a:ea typeface="Arial"/>
              </a:rPr>
              <a:t>Calculating Pell Grants:</a:t>
            </a:r>
            <a:br>
              <a:rPr sz="4800"/>
            </a:br>
            <a:r>
              <a:rPr b="0" lang="en-US" sz="4800" spc="-1" strike="noStrike">
                <a:solidFill>
                  <a:srgbClr val="f2f2f2"/>
                </a:solidFill>
                <a:latin typeface="Arial"/>
                <a:ea typeface="Arial"/>
              </a:rPr>
              <a:t>Credit-Hour Program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itle 3"/>
          <p:cNvSpPr/>
          <p:nvPr/>
        </p:nvSpPr>
        <p:spPr>
          <a:xfrm>
            <a:off x="152280" y="304920"/>
            <a:ext cx="35816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</a:rPr>
              <a:t>Session #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nrollment status is for the entire te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ven where the term is comprised of mo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ample 15-week semester divided into three </a:t>
            </a:r>
            <a:br>
              <a:rPr sz="2000"/>
            </a:b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5-week modules (sess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nrollment status for the term is full-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* Enrollment status for the term is full-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533520" y="4114800"/>
            <a:ext cx="2514600" cy="7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ssion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3016080" y="4114800"/>
            <a:ext cx="2514600" cy="7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ssion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5530680" y="4114800"/>
            <a:ext cx="2514600" cy="73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ssion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traight Connector 10"/>
          <p:cNvSpPr/>
          <p:nvPr/>
        </p:nvSpPr>
        <p:spPr>
          <a:xfrm>
            <a:off x="301680" y="387684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14"/>
          <p:cNvSpPr/>
          <p:nvPr/>
        </p:nvSpPr>
        <p:spPr>
          <a:xfrm>
            <a:off x="301680" y="3876840"/>
            <a:ext cx="0" cy="54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traight Connector 16"/>
          <p:cNvSpPr/>
          <p:nvPr/>
        </p:nvSpPr>
        <p:spPr>
          <a:xfrm>
            <a:off x="8531280" y="3873600"/>
            <a:ext cx="0" cy="60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8"/>
          <p:cNvSpPr/>
          <p:nvPr/>
        </p:nvSpPr>
        <p:spPr>
          <a:xfrm>
            <a:off x="3749760" y="34876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5 wee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9"/>
          <p:cNvSpPr/>
          <p:nvPr/>
        </p:nvSpPr>
        <p:spPr>
          <a:xfrm>
            <a:off x="1324080" y="49212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 wee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3748320" y="49230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 wee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21"/>
          <p:cNvSpPr/>
          <p:nvPr/>
        </p:nvSpPr>
        <p:spPr>
          <a:xfrm>
            <a:off x="6328080" y="49230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 wee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A296A-F2C8-4EB1-8244-EB2F5545438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gram may be term-based if all coursework is scheduled to be completed within a specific time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erm-based programs may have either standard terms or nonstandard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a program contains any nonstandard terms, it cannot be considered a standard term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ame Pell Grant formula must be used for all years in a student’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FF9AF-96B8-460E-81BB-C383D18587B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Types of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51920" y="1523880"/>
            <a:ext cx="8861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andard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emester/trime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14-17 weeks of instructional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ull-time defined as at least 12 semester or trimester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Quar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10-12 weeks of instructional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ull-time defined as at least 12 quarter h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C78E7-3A1E-43F7-9977-269A99A80E8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Types of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onstandard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ny term that is not a standard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ight be referred to by standard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xample: A program is comprised of terms called quarters, but progress is measured in semester ho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onterm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ny program containing coursework not offered for completion within set beginning and end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ay be measured in either clock hours or credit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EABF0-7B33-40D2-8309-4069D5486BA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2007720" y="2743200"/>
            <a:ext cx="46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ll Grant Formul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2" descr="C:\Users\Gregory.Martin\AppData\Local\Microsoft\Windows\Temporary Internet Files\Content.IE5\WCK575EW\MC900059615[1].wmf"/>
          <p:cNvPicPr/>
          <p:nvPr/>
        </p:nvPicPr>
        <p:blipFill>
          <a:blip r:embed="rId1"/>
          <a:stretch/>
        </p:blipFill>
        <p:spPr>
          <a:xfrm>
            <a:off x="5451480" y="3886200"/>
            <a:ext cx="1760400" cy="197640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4FCF9-965A-4711-AA04-2BEC34A510C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ll Grant Formulas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re are 6 Pell Grant formu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ormula 1, Formula 2, Formula 3, Formula 4, Formula 5A and Formula 5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Most term-based programs use Formula 1 or Formula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re is a Pell Grant formula that will work for ever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71E8F-063B-40CD-9400-4D52074DED2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mula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cademic calendar must consist of 2 semesters or trimesters or 3 qua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gram must have at least 30 weeks of instructional time fall through spring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gram may not have overlapping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ull-time enrollment status must be defined as at least </a:t>
            </a:r>
            <a:br>
              <a:rPr sz="2400"/>
            </a:b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12 credit hours in all terms, including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7A323-A660-4DE2-B051-E0EC250588C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mula 1 (Programs With Cohort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grams that use standard terms but have multiple starts may use Formula 1; the progra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ust start terms for different cohorts on a periodic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ay not allow students to be enrolled in overlapping terms— student must remain in the cohor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Switching the student to a different cohort requires the student be withdrawn or made to skip a term and reenrolled in a subsequent te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6250C-EDCC-462A-A53B-38FF2F0AFEB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mula 1: Payment Peri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erm is the payment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udent’s annual award is divided by the number of terms in the program’s definition of an academic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lternate calculation permits dividing annual award by the number of all the terms (including summer) in the award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39478-6A6F-410A-AF3E-DD34AB961FD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mula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andard-term programs with fewer than 30 weeks of instructional time in fall through sp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sed by a small number of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ull-time enrollment status must be defined as at least </a:t>
            </a:r>
            <a:br>
              <a:rPr sz="2400"/>
            </a:b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12 credit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erms may not overl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cademic calendar includes 2 semesters/trimesters or </a:t>
            </a:r>
            <a:br>
              <a:rPr sz="2400"/>
            </a:b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3 qua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Operationally similar to Formula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D8959-6075-4522-9DB1-04A9132312F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cheduled vs. Annual A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cheduled A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aximum amount student can receive during an award year if she attends full-time for a full academic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stablished by the Pell Grant payment 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lways taken from the full-time payment schedu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Based on EFC and CO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A63D9-337A-4BA5-A72B-A826E1B0D66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mula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1839240" y="34448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traight Connector 6"/>
          <p:cNvSpPr/>
          <p:nvPr/>
        </p:nvSpPr>
        <p:spPr>
          <a:xfrm>
            <a:off x="2249640" y="3614760"/>
            <a:ext cx="32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995760" y="327024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2373480" y="2954160"/>
            <a:ext cx="29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s of instructional time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through Spring te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2378880" y="3630600"/>
            <a:ext cx="34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s of instructional time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’s academic year de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5"/>
          <p:cNvSpPr/>
          <p:nvPr/>
        </p:nvSpPr>
        <p:spPr>
          <a:xfrm>
            <a:off x="5852520" y="3182760"/>
            <a:ext cx="4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6"/>
          <p:cNvSpPr/>
          <p:nvPr/>
        </p:nvSpPr>
        <p:spPr>
          <a:xfrm>
            <a:off x="6633720" y="2968560"/>
            <a:ext cx="16102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(if semester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trimes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(if quart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A023D-5F02-474D-96E9-A9440A56402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mula 2 Cau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ormula 2 does not waive the 30-week academic year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28-week fall through spring calendar presents Direct Loa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requency of annual loan limit is based on completion of an academic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cheduled Academic Year (SAY) must be at least 30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Borrower-Based Academic Year (BBAY) must be 30 week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xception if one of the terms included in the BBAY is summ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82220-0C6C-4D26-8944-2543426294E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mula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May be used for any term-based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Must be used for nonstandard term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nnual award is multiplied by weeks of instructional time in the term divided by the weeks of instructional time in the program’s academic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Weeks in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Weeks in Academic Year (At Least 3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traight Connector 4"/>
          <p:cNvSpPr/>
          <p:nvPr/>
        </p:nvSpPr>
        <p:spPr>
          <a:xfrm>
            <a:off x="2666880" y="4419720"/>
            <a:ext cx="384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381C4-18A6-4248-96AB-55A93BFE407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mula 3: Enrollm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or nonstandard terms, full-time enrollment status is based on the length of the term in relation to the academic year*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redit Hours in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Weeks in nonstandard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cademic Year 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Weeks in Academic Year (At Least 3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*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the resulting number is not a whole number, it is rounded up to the next whole number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2483640" y="3276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traight Connector 5"/>
          <p:cNvSpPr/>
          <p:nvPr/>
        </p:nvSpPr>
        <p:spPr>
          <a:xfrm>
            <a:off x="2786040" y="346068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2F1E4-1118-47CA-ABE5-D2FF08CB3D6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3" descr="C:\Users\Gregory.Martin\AppData\Local\Microsoft\Windows\Temporary Internet Files\Content.IE5\20RSOH2G\MP900091159[1].jpg"/>
          <p:cNvPicPr/>
          <p:nvPr/>
        </p:nvPicPr>
        <p:blipFill>
          <a:blip r:embed="rId1"/>
          <a:stretch/>
        </p:blipFill>
        <p:spPr>
          <a:xfrm>
            <a:off x="6324480" y="609480"/>
            <a:ext cx="2057400" cy="257184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950040" y="342900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Terms and O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over Payment Peri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20397-3D92-4E6C-8E47-5FE292EBF15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rossover Payments (Award Yea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or Pell purposes, a crossover payment period must be assigned to one award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traight Connector 5"/>
          <p:cNvSpPr/>
          <p:nvPr/>
        </p:nvSpPr>
        <p:spPr>
          <a:xfrm>
            <a:off x="914400" y="350532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traight Connector 11"/>
          <p:cNvSpPr/>
          <p:nvPr/>
        </p:nvSpPr>
        <p:spPr>
          <a:xfrm>
            <a:off x="4572000" y="2819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2520360" y="373392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4-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5270040" y="373392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5-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4"/>
          <p:cNvSpPr/>
          <p:nvPr/>
        </p:nvSpPr>
        <p:spPr>
          <a:xfrm>
            <a:off x="4223160" y="419112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1050840" y="3044880"/>
            <a:ext cx="1279440" cy="366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2590920" y="3044880"/>
            <a:ext cx="1279440" cy="366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4070520" y="3022560"/>
            <a:ext cx="1098360" cy="366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9"/>
          <p:cNvSpPr/>
          <p:nvPr/>
        </p:nvSpPr>
        <p:spPr>
          <a:xfrm>
            <a:off x="1357560" y="26208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1"/>
          <p:cNvSpPr/>
          <p:nvPr/>
        </p:nvSpPr>
        <p:spPr>
          <a:xfrm>
            <a:off x="2840400" y="261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22"/>
          <p:cNvSpPr/>
          <p:nvPr/>
        </p:nvSpPr>
        <p:spPr>
          <a:xfrm>
            <a:off x="4066200" y="26193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traight Connector 4"/>
          <p:cNvSpPr/>
          <p:nvPr/>
        </p:nvSpPr>
        <p:spPr>
          <a:xfrm>
            <a:off x="4419720" y="3009960"/>
            <a:ext cx="0" cy="36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traight Connector 7"/>
          <p:cNvSpPr/>
          <p:nvPr/>
        </p:nvSpPr>
        <p:spPr>
          <a:xfrm>
            <a:off x="4925880" y="3022560"/>
            <a:ext cx="0" cy="36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9"/>
          <p:cNvSpPr/>
          <p:nvPr/>
        </p:nvSpPr>
        <p:spPr>
          <a:xfrm>
            <a:off x="4218120" y="3389400"/>
            <a:ext cx="0" cy="2020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traight Connector 15"/>
          <p:cNvSpPr/>
          <p:nvPr/>
        </p:nvSpPr>
        <p:spPr>
          <a:xfrm>
            <a:off x="4716360" y="3405240"/>
            <a:ext cx="0" cy="2263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raight Connector 23"/>
          <p:cNvSpPr/>
          <p:nvPr/>
        </p:nvSpPr>
        <p:spPr>
          <a:xfrm>
            <a:off x="5143680" y="3389400"/>
            <a:ext cx="0" cy="2630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4"/>
          <p:cNvSpPr/>
          <p:nvPr/>
        </p:nvSpPr>
        <p:spPr>
          <a:xfrm>
            <a:off x="3646800" y="548640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mer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25"/>
          <p:cNvSpPr/>
          <p:nvPr/>
        </p:nvSpPr>
        <p:spPr>
          <a:xfrm>
            <a:off x="4111920" y="56689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mer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28"/>
          <p:cNvSpPr/>
          <p:nvPr/>
        </p:nvSpPr>
        <p:spPr>
          <a:xfrm>
            <a:off x="4715280" y="60199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mmer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9"/>
          <p:cNvSpPr/>
          <p:nvPr/>
        </p:nvSpPr>
        <p:spPr>
          <a:xfrm>
            <a:off x="5500800" y="3040200"/>
            <a:ext cx="1280880" cy="365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30"/>
          <p:cNvSpPr/>
          <p:nvPr/>
        </p:nvSpPr>
        <p:spPr>
          <a:xfrm>
            <a:off x="6913440" y="3022560"/>
            <a:ext cx="1279800" cy="366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31"/>
          <p:cNvSpPr/>
          <p:nvPr/>
        </p:nvSpPr>
        <p:spPr>
          <a:xfrm>
            <a:off x="5955840" y="26002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32"/>
          <p:cNvSpPr/>
          <p:nvPr/>
        </p:nvSpPr>
        <p:spPr>
          <a:xfrm>
            <a:off x="7170840" y="2600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33"/>
          <p:cNvSpPr/>
          <p:nvPr/>
        </p:nvSpPr>
        <p:spPr>
          <a:xfrm>
            <a:off x="5364720" y="4319640"/>
            <a:ext cx="376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Individual summer  sessions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have to cross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. Student taking 3 credits in Sum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could receive payment 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2014-15 award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35"/>
          <p:cNvSpPr/>
          <p:nvPr/>
        </p:nvSpPr>
        <p:spPr>
          <a:xfrm>
            <a:off x="924120" y="470376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mmer is the cross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yment per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75955-1B9F-496F-813E-7CC8D3D9670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rossover Payment Perio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Must have a valid SAR/ISIR for whichever year Pell award will be paid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ell may be assigned to a different award year than the rest of the student’s Title IV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ell payments for summer must be calculated under the same formula used to calculate payments for other payment peri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rossover payment period must be assigned to one award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366F7-64E8-40AB-9B8B-DC9E451576E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OA for Summer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A for summer terms is determined in the same way as for other payment peri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ell COA is always full-time, full-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ward for summer is based on the costs for </a:t>
            </a:r>
            <a:br>
              <a:rPr sz="2400"/>
            </a:b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one academic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the academic year is fall/spring, summer costs are</a:t>
            </a:r>
            <a:r>
              <a:rPr b="1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not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dded to fall/spring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4A5B6-4B33-4D2F-ADCC-76EAACCFB0A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ummer Minisess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a term-based program has minisessions that overlap two award years, they may be combined and treated as one t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Minisessions combined into a single ter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nrollment status for the term is based on total number of credits the student is projected to take for all se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student does not begin attendance in all minisesions he/she was expected to attend, recalculation is requi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Treated as a standard term under Formula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85C00-4AC1-4214-83DC-0EAEECFC1B7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ummer Minise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Minisessions not combined into a single ter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ach minisession is treated as a nonstandard term requiring use of Formula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If full-time enrollment for each minisession is defined as at least 12 credit hours, you may be able to use Formula 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mbined minisessions that crossover June 30-July 1 must be treated as a crossover payment period regardless of what classes students att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fer to Slide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6C7A9-33E6-4090-ABBD-45744085686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cheduled vs. Annual A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160" y="15238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nnual a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aximum amount student can receive during a full award year for a given enrollment status, EFC, and CO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or a full-time student, will be the same as the Scheduled Aw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or a part-time student, will be less than the Scheduled Award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nnual award taken from the ¾-time, half-time, and less-than-half-time disbursement schedu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*</a:t>
            </a:r>
            <a:r>
              <a:rPr b="0" i="1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Term-based programs on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09134-B782-458B-B37B-688701014FD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ummer Minise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program has multiple summer sessions that are not combined into a term, only the term that crosses over the award year is considered a crossover payment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49AB6-0525-4EBE-92DF-5183735EBD3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5"/>
          <p:cNvSpPr/>
          <p:nvPr/>
        </p:nvSpPr>
        <p:spPr>
          <a:xfrm>
            <a:off x="499320" y="1676520"/>
            <a:ext cx="799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Students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ll Lifetime Eligibility Used (LEU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3" descr="C:\Users\Gregory.Martin\AppData\Local\Microsoft\Windows\Temporary Internet Files\Content.IE5\WCK575EW\MC900311820[1].wmf"/>
          <p:cNvPicPr/>
          <p:nvPr/>
        </p:nvPicPr>
        <p:blipFill>
          <a:blip r:embed="rId1"/>
          <a:stretch/>
        </p:blipFill>
        <p:spPr>
          <a:xfrm>
            <a:off x="2451240" y="3349800"/>
            <a:ext cx="1668240" cy="1463400"/>
          </a:xfrm>
          <a:prstGeom prst="rect">
            <a:avLst/>
          </a:prstGeom>
          <a:ln w="0">
            <a:noFill/>
          </a:ln>
        </p:spPr>
      </p:pic>
      <p:sp>
        <p:nvSpPr>
          <p:cNvPr id="431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229C6-0DD9-4FE9-AFDD-8595EA91344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Transfer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ransfer student’s remaining Pell eligibility is reduced if the student received Pell funds for the same award year at a prior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alculating remaining elig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alculate the percentage of the Scheduled Award that has been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OD does this: refer to COD to find the student’s percentage of remaining eligibility (calculation provided below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ubtract percentage of Scheduled Award used from 100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1684800" y="43228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ll disbursed at prior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7"/>
          <p:cNvSpPr/>
          <p:nvPr/>
        </p:nvSpPr>
        <p:spPr>
          <a:xfrm>
            <a:off x="1676520" y="4703760"/>
            <a:ext cx="288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10"/>
          <p:cNvSpPr/>
          <p:nvPr/>
        </p:nvSpPr>
        <p:spPr>
          <a:xfrm>
            <a:off x="1616040" y="47037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d Award at prior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4826880" y="4518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271480" y="451800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% of Scheduled Award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F815D-08B1-4493-AC2C-D3E7F24AD4D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Transfer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warding remaining elig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100% - % of Scheduled Award used = maximum percentage of Scheduled Award the student may receive at your sch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isburse the full amount for each payment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Do not apportion remaining amount equally across payment peri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lways use percentages not amounts to determine remaining eligibility for transf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xception: If Scheduled Award at both institutions is the same, remaining eligibility may be determined by subtracting amount received at the first institution from the Scheduled Aw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8B1DC-6591-459F-85FA-032A1AF943E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Pell Grant Lifetime Eligibility Used (LEU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udent’s maximum duration of Pell eligibility is </a:t>
            </a:r>
            <a:br>
              <a:rPr sz="2400"/>
            </a:b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6 Scheduled Awards (60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s measured by percentage of Lifetime Eligibility Used (LEU) field in C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udent is ineligible to receive further Pell Grant awards if he or she has reached or exceeded the 600% li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600% limit is tracked to the beginning of the Pell Grant program (1973-7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ounding rules do not apply if amount disbursed would place student’s LEU over 60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B1952-2E20-41F7-98F0-CDB2029D2FD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Pell Grant LE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D provides weekly Pell LEU reports through the SAIG Mailbox for school’s Pell eligible applicants (and students listing the school’s school code on their FAF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Only students with lifetime LEU greater than or equal to 4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essage Class PGLEXXOP (where XX= the y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 website shows current LEU level for all aid recip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D also provides LEU for Pell MRR*, Pell Reconciliation Report and Pell Year to Date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*Multiple Reporting Reco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7FC93-8687-445C-9E58-E95D179E850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ll Grant LE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 will return warning edit 177 or 178 where Pell LEU is near or exceeds 60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LEU data also in Common Record Response, CPS reports, SARS and ISIRS (LEU limit flags and percentages) and NS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 calculates LEU to 3 decimal pla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Use conventional Pell rounding rules but may not round up if the result causes the student to exceed her Scheduled Award or 600% L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FC666-9E6B-4FD0-A242-4601B92B35A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ll Grant LEU on the IS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e “N” under Lifetime Limit Fl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tudent not on re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tudents in this category have LEU of less than 4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e “H” under Lifetime Limit Fl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LEU greater than 400% but less than or equal to 5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e “C” under Lifetime Limit Fl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LEU greater than 500% but less than or equal to 6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e “E” under Lifetime Limit Fl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LEU 600% or hig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Pell eligibility for award year covered by the IS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Student may have already exceeded the maximum lifetime eligibility used amo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9B789-CD02-4032-B518-D4E988FD153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ll Grant LEU: Reduced Elig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alculating an award for a student whose LEU will reduce his or her eligibility (LEU greater than 500% but less than 60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ubtract LEU percentage from 600%, then multiply the student’s Scheduled Award by the 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. Scheduled Award = $5,645; LEU = 53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600%-534% = 66% Scheduled Award rem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$5,645 X .66 = $3,725.70 </a:t>
            </a:r>
            <a:br>
              <a:rPr sz="2000"/>
            </a:b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   (School may truncate to $3,725 but not round up; or, if using 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ents, pay $3,725.7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09776-BB9D-449B-ADE5-E93C696A258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6"/>
          <p:cNvSpPr/>
          <p:nvPr/>
        </p:nvSpPr>
        <p:spPr>
          <a:xfrm>
            <a:off x="2763000" y="2811600"/>
            <a:ext cx="34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lcu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3" descr="C:\Users\Gregory.Martin\AppData\Local\Microsoft\Windows\Temporary Internet Files\Content.IE5\L4OQGW5C\MC900188711[1].wmf"/>
          <p:cNvPicPr/>
          <p:nvPr/>
        </p:nvPicPr>
        <p:blipFill>
          <a:blip r:embed="rId1"/>
          <a:stretch/>
        </p:blipFill>
        <p:spPr>
          <a:xfrm>
            <a:off x="3657600" y="3809880"/>
            <a:ext cx="1352520" cy="1797120"/>
          </a:xfrm>
          <a:prstGeom prst="rect">
            <a:avLst/>
          </a:prstGeom>
          <a:ln w="0">
            <a:noFill/>
          </a:ln>
        </p:spPr>
      </p:pic>
      <p:sp>
        <p:nvSpPr>
          <p:cNvPr id="460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8230A-F864-428B-9E38-39AEB658128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cheduled vs. Annual A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0" y="1676520"/>
          <a:ext cx="3962520" cy="434340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Pell payment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ected Family Con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 500  1000  1500  2500  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30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105520" y="1676520"/>
          <a:ext cx="4038480" cy="4343400"/>
        </p:xfrm>
        <a:graphic>
          <a:graphicData uri="http://schemas.openxmlformats.org/drawingml/2006/table">
            <a:tbl>
              <a:tblPr/>
              <a:tblGrid>
                <a:gridCol w="871560"/>
                <a:gridCol w="316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a452a"/>
                          </a:solidFill>
                          <a:latin typeface="Calibri"/>
                        </a:rPr>
                        <a:t>Pell payment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ected Family Con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 500 1000   1500  2500  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30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97" name="Straight Connector 10"/>
          <p:cNvSpPr/>
          <p:nvPr/>
        </p:nvSpPr>
        <p:spPr>
          <a:xfrm>
            <a:off x="1523880" y="27432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1375560" y="449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7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traight Connector 19"/>
          <p:cNvSpPr/>
          <p:nvPr/>
        </p:nvSpPr>
        <p:spPr>
          <a:xfrm>
            <a:off x="6629400" y="27338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20"/>
          <p:cNvSpPr/>
          <p:nvPr/>
        </p:nvSpPr>
        <p:spPr>
          <a:xfrm>
            <a:off x="6404760" y="449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8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1"/>
          <p:cNvSpPr/>
          <p:nvPr/>
        </p:nvSpPr>
        <p:spPr>
          <a:xfrm>
            <a:off x="1377720" y="59785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ll-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2"/>
          <p:cNvSpPr/>
          <p:nvPr/>
        </p:nvSpPr>
        <p:spPr>
          <a:xfrm>
            <a:off x="5493600" y="59785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lf-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Initial Calc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n initial calculation is the first calculation of a student’s Federal Pell Gr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 institution must use the current documented enrollment status (may be a projected stat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no date documented, the date of initial calculation is the later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rocessed date of initial SAR or ISIR,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ate the student enro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7903F-13B1-4F12-9C99-39CEEEAD7BD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ate of Initial Calc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arliest possible date is date of receipt of an EFC from an ED product (assuming Pell Payment Schedule has been issued), such 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AR or ISIR with an official EFC (processing d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AA Access EF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AFSA on the Web EF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chool may use a later date such as completion of ver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352A6-46A8-4CCE-BD2D-FE1554DF9A5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1920" y="414000"/>
            <a:ext cx="8861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calculation, Required, or Opt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hange in EFC (recalculation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student’s EFC changes due to corrections, updating or adjustments (and the EFC change would change the Pell Grant award), Pell must be recalculated for the entire award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, as a result of the recalculation, the student received more than his or her award amount, an overpayment ex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udent never begins attendance in one or more classes within a term (recalculation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a student does not begin attendance in all classes, award must be recalculated based on the lower enrollment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stitution must have a procedure to determine if  student has begun all classes for Pell Grant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889EC-00E8-499A-A780-F44B566EFA80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013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calculation, Required, or Opt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hange in enrollment status between terms (recalculation requir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ayment for each term must be calculated based on enrollment status for that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Be certain to monitor changes in enrollment status from one term to the n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Failure to monitor is a frequent program review/audit fi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ample: Student attends full-time in the first term and then half-time in the second term – half-time enrollment is used to calculate payment for the second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D841F-A05D-40E1-895C-D60FE1A037B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1920" y="414000"/>
            <a:ext cx="8861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calculation, Required, or Opt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hange in enrollment status within a term (recalculation 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calculation is not required for student who has begun attendance in all of his or her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stitution may have a policy to recalculate an award for enrollment status changes within a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Must be consistent for both increases and decrea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Must be part of a written polic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stitution’s policy may set a date after which award will not be recalculated due to change in enrollment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Often referred to as a “census dat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Frequently coincides with add/drop d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54129-169E-44D1-8F8F-239F84C7C34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414000"/>
            <a:ext cx="8861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calculation, Required, or Opt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hange in cost of attendance (COA) (recalculation required for an enrollment status change; otherwise 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calculation for changes in costs during the award year is not requi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institution recalculates because enrollment status has changed, changes to student’s costs must be taken into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ould be an issue if student drops below half-time enrollment stat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A changes between payment periods (recalculation option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Institution may establish a policy to recalculate awards when the COA changes from one payment period to the n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ny policy must be applied to all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9DF17-139F-42B8-A586-C153ED4A801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240" y="41400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calculation, Required, or Opt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A changes within a payment period (recalculation 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stitution may establish a policy to recalculate awards for cost changes within a payment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9A32A-76A3-4E9C-B625-CDEECC66425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Enrollment Status Changes Within a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nstitutional policy may set a date after which Pell Grants will not be recalculated due to changes in enrollment status (assumes student began all clas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Would apply even with compressed cours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the initial calculation occurs subsequent to this date, enrollment status as of initial calculation must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payment for the term is being disbursed in a subsequent term, payment must be based on completed cours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Modules/Compressed Cours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nstitution may adopt a recalculation policy based on the add/drop date for the last class in which the student enrolls or is expected to enro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9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All prior adjustments to enrollment status must be taken into acco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9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D0698-0884-4B4F-95AB-E68E8B1D95D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Enrollment Status Changes Within a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institution does not choose to establish a policy for recalculation within a term, student who begins attendance in all classes is paid based upon the initial calc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ven if his or her enrollment status changes before the disbursement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FD68E-5362-4FEB-A6D4-1A2F7792A0B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6"/>
          <p:cNvSpPr/>
          <p:nvPr/>
        </p:nvSpPr>
        <p:spPr>
          <a:xfrm>
            <a:off x="945000" y="990720"/>
            <a:ext cx="6755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Reporting Reco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urrent Enrollmen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Overaward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2" descr="C:\Users\Gregory.Martin\AppData\Local\Microsoft\Windows\Temporary Internet Files\Content.IE5\WCK575EW\MC900390662[1].wmf"/>
          <p:cNvPicPr/>
          <p:nvPr/>
        </p:nvPicPr>
        <p:blipFill>
          <a:blip r:embed="rId1"/>
          <a:stretch/>
        </p:blipFill>
        <p:spPr>
          <a:xfrm>
            <a:off x="5867280" y="4037040"/>
            <a:ext cx="1787760" cy="1201680"/>
          </a:xfrm>
          <a:prstGeom prst="rect">
            <a:avLst/>
          </a:prstGeom>
          <a:ln w="0">
            <a:noFill/>
          </a:ln>
        </p:spPr>
      </p:pic>
      <p:sp>
        <p:nvSpPr>
          <p:cNvPr id="490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FCC9F-C996-470E-B57E-B10F611F297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ll Ground R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ultiply first, then div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o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D accepts cents and whole dollars (for Pe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ound up if decimal is .50 or higher; round down if less than .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or student enrolled in more than one payment period, alternate rounding up and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chool’s policy must be applied equally to all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ounding rule do not apply if the amount disbursed would exceed the Scheduled Award or put the student’s LEU over 60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848FB-1E83-459D-A88E-BB0D42705EF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oncurrent Enroll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udent may not receive a Pell Grant at two or more schools concurr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eparate from the POP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concurrent enrollment appears to exist (reported enrollment dates within 30 calendar days of each other), COD sends the schools that submitted the disbursement warning Edit 06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RR is issued to the reporting school and all other schools with accepted disbursement information in COD for that student and that award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ncurrent enrollment must be res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One school must back out its payment (if actual concurrent enroll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EA672-5DF1-4F21-86A8-AA2C80EF54B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Potential Overaward Process (PO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OP based upon student receiving no more than one Scheduled Award in an award year (10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 monitors based on 100% of a Scheduled A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o student may receive Pell at two schools for concurrent enroll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te that attending multiple institutions under a consortium agreement does not constitute concurrent enrollment –recall that only one institution is responsible for processing ai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95044-B84B-4306-8AE8-98DDDE722FC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otential Overaward Process (PO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 student may receive disbursements from more than one Attended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When more than one Attended School reports disbursements for a student, COD checks that more than 100% eligibility has not been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single school may pay more than 10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the COD system receives disbursement information that the student has received more than 100% of Scheduled Award, student is in a POP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67FD9-CFDC-49AA-A568-47940B8FEAD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otential Overaward Process (PO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D response to a POP situation is to allow it to exist for 30 calendar days from date MRR is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tifies all schools involved that POP situation must be resolved within 30 calendar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ntinues to accept disbursement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tudent will be removed from POP status i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Downward adjustments bring Total Eligibility Used to 100% or l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D0BA3-E0D6-446D-AD5E-3C22984C329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Potential Overpayment Process (PO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nresolved POP – more than 3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D reduces all accepted and posted disbursements to $0.00 at all sch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ach school that correctly paid Pell funds must re-report disbursement information to C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COD does not prevent another POP for the same stud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uring POP, COD School Relations Center is inv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scalates issue if same schools create another P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3C5B2-8A13-434C-B75A-9B0D7B989CE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053F5-B586-4355-88E6-7094EBA9E70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3340440" y="2209680"/>
            <a:ext cx="277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243360" y="3000240"/>
            <a:ext cx="33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ney McCull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ice of Postsecondary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2-502-76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ney.mccullough@ed.g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243360" y="4343400"/>
            <a:ext cx="33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g Mart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ice of Postsecondary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2-219-71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gory.martin@ed.g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2" descr="C:\Users\Joe.Aiello\Desktop\Question-and-Answer.png"/>
          <p:cNvPicPr/>
          <p:nvPr/>
        </p:nvPicPr>
        <p:blipFill>
          <a:blip r:embed="rId1"/>
          <a:stretch/>
        </p:blipFill>
        <p:spPr>
          <a:xfrm>
            <a:off x="3143160" y="1952640"/>
            <a:ext cx="2857680" cy="2952720"/>
          </a:xfrm>
          <a:prstGeom prst="rect">
            <a:avLst/>
          </a:prstGeom>
          <a:ln w="0">
            <a:noFill/>
          </a:ln>
        </p:spPr>
      </p:pic>
      <p:sp>
        <p:nvSpPr>
          <p:cNvPr id="513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58BA4-A5D2-4985-969E-23E33375D52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Pell Grant COA Sidetra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lways the full-time/full-year program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9-month EFC is alway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May differ from Direct Loan/Campus-Based CO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Based on actual costs for the enrollment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FC corresponds to enrollment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udents enrolled less than half-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Only costs for tuition and fees, allowance for books and supplies, transportation, room and board (limited duration*), and dependent care expenses may be included in CO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 miscellaneous expenses may be inclu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2" descr="C:\Users\Gregory.Martin\AppData\Local\Microsoft\Windows\Temporary Internet Files\Content.IE5\L4OQGW5C\MP900289335[1].jpg"/>
          <p:cNvPicPr/>
          <p:nvPr/>
        </p:nvPicPr>
        <p:blipFill>
          <a:blip r:embed="rId1"/>
          <a:stretch/>
        </p:blipFill>
        <p:spPr>
          <a:xfrm>
            <a:off x="6934320" y="2844720"/>
            <a:ext cx="1638360" cy="10857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1390680" y="5675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on following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C2A35-A74B-43C6-9933-DA18985B028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5651280" y="5249880"/>
            <a:ext cx="2719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p to 3 semesters (or equivalen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no more than 2 of which may b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secutiv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ll Grant Summer COA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gram COA is $30,000 for 2014-15 academic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ull-time/full-year stu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udent enrolls for 6 credits in Summer 1 and has actual costs of $5,000 (assume summer is a crossover payment period and will be paid from the 2014-15 award y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ell Grant COA  is $30,000 (full-time/full year costs); same COA as used for the immediately preceding term because student was previously enrolled in the award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tudent is paid from the half-time payment 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summer is paid from 2015-16, full-year costs must be established based on the costs for the summer t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Because the summer session is the first term in the award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rorate summer costs up to full award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9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B4EE6-C004-453F-AF80-6284783BB56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ell Grant Payments by Te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ayment period is the t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ven if term is comprised of mo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o payment for a term student does not enroll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enrollment status changes in the next term, annual award will be different for that t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1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D7746-A94C-4BB6-9A3E-AA0D815134A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0080" y="414000"/>
            <a:ext cx="8553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Enrollm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rograms using standard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ull-time enrollment is a minimum of 12 ho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nrollment status does not have to be propor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x. Program defines full-time as 15 hours but sets a</a:t>
            </a:r>
            <a:br>
              <a:rPr sz="1600"/>
            </a:b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 9-hour minimum for ¾-time and a 6-hour minimum for ½-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cademic standard may differ from financial aid standard used for FSA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23880" indent="-163440">
              <a:lnSpc>
                <a:spcPct val="100000"/>
              </a:lnSpc>
              <a:spcBef>
                <a:spcPts val="4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535353"/>
                </a:solidFill>
                <a:latin typeface="Arial"/>
                <a:ea typeface="Arial"/>
              </a:rPr>
              <a:t>Ex. School defines full-time enrollment for summer as 6 hours whereas financial aid office defines full-time as 12 hours for all ter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2"/>
          <p:cNvSpPr/>
          <p:nvPr/>
        </p:nvSpPr>
        <p:spPr>
          <a:xfrm>
            <a:off x="5335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9638D-C89A-412D-89B3-D956E7981E5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9:08:42Z</dcterms:created>
  <dc:creator>user ce</dc:creator>
  <dc:description/>
  <dc:language>en-US</dc:language>
  <cp:lastModifiedBy>Aiello, Joe</cp:lastModifiedBy>
  <cp:lastPrinted>2012-09-05T16:31:24Z</cp:lastPrinted>
  <dcterms:modified xsi:type="dcterms:W3CDTF">2014-11-13T21:05:46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37D63EE5034904FBE124CE4C93FC8B0</vt:lpwstr>
  </property>
  <property fmtid="{D5CDD505-2E9C-101B-9397-08002B2CF9AE}" pid="3" name="_dlc_DocId">
    <vt:lpwstr>ZQHRFS737ZVJ-391-3</vt:lpwstr>
  </property>
  <property fmtid="{D5CDD505-2E9C-101B-9397-08002B2CF9AE}" pid="4" name="_dlc_DocIdItemGuid">
    <vt:lpwstr>8f810f7d-8a11-484d-ad7f-0aeb8d6ca03d</vt:lpwstr>
  </property>
  <property fmtid="{D5CDD505-2E9C-101B-9397-08002B2CF9AE}" pid="5" name="_dlc_DocIdUrl">
    <vt:lpwstr>https://fsa.share.ed.gov/as/comm/_layouts/DocIdRedir.aspx?ID=ZQHRFS737ZVJ-391-3, ZQHRFS737ZVJ-391-3</vt:lpwstr>
  </property>
</Properties>
</file>